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BD8-7E41-4BFD-8119-2EDCEF23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4C0-F686-4152-BC8C-831D5756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E8E-144E-4858-B968-177F88FB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94F-EEF2-4A42-AE7E-BA19064C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425A-D853-42D3-BA38-F74945B3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AEA-8A83-4C99-9ECB-1980C22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352F-4A8B-4535-B531-D1E5D5F9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B38-542B-4899-81E0-6105AC75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976F-55D6-43C0-B007-07AE530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546-07FA-46A8-86C7-2B1DD03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EFA4-2B5D-44CB-991D-54F64C2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803-086E-4980-AC25-1394C11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DA5-7A9E-4EF6-8AD1-2E25A07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2960-9B8B-405F-9EC4-0FA575C0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11F-D910-4B76-BD02-7E196D5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9E36-F48D-4A83-B227-56EF1885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05CB-6A26-4B2D-8BC9-1FAE2ACC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19E-C6BE-4D18-8688-F283013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AF8-9CE9-49EC-A575-4AE44FDC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F6A-0203-49DB-B69D-E9AACBE4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B29-2E79-40CD-9D23-D8A7F429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2F9-7815-4678-B23D-B3489EA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413-D8F7-4D3C-A6ED-F80FA71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D2F-2F3A-4F20-8FF2-EC5B48E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0C3-0636-4911-8CBE-0F125D191D6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9A33-8E01-42E1-98A6-D2A33D9298B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index.htm;jsessionid=JN7wTf4MPwNYpL90S3gFnpLQFGfkQnFNmGSxdHGNNSXyWwDyrvXb!24920775" TargetMode="External"/><Relationship Id="rId2" Type="http://schemas.openxmlformats.org/officeDocument/2006/relationships/hyperlink" Target="http://www.classzone.com/cz/index.htm;jsessionid=JN7wTf4MPwNYpL90S3gFnpLQFGfkQnFNmGSxdHGNNSXyWwDyrvXb!24920775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arm - u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6 x 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4 x 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44 x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983120" y="2455920"/>
            <a:ext cx="401760" cy="465120"/>
          </a:xfrm>
          <a:custGeom>
            <a:avLst/>
            <a:gdLst/>
            <a:ahLst/>
            <a:rect l="l" t="t" r="r" b="b"/>
            <a:pathLst>
              <a:path w="1117" h="1291">
                <a:moveTo>
                  <a:pt x="14585" y="6846"/>
                </a:moveTo>
                <a:cubicBezTo>
                  <a:pt x="14564" y="6930"/>
                  <a:pt x="14549" y="6949"/>
                  <a:pt x="14585" y="6995"/>
                </a:cubicBezTo>
                <a:cubicBezTo>
                  <a:pt x="14781" y="7028"/>
                  <a:pt x="14847" y="6973"/>
                  <a:pt x="14957" y="6821"/>
                </a:cubicBezTo>
              </a:path>
              <a:path w="1117" h="1291">
                <a:moveTo>
                  <a:pt x="13841" y="7888"/>
                </a:moveTo>
                <a:cubicBezTo>
                  <a:pt x="13926" y="7954"/>
                  <a:pt x="13961" y="8015"/>
                  <a:pt x="14015" y="81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10120" y="2116080"/>
            <a:ext cx="10656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3915" y="6003"/>
                </a:moveTo>
                <a:cubicBezTo>
                  <a:pt x="13992" y="5972"/>
                  <a:pt x="14053" y="5904"/>
                  <a:pt x="14139" y="5879"/>
                </a:cubicBezTo>
                <a:cubicBezTo>
                  <a:pt x="14146" y="6014"/>
                  <a:pt x="14134" y="6054"/>
                  <a:pt x="14064" y="6176"/>
                </a:cubicBezTo>
                <a:cubicBezTo>
                  <a:pt x="14113" y="6164"/>
                  <a:pt x="14195" y="6116"/>
                  <a:pt x="14213" y="6201"/>
                </a:cubicBezTo>
                <a:cubicBezTo>
                  <a:pt x="14241" y="6336"/>
                  <a:pt x="14105" y="6341"/>
                  <a:pt x="14015" y="63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41920" y="2820960"/>
            <a:ext cx="901800" cy="652320"/>
          </a:xfrm>
          <a:custGeom>
            <a:avLst/>
            <a:gdLst/>
            <a:ahLst/>
            <a:rect l="l" t="t" r="r" b="b"/>
            <a:pathLst>
              <a:path w="2507" h="1812">
                <a:moveTo>
                  <a:pt x="14089" y="7838"/>
                </a:moveTo>
                <a:cubicBezTo>
                  <a:pt x="14029" y="7973"/>
                  <a:pt x="13968" y="8096"/>
                  <a:pt x="13940" y="8235"/>
                </a:cubicBezTo>
              </a:path>
              <a:path w="2507" h="1812">
                <a:moveTo>
                  <a:pt x="14263" y="8558"/>
                </a:moveTo>
                <a:cubicBezTo>
                  <a:pt x="14586" y="8530"/>
                  <a:pt x="14883" y="8508"/>
                  <a:pt x="15205" y="8508"/>
                </a:cubicBezTo>
              </a:path>
              <a:path w="2507" h="1812">
                <a:moveTo>
                  <a:pt x="14734" y="8880"/>
                </a:moveTo>
                <a:cubicBezTo>
                  <a:pt x="14826" y="8880"/>
                  <a:pt x="14865" y="8789"/>
                  <a:pt x="14957" y="8756"/>
                </a:cubicBezTo>
                <a:cubicBezTo>
                  <a:pt x="14999" y="8756"/>
                  <a:pt x="15007" y="8756"/>
                  <a:pt x="15032" y="8756"/>
                </a:cubicBezTo>
                <a:cubicBezTo>
                  <a:pt x="15109" y="8929"/>
                  <a:pt x="15001" y="9046"/>
                  <a:pt x="14858" y="9178"/>
                </a:cubicBezTo>
                <a:cubicBezTo>
                  <a:pt x="14789" y="9241"/>
                  <a:pt x="14752" y="9231"/>
                  <a:pt x="14734" y="9302"/>
                </a:cubicBezTo>
                <a:cubicBezTo>
                  <a:pt x="14828" y="9278"/>
                  <a:pt x="14923" y="9236"/>
                  <a:pt x="15032" y="9227"/>
                </a:cubicBezTo>
                <a:cubicBezTo>
                  <a:pt x="15095" y="9222"/>
                  <a:pt x="15165" y="9227"/>
                  <a:pt x="15230" y="9227"/>
                </a:cubicBezTo>
              </a:path>
              <a:path w="2507" h="1812">
                <a:moveTo>
                  <a:pt x="13891" y="8830"/>
                </a:moveTo>
                <a:cubicBezTo>
                  <a:pt x="13805" y="8887"/>
                  <a:pt x="13708" y="8871"/>
                  <a:pt x="13618" y="8905"/>
                </a:cubicBezTo>
                <a:cubicBezTo>
                  <a:pt x="13565" y="8925"/>
                  <a:pt x="13593" y="9060"/>
                  <a:pt x="13593" y="9103"/>
                </a:cubicBezTo>
                <a:cubicBezTo>
                  <a:pt x="13687" y="9103"/>
                  <a:pt x="13826" y="9035"/>
                  <a:pt x="13891" y="9128"/>
                </a:cubicBezTo>
                <a:cubicBezTo>
                  <a:pt x="13997" y="9280"/>
                  <a:pt x="13698" y="9354"/>
                  <a:pt x="13618" y="9351"/>
                </a:cubicBezTo>
                <a:cubicBezTo>
                  <a:pt x="13601" y="9343"/>
                  <a:pt x="13585" y="9335"/>
                  <a:pt x="13568" y="9327"/>
                </a:cubicBezTo>
              </a:path>
              <a:path w="2507" h="1812">
                <a:moveTo>
                  <a:pt x="14337" y="8756"/>
                </a:moveTo>
                <a:cubicBezTo>
                  <a:pt x="14319" y="8862"/>
                  <a:pt x="14296" y="8968"/>
                  <a:pt x="14312" y="9079"/>
                </a:cubicBezTo>
                <a:cubicBezTo>
                  <a:pt x="14321" y="9142"/>
                  <a:pt x="14337" y="9188"/>
                  <a:pt x="14337" y="9252"/>
                </a:cubicBezTo>
              </a:path>
              <a:path w="2507" h="1812">
                <a:moveTo>
                  <a:pt x="13519" y="9599"/>
                </a:moveTo>
                <a:cubicBezTo>
                  <a:pt x="13713" y="9641"/>
                  <a:pt x="13914" y="9646"/>
                  <a:pt x="14114" y="9649"/>
                </a:cubicBezTo>
                <a:cubicBezTo>
                  <a:pt x="14392" y="9653"/>
                  <a:pt x="14656" y="9632"/>
                  <a:pt x="14932" y="9599"/>
                </a:cubicBezTo>
                <a:cubicBezTo>
                  <a:pt x="15133" y="9575"/>
                  <a:pt x="15315" y="9515"/>
                  <a:pt x="15503" y="9451"/>
                </a:cubicBezTo>
                <a:cubicBezTo>
                  <a:pt x="15593" y="9420"/>
                  <a:pt x="15622" y="9333"/>
                  <a:pt x="15652" y="9252"/>
                </a:cubicBezTo>
                <a:cubicBezTo>
                  <a:pt x="15713" y="9090"/>
                  <a:pt x="15618" y="9077"/>
                  <a:pt x="15528" y="8979"/>
                </a:cubicBezTo>
                <a:cubicBezTo>
                  <a:pt x="15436" y="8879"/>
                  <a:pt x="15388" y="8814"/>
                  <a:pt x="15255" y="8756"/>
                </a:cubicBezTo>
                <a:cubicBezTo>
                  <a:pt x="15185" y="8726"/>
                  <a:pt x="15100" y="8705"/>
                  <a:pt x="15032" y="8682"/>
                </a:cubicBezTo>
                <a:cubicBezTo>
                  <a:pt x="14970" y="8661"/>
                  <a:pt x="14873" y="8618"/>
                  <a:pt x="14808" y="8607"/>
                </a:cubicBezTo>
                <a:cubicBezTo>
                  <a:pt x="14714" y="8591"/>
                  <a:pt x="14606" y="8589"/>
                  <a:pt x="14511" y="8582"/>
                </a:cubicBezTo>
                <a:cubicBezTo>
                  <a:pt x="14371" y="8571"/>
                  <a:pt x="14254" y="8579"/>
                  <a:pt x="14114" y="8582"/>
                </a:cubicBezTo>
                <a:cubicBezTo>
                  <a:pt x="13979" y="8585"/>
                  <a:pt x="13849" y="8602"/>
                  <a:pt x="13717" y="8632"/>
                </a:cubicBezTo>
                <a:cubicBezTo>
                  <a:pt x="13612" y="8656"/>
                  <a:pt x="13435" y="8669"/>
                  <a:pt x="13345" y="8731"/>
                </a:cubicBezTo>
                <a:cubicBezTo>
                  <a:pt x="13316" y="8751"/>
                  <a:pt x="13253" y="8835"/>
                  <a:pt x="13221" y="8880"/>
                </a:cubicBezTo>
                <a:cubicBezTo>
                  <a:pt x="13137" y="9000"/>
                  <a:pt x="13172" y="9059"/>
                  <a:pt x="13221" y="9178"/>
                </a:cubicBezTo>
                <a:cubicBezTo>
                  <a:pt x="13264" y="9282"/>
                  <a:pt x="13308" y="9408"/>
                  <a:pt x="13370" y="9500"/>
                </a:cubicBezTo>
                <a:cubicBezTo>
                  <a:pt x="13406" y="9553"/>
                  <a:pt x="13475" y="9545"/>
                  <a:pt x="13543" y="9575"/>
                </a:cubicBezTo>
                <a:cubicBezTo>
                  <a:pt x="13641" y="9619"/>
                  <a:pt x="13606" y="9593"/>
                  <a:pt x="13692" y="955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84800" y="4054320"/>
            <a:ext cx="1741320" cy="2367000"/>
          </a:xfrm>
          <a:custGeom>
            <a:avLst/>
            <a:gdLst/>
            <a:ahLst/>
            <a:rect l="l" t="t" r="r" b="b"/>
            <a:pathLst>
              <a:path w="4838" h="6575">
                <a:moveTo>
                  <a:pt x="13742" y="11410"/>
                </a:moveTo>
                <a:cubicBezTo>
                  <a:pt x="13814" y="11590"/>
                  <a:pt x="13813" y="11762"/>
                  <a:pt x="13816" y="11956"/>
                </a:cubicBezTo>
                <a:cubicBezTo>
                  <a:pt x="13817" y="12030"/>
                  <a:pt x="13816" y="12105"/>
                  <a:pt x="13816" y="12179"/>
                </a:cubicBezTo>
              </a:path>
              <a:path w="4838" h="6575">
                <a:moveTo>
                  <a:pt x="14163" y="11559"/>
                </a:moveTo>
                <a:cubicBezTo>
                  <a:pt x="14142" y="11650"/>
                  <a:pt x="14114" y="11738"/>
                  <a:pt x="14114" y="11832"/>
                </a:cubicBezTo>
                <a:cubicBezTo>
                  <a:pt x="14239" y="11816"/>
                  <a:pt x="14362" y="11799"/>
                  <a:pt x="14486" y="11782"/>
                </a:cubicBezTo>
                <a:cubicBezTo>
                  <a:pt x="14514" y="11782"/>
                  <a:pt x="14525" y="11780"/>
                  <a:pt x="14536" y="11757"/>
                </a:cubicBezTo>
              </a:path>
              <a:path w="4838" h="6575">
                <a:moveTo>
                  <a:pt x="14536" y="11460"/>
                </a:moveTo>
                <a:cubicBezTo>
                  <a:pt x="14514" y="11638"/>
                  <a:pt x="14549" y="11801"/>
                  <a:pt x="14536" y="11981"/>
                </a:cubicBezTo>
                <a:cubicBezTo>
                  <a:pt x="14518" y="12072"/>
                  <a:pt x="14509" y="12079"/>
                  <a:pt x="14511" y="12129"/>
                </a:cubicBezTo>
              </a:path>
              <a:path w="4838" h="6575">
                <a:moveTo>
                  <a:pt x="14684" y="11584"/>
                </a:moveTo>
                <a:cubicBezTo>
                  <a:pt x="14697" y="11662"/>
                  <a:pt x="14709" y="11725"/>
                  <a:pt x="14709" y="11807"/>
                </a:cubicBezTo>
                <a:cubicBezTo>
                  <a:pt x="14846" y="11807"/>
                  <a:pt x="14950" y="11786"/>
                  <a:pt x="15081" y="11757"/>
                </a:cubicBezTo>
                <a:cubicBezTo>
                  <a:pt x="15122" y="11757"/>
                  <a:pt x="15131" y="11741"/>
                  <a:pt x="15106" y="11683"/>
                </a:cubicBezTo>
              </a:path>
              <a:path w="4838" h="6575">
                <a:moveTo>
                  <a:pt x="15056" y="11261"/>
                </a:moveTo>
                <a:cubicBezTo>
                  <a:pt x="14995" y="11430"/>
                  <a:pt x="15032" y="11669"/>
                  <a:pt x="15032" y="11857"/>
                </a:cubicBezTo>
                <a:cubicBezTo>
                  <a:pt x="15032" y="11972"/>
                  <a:pt x="15032" y="11989"/>
                  <a:pt x="15032" y="12055"/>
                </a:cubicBezTo>
              </a:path>
              <a:path w="4838" h="6575">
                <a:moveTo>
                  <a:pt x="13047" y="12626"/>
                </a:moveTo>
                <a:cubicBezTo>
                  <a:pt x="13104" y="12714"/>
                  <a:pt x="13165" y="12884"/>
                  <a:pt x="13246" y="12948"/>
                </a:cubicBezTo>
                <a:cubicBezTo>
                  <a:pt x="13246" y="12940"/>
                  <a:pt x="13246" y="12931"/>
                  <a:pt x="13246" y="12923"/>
                </a:cubicBezTo>
              </a:path>
              <a:path w="4838" h="6575">
                <a:moveTo>
                  <a:pt x="13320" y="12502"/>
                </a:moveTo>
                <a:cubicBezTo>
                  <a:pt x="13266" y="12653"/>
                  <a:pt x="13211" y="12802"/>
                  <a:pt x="13146" y="12948"/>
                </a:cubicBezTo>
              </a:path>
              <a:path w="4838" h="6575">
                <a:moveTo>
                  <a:pt x="14436" y="12526"/>
                </a:moveTo>
                <a:cubicBezTo>
                  <a:pt x="14414" y="12549"/>
                  <a:pt x="14436" y="12857"/>
                  <a:pt x="14436" y="12923"/>
                </a:cubicBezTo>
                <a:cubicBezTo>
                  <a:pt x="14436" y="13002"/>
                  <a:pt x="14412" y="13031"/>
                  <a:pt x="14461" y="13047"/>
                </a:cubicBezTo>
              </a:path>
              <a:path w="4838" h="6575">
                <a:moveTo>
                  <a:pt x="14759" y="12526"/>
                </a:moveTo>
                <a:cubicBezTo>
                  <a:pt x="14839" y="12481"/>
                  <a:pt x="14890" y="12483"/>
                  <a:pt x="14982" y="12477"/>
                </a:cubicBezTo>
                <a:cubicBezTo>
                  <a:pt x="15044" y="12642"/>
                  <a:pt x="14946" y="12710"/>
                  <a:pt x="14858" y="12849"/>
                </a:cubicBezTo>
                <a:cubicBezTo>
                  <a:pt x="14850" y="12865"/>
                  <a:pt x="14841" y="12882"/>
                  <a:pt x="14833" y="12898"/>
                </a:cubicBezTo>
                <a:cubicBezTo>
                  <a:pt x="14959" y="12890"/>
                  <a:pt x="15079" y="12857"/>
                  <a:pt x="15205" y="12849"/>
                </a:cubicBezTo>
                <a:cubicBezTo>
                  <a:pt x="15213" y="12849"/>
                  <a:pt x="15222" y="12849"/>
                  <a:pt x="15230" y="12849"/>
                </a:cubicBezTo>
              </a:path>
              <a:path w="4838" h="6575">
                <a:moveTo>
                  <a:pt x="13320" y="13395"/>
                </a:moveTo>
                <a:cubicBezTo>
                  <a:pt x="13477" y="13427"/>
                  <a:pt x="13595" y="13408"/>
                  <a:pt x="13767" y="13395"/>
                </a:cubicBezTo>
                <a:cubicBezTo>
                  <a:pt x="14271" y="13357"/>
                  <a:pt x="14754" y="13349"/>
                  <a:pt x="15255" y="13271"/>
                </a:cubicBezTo>
                <a:cubicBezTo>
                  <a:pt x="15409" y="13247"/>
                  <a:pt x="15571" y="13221"/>
                  <a:pt x="15726" y="13196"/>
                </a:cubicBezTo>
              </a:path>
              <a:path w="4838" h="6575">
                <a:moveTo>
                  <a:pt x="15577" y="13667"/>
                </a:moveTo>
                <a:cubicBezTo>
                  <a:pt x="15649" y="13644"/>
                  <a:pt x="15558" y="13643"/>
                  <a:pt x="15528" y="13643"/>
                </a:cubicBezTo>
                <a:cubicBezTo>
                  <a:pt x="15327" y="13643"/>
                  <a:pt x="15265" y="13721"/>
                  <a:pt x="15180" y="13891"/>
                </a:cubicBezTo>
                <a:cubicBezTo>
                  <a:pt x="15291" y="13976"/>
                  <a:pt x="15528" y="13924"/>
                  <a:pt x="15627" y="14039"/>
                </a:cubicBezTo>
                <a:cubicBezTo>
                  <a:pt x="15747" y="14178"/>
                  <a:pt x="15468" y="14243"/>
                  <a:pt x="15404" y="14238"/>
                </a:cubicBezTo>
                <a:cubicBezTo>
                  <a:pt x="15390" y="14083"/>
                  <a:pt x="15493" y="13968"/>
                  <a:pt x="15553" y="13816"/>
                </a:cubicBezTo>
                <a:cubicBezTo>
                  <a:pt x="15553" y="13808"/>
                  <a:pt x="15553" y="13799"/>
                  <a:pt x="15553" y="13791"/>
                </a:cubicBezTo>
              </a:path>
              <a:path w="4838" h="6575">
                <a:moveTo>
                  <a:pt x="14610" y="13767"/>
                </a:moveTo>
                <a:cubicBezTo>
                  <a:pt x="14670" y="13767"/>
                  <a:pt x="14476" y="13783"/>
                  <a:pt x="14461" y="13791"/>
                </a:cubicBezTo>
                <a:cubicBezTo>
                  <a:pt x="14379" y="13834"/>
                  <a:pt x="14258" y="13937"/>
                  <a:pt x="14387" y="14015"/>
                </a:cubicBezTo>
                <a:cubicBezTo>
                  <a:pt x="14497" y="14082"/>
                  <a:pt x="14602" y="14067"/>
                  <a:pt x="14610" y="14213"/>
                </a:cubicBezTo>
                <a:cubicBezTo>
                  <a:pt x="14616" y="14312"/>
                  <a:pt x="14507" y="14288"/>
                  <a:pt x="14436" y="14288"/>
                </a:cubicBezTo>
                <a:cubicBezTo>
                  <a:pt x="14450" y="14166"/>
                  <a:pt x="14524" y="14105"/>
                  <a:pt x="14560" y="13990"/>
                </a:cubicBezTo>
                <a:cubicBezTo>
                  <a:pt x="14560" y="13948"/>
                  <a:pt x="14560" y="13940"/>
                  <a:pt x="14560" y="13915"/>
                </a:cubicBezTo>
              </a:path>
              <a:path w="4838" h="6575">
                <a:moveTo>
                  <a:pt x="13370" y="13940"/>
                </a:moveTo>
                <a:cubicBezTo>
                  <a:pt x="13382" y="13903"/>
                  <a:pt x="13489" y="13820"/>
                  <a:pt x="13543" y="13816"/>
                </a:cubicBezTo>
                <a:cubicBezTo>
                  <a:pt x="13850" y="13792"/>
                  <a:pt x="13777" y="14109"/>
                  <a:pt x="13667" y="14263"/>
                </a:cubicBezTo>
                <a:cubicBezTo>
                  <a:pt x="13566" y="14405"/>
                  <a:pt x="13424" y="14547"/>
                  <a:pt x="13271" y="14436"/>
                </a:cubicBezTo>
                <a:cubicBezTo>
                  <a:pt x="13263" y="14428"/>
                  <a:pt x="13254" y="14420"/>
                  <a:pt x="13246" y="14412"/>
                </a:cubicBezTo>
                <a:cubicBezTo>
                  <a:pt x="13358" y="14258"/>
                  <a:pt x="13480" y="14252"/>
                  <a:pt x="13667" y="14312"/>
                </a:cubicBezTo>
                <a:cubicBezTo>
                  <a:pt x="13723" y="14330"/>
                  <a:pt x="13727" y="14367"/>
                  <a:pt x="13767" y="14387"/>
                </a:cubicBezTo>
              </a:path>
              <a:path w="4838" h="6575">
                <a:moveTo>
                  <a:pt x="15553" y="14610"/>
                </a:moveTo>
                <a:cubicBezTo>
                  <a:pt x="15485" y="14650"/>
                  <a:pt x="15442" y="14745"/>
                  <a:pt x="15429" y="14833"/>
                </a:cubicBezTo>
                <a:cubicBezTo>
                  <a:pt x="15416" y="14920"/>
                  <a:pt x="15406" y="15079"/>
                  <a:pt x="15453" y="15156"/>
                </a:cubicBezTo>
                <a:cubicBezTo>
                  <a:pt x="15498" y="15229"/>
                  <a:pt x="15610" y="15157"/>
                  <a:pt x="15652" y="15131"/>
                </a:cubicBezTo>
                <a:cubicBezTo>
                  <a:pt x="15733" y="15081"/>
                  <a:pt x="15817" y="14975"/>
                  <a:pt x="15825" y="14883"/>
                </a:cubicBezTo>
                <a:cubicBezTo>
                  <a:pt x="15831" y="14811"/>
                  <a:pt x="15826" y="14743"/>
                  <a:pt x="15801" y="14709"/>
                </a:cubicBezTo>
                <a:cubicBezTo>
                  <a:pt x="15764" y="14659"/>
                  <a:pt x="15748" y="14642"/>
                  <a:pt x="15677" y="14635"/>
                </a:cubicBezTo>
                <a:cubicBezTo>
                  <a:pt x="15636" y="14631"/>
                  <a:pt x="15623" y="14610"/>
                  <a:pt x="15577" y="14610"/>
                </a:cubicBezTo>
                <a:cubicBezTo>
                  <a:pt x="15553" y="14610"/>
                  <a:pt x="15544" y="14610"/>
                  <a:pt x="15528" y="14610"/>
                </a:cubicBezTo>
              </a:path>
              <a:path w="4838" h="6575">
                <a:moveTo>
                  <a:pt x="14486" y="14759"/>
                </a:moveTo>
                <a:cubicBezTo>
                  <a:pt x="14486" y="14711"/>
                  <a:pt x="14439" y="15007"/>
                  <a:pt x="14436" y="15032"/>
                </a:cubicBezTo>
                <a:cubicBezTo>
                  <a:pt x="14436" y="15090"/>
                  <a:pt x="14436" y="15098"/>
                  <a:pt x="14436" y="15131"/>
                </a:cubicBezTo>
                <a:cubicBezTo>
                  <a:pt x="14538" y="15111"/>
                  <a:pt x="14626" y="15063"/>
                  <a:pt x="14734" y="15056"/>
                </a:cubicBezTo>
                <a:cubicBezTo>
                  <a:pt x="14742" y="15056"/>
                  <a:pt x="14751" y="15056"/>
                  <a:pt x="14759" y="15056"/>
                </a:cubicBezTo>
              </a:path>
              <a:path w="4838" h="6575">
                <a:moveTo>
                  <a:pt x="14759" y="14635"/>
                </a:moveTo>
                <a:cubicBezTo>
                  <a:pt x="14741" y="14816"/>
                  <a:pt x="14736" y="14998"/>
                  <a:pt x="14709" y="15180"/>
                </a:cubicBezTo>
                <a:cubicBezTo>
                  <a:pt x="14697" y="15259"/>
                  <a:pt x="14684" y="15288"/>
                  <a:pt x="14684" y="15354"/>
                </a:cubicBezTo>
              </a:path>
              <a:path w="4838" h="6575">
                <a:moveTo>
                  <a:pt x="13370" y="14957"/>
                </a:moveTo>
                <a:cubicBezTo>
                  <a:pt x="13327" y="14957"/>
                  <a:pt x="13332" y="14967"/>
                  <a:pt x="13320" y="14932"/>
                </a:cubicBezTo>
                <a:cubicBezTo>
                  <a:pt x="13320" y="15013"/>
                  <a:pt x="13275" y="15104"/>
                  <a:pt x="13246" y="15180"/>
                </a:cubicBezTo>
                <a:cubicBezTo>
                  <a:pt x="13238" y="15197"/>
                  <a:pt x="13229" y="15213"/>
                  <a:pt x="13221" y="15230"/>
                </a:cubicBezTo>
                <a:cubicBezTo>
                  <a:pt x="13335" y="15207"/>
                  <a:pt x="13420" y="15163"/>
                  <a:pt x="13543" y="15156"/>
                </a:cubicBezTo>
                <a:cubicBezTo>
                  <a:pt x="13568" y="15156"/>
                  <a:pt x="13593" y="15156"/>
                  <a:pt x="13618" y="15156"/>
                </a:cubicBezTo>
              </a:path>
              <a:path w="4838" h="6575">
                <a:moveTo>
                  <a:pt x="13519" y="14784"/>
                </a:moveTo>
                <a:cubicBezTo>
                  <a:pt x="13544" y="14964"/>
                  <a:pt x="13529" y="15123"/>
                  <a:pt x="13519" y="15304"/>
                </a:cubicBezTo>
                <a:cubicBezTo>
                  <a:pt x="13516" y="15369"/>
                  <a:pt x="13519" y="15437"/>
                  <a:pt x="13519" y="15503"/>
                </a:cubicBezTo>
              </a:path>
              <a:path w="4838" h="6575">
                <a:moveTo>
                  <a:pt x="12551" y="14908"/>
                </a:moveTo>
                <a:cubicBezTo>
                  <a:pt x="12610" y="14888"/>
                  <a:pt x="12576" y="15140"/>
                  <a:pt x="12576" y="15205"/>
                </a:cubicBezTo>
                <a:cubicBezTo>
                  <a:pt x="12576" y="15329"/>
                  <a:pt x="12576" y="15453"/>
                  <a:pt x="12576" y="15577"/>
                </a:cubicBezTo>
              </a:path>
              <a:path w="4838" h="6575">
                <a:moveTo>
                  <a:pt x="12179" y="15825"/>
                </a:moveTo>
                <a:cubicBezTo>
                  <a:pt x="12279" y="15803"/>
                  <a:pt x="12369" y="15801"/>
                  <a:pt x="12477" y="15801"/>
                </a:cubicBezTo>
                <a:cubicBezTo>
                  <a:pt x="12695" y="15801"/>
                  <a:pt x="12902" y="15798"/>
                  <a:pt x="13122" y="15801"/>
                </a:cubicBezTo>
                <a:cubicBezTo>
                  <a:pt x="13435" y="15805"/>
                  <a:pt x="13753" y="15803"/>
                  <a:pt x="14064" y="15776"/>
                </a:cubicBezTo>
                <a:cubicBezTo>
                  <a:pt x="14299" y="15755"/>
                  <a:pt x="14529" y="15714"/>
                  <a:pt x="14759" y="15677"/>
                </a:cubicBezTo>
                <a:cubicBezTo>
                  <a:pt x="15016" y="15636"/>
                  <a:pt x="15272" y="15596"/>
                  <a:pt x="15528" y="15553"/>
                </a:cubicBezTo>
                <a:cubicBezTo>
                  <a:pt x="15695" y="15525"/>
                  <a:pt x="15855" y="15528"/>
                  <a:pt x="16024" y="15528"/>
                </a:cubicBezTo>
                <a:cubicBezTo>
                  <a:pt x="16086" y="15528"/>
                  <a:pt x="16125" y="15545"/>
                  <a:pt x="16148" y="15553"/>
                </a:cubicBezTo>
              </a:path>
              <a:path w="4838" h="6575">
                <a:moveTo>
                  <a:pt x="15850" y="15949"/>
                </a:moveTo>
                <a:cubicBezTo>
                  <a:pt x="15914" y="15857"/>
                  <a:pt x="15610" y="15970"/>
                  <a:pt x="15602" y="15974"/>
                </a:cubicBezTo>
                <a:cubicBezTo>
                  <a:pt x="15510" y="16047"/>
                  <a:pt x="15498" y="16051"/>
                  <a:pt x="15453" y="16098"/>
                </a:cubicBezTo>
                <a:cubicBezTo>
                  <a:pt x="15511" y="16129"/>
                  <a:pt x="15825" y="16215"/>
                  <a:pt x="15825" y="16297"/>
                </a:cubicBezTo>
                <a:cubicBezTo>
                  <a:pt x="15825" y="16445"/>
                  <a:pt x="15630" y="16421"/>
                  <a:pt x="15553" y="16421"/>
                </a:cubicBezTo>
                <a:cubicBezTo>
                  <a:pt x="15540" y="16211"/>
                  <a:pt x="15669" y="16132"/>
                  <a:pt x="15701" y="15949"/>
                </a:cubicBezTo>
                <a:cubicBezTo>
                  <a:pt x="15693" y="15949"/>
                  <a:pt x="15685" y="15949"/>
                  <a:pt x="15677" y="15949"/>
                </a:cubicBezTo>
              </a:path>
              <a:path w="4838" h="6575">
                <a:moveTo>
                  <a:pt x="14461" y="16173"/>
                </a:moveTo>
                <a:cubicBezTo>
                  <a:pt x="14534" y="16173"/>
                  <a:pt x="14642" y="16117"/>
                  <a:pt x="14709" y="16148"/>
                </a:cubicBezTo>
                <a:cubicBezTo>
                  <a:pt x="14927" y="16249"/>
                  <a:pt x="14635" y="16620"/>
                  <a:pt x="14560" y="16718"/>
                </a:cubicBezTo>
                <a:cubicBezTo>
                  <a:pt x="14505" y="16774"/>
                  <a:pt x="14480" y="16772"/>
                  <a:pt x="14486" y="16818"/>
                </a:cubicBezTo>
                <a:cubicBezTo>
                  <a:pt x="14610" y="16738"/>
                  <a:pt x="14724" y="16682"/>
                  <a:pt x="14858" y="16644"/>
                </a:cubicBezTo>
                <a:cubicBezTo>
                  <a:pt x="14866" y="16644"/>
                  <a:pt x="14875" y="16644"/>
                  <a:pt x="14883" y="16644"/>
                </a:cubicBezTo>
              </a:path>
              <a:path w="4838" h="6575">
                <a:moveTo>
                  <a:pt x="13519" y="13122"/>
                </a:moveTo>
                <a:cubicBezTo>
                  <a:pt x="13519" y="13279"/>
                  <a:pt x="13497" y="13435"/>
                  <a:pt x="13494" y="13593"/>
                </a:cubicBezTo>
                <a:cubicBezTo>
                  <a:pt x="13494" y="13667"/>
                  <a:pt x="13494" y="13676"/>
                  <a:pt x="13494" y="13717"/>
                </a:cubicBezTo>
              </a:path>
              <a:path w="4838" h="6575">
                <a:moveTo>
                  <a:pt x="13295" y="16346"/>
                </a:moveTo>
                <a:cubicBezTo>
                  <a:pt x="13369" y="16302"/>
                  <a:pt x="13501" y="16305"/>
                  <a:pt x="13593" y="16297"/>
                </a:cubicBezTo>
                <a:cubicBezTo>
                  <a:pt x="13632" y="16293"/>
                  <a:pt x="13677" y="16297"/>
                  <a:pt x="13717" y="16297"/>
                </a:cubicBezTo>
                <a:cubicBezTo>
                  <a:pt x="13777" y="16455"/>
                  <a:pt x="13715" y="16629"/>
                  <a:pt x="13667" y="16793"/>
                </a:cubicBezTo>
                <a:cubicBezTo>
                  <a:pt x="13643" y="16867"/>
                  <a:pt x="13634" y="16892"/>
                  <a:pt x="13568" y="16842"/>
                </a:cubicBezTo>
              </a:path>
              <a:path w="4838" h="6575">
                <a:moveTo>
                  <a:pt x="12700" y="16222"/>
                </a:moveTo>
                <a:cubicBezTo>
                  <a:pt x="12700" y="16487"/>
                  <a:pt x="12700" y="16751"/>
                  <a:pt x="12700" y="17016"/>
                </a:cubicBezTo>
              </a:path>
              <a:path w="4838" h="6575">
                <a:moveTo>
                  <a:pt x="13196" y="17016"/>
                </a:moveTo>
                <a:cubicBezTo>
                  <a:pt x="13196" y="17129"/>
                  <a:pt x="13244" y="17282"/>
                  <a:pt x="13122" y="17264"/>
                </a:cubicBezTo>
              </a:path>
              <a:path w="4838" h="6575">
                <a:moveTo>
                  <a:pt x="12452" y="17636"/>
                </a:moveTo>
                <a:cubicBezTo>
                  <a:pt x="12673" y="17712"/>
                  <a:pt x="12886" y="17782"/>
                  <a:pt x="13122" y="17810"/>
                </a:cubicBezTo>
                <a:cubicBezTo>
                  <a:pt x="13926" y="17905"/>
                  <a:pt x="14743" y="17801"/>
                  <a:pt x="15503" y="17537"/>
                </a:cubicBezTo>
                <a:cubicBezTo>
                  <a:pt x="15946" y="17383"/>
                  <a:pt x="16339" y="17176"/>
                  <a:pt x="16669" y="16842"/>
                </a:cubicBezTo>
                <a:cubicBezTo>
                  <a:pt x="16873" y="16635"/>
                  <a:pt x="16979" y="16386"/>
                  <a:pt x="17016" y="16098"/>
                </a:cubicBezTo>
                <a:cubicBezTo>
                  <a:pt x="17044" y="15882"/>
                  <a:pt x="16998" y="15729"/>
                  <a:pt x="16793" y="15652"/>
                </a:cubicBezTo>
                <a:cubicBezTo>
                  <a:pt x="16321" y="15474"/>
                  <a:pt x="15801" y="15387"/>
                  <a:pt x="15304" y="15329"/>
                </a:cubicBezTo>
                <a:cubicBezTo>
                  <a:pt x="14994" y="15293"/>
                  <a:pt x="14674" y="15285"/>
                  <a:pt x="14362" y="15280"/>
                </a:cubicBezTo>
                <a:cubicBezTo>
                  <a:pt x="13919" y="15273"/>
                  <a:pt x="13420" y="15376"/>
                  <a:pt x="13022" y="15577"/>
                </a:cubicBezTo>
                <a:cubicBezTo>
                  <a:pt x="12740" y="15720"/>
                  <a:pt x="12424" y="15999"/>
                  <a:pt x="12303" y="16297"/>
                </a:cubicBezTo>
                <a:cubicBezTo>
                  <a:pt x="12215" y="16513"/>
                  <a:pt x="12249" y="16727"/>
                  <a:pt x="12303" y="16942"/>
                </a:cubicBezTo>
                <a:cubicBezTo>
                  <a:pt x="12392" y="17299"/>
                  <a:pt x="12456" y="17407"/>
                  <a:pt x="12824" y="17487"/>
                </a:cubicBezTo>
                <a:cubicBezTo>
                  <a:pt x="13131" y="17539"/>
                  <a:pt x="13240" y="17557"/>
                  <a:pt x="13444" y="176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68840" y="1928880"/>
            <a:ext cx="527040" cy="179280"/>
          </a:xfrm>
          <a:custGeom>
            <a:avLst/>
            <a:gdLst/>
            <a:ahLst/>
            <a:rect l="l" t="t" r="r" b="b"/>
            <a:pathLst>
              <a:path w="1464" h="497">
                <a:moveTo>
                  <a:pt x="10468" y="5854"/>
                </a:moveTo>
                <a:cubicBezTo>
                  <a:pt x="10932" y="5660"/>
                  <a:pt x="11387" y="5460"/>
                  <a:pt x="11881" y="5358"/>
                </a:cubicBezTo>
                <a:cubicBezTo>
                  <a:pt x="11898" y="5358"/>
                  <a:pt x="11914" y="5358"/>
                  <a:pt x="11931" y="53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63920" y="1919160"/>
            <a:ext cx="1108080" cy="635040"/>
          </a:xfrm>
          <a:custGeom>
            <a:avLst/>
            <a:gdLst/>
            <a:ahLst/>
            <a:rect l="l" t="t" r="r" b="b"/>
            <a:pathLst>
              <a:path w="3077" h="1762">
                <a:moveTo>
                  <a:pt x="11733" y="5779"/>
                </a:moveTo>
                <a:cubicBezTo>
                  <a:pt x="11684" y="5957"/>
                  <a:pt x="11607" y="6140"/>
                  <a:pt x="11683" y="6325"/>
                </a:cubicBezTo>
                <a:cubicBezTo>
                  <a:pt x="11772" y="6544"/>
                  <a:pt x="12124" y="6285"/>
                  <a:pt x="12204" y="6201"/>
                </a:cubicBezTo>
                <a:cubicBezTo>
                  <a:pt x="12243" y="6124"/>
                  <a:pt x="12277" y="6109"/>
                  <a:pt x="12229" y="6077"/>
                </a:cubicBezTo>
                <a:cubicBezTo>
                  <a:pt x="12044" y="6077"/>
                  <a:pt x="11933" y="6128"/>
                  <a:pt x="11956" y="6350"/>
                </a:cubicBezTo>
                <a:cubicBezTo>
                  <a:pt x="11964" y="6367"/>
                  <a:pt x="11973" y="6383"/>
                  <a:pt x="11981" y="6400"/>
                </a:cubicBezTo>
              </a:path>
              <a:path w="3077" h="1762">
                <a:moveTo>
                  <a:pt x="10616" y="6102"/>
                </a:moveTo>
                <a:cubicBezTo>
                  <a:pt x="10616" y="6130"/>
                  <a:pt x="10614" y="6141"/>
                  <a:pt x="10592" y="6152"/>
                </a:cubicBezTo>
                <a:cubicBezTo>
                  <a:pt x="10533" y="6132"/>
                  <a:pt x="10594" y="6086"/>
                  <a:pt x="10641" y="6102"/>
                </a:cubicBezTo>
                <a:cubicBezTo>
                  <a:pt x="10848" y="6172"/>
                  <a:pt x="10773" y="6435"/>
                  <a:pt x="10641" y="6548"/>
                </a:cubicBezTo>
                <a:cubicBezTo>
                  <a:pt x="10518" y="6654"/>
                  <a:pt x="10314" y="6748"/>
                  <a:pt x="10195" y="6648"/>
                </a:cubicBezTo>
                <a:cubicBezTo>
                  <a:pt x="10243" y="6471"/>
                  <a:pt x="10369" y="6519"/>
                  <a:pt x="10542" y="6548"/>
                </a:cubicBezTo>
                <a:cubicBezTo>
                  <a:pt x="10649" y="6570"/>
                  <a:pt x="10673" y="6578"/>
                  <a:pt x="10740" y="6573"/>
                </a:cubicBezTo>
              </a:path>
              <a:path w="3077" h="1762">
                <a:moveTo>
                  <a:pt x="10988" y="5904"/>
                </a:moveTo>
                <a:cubicBezTo>
                  <a:pt x="11022" y="6038"/>
                  <a:pt x="11078" y="6173"/>
                  <a:pt x="11137" y="6300"/>
                </a:cubicBezTo>
                <a:cubicBezTo>
                  <a:pt x="11161" y="6351"/>
                  <a:pt x="11162" y="6370"/>
                  <a:pt x="11162" y="6424"/>
                </a:cubicBezTo>
              </a:path>
              <a:path w="3077" h="1762">
                <a:moveTo>
                  <a:pt x="10120" y="7045"/>
                </a:moveTo>
                <a:cubicBezTo>
                  <a:pt x="10276" y="7025"/>
                  <a:pt x="10437" y="7040"/>
                  <a:pt x="10592" y="7020"/>
                </a:cubicBezTo>
                <a:cubicBezTo>
                  <a:pt x="10855" y="6986"/>
                  <a:pt x="11129" y="6940"/>
                  <a:pt x="11385" y="6871"/>
                </a:cubicBezTo>
                <a:cubicBezTo>
                  <a:pt x="11592" y="6815"/>
                  <a:pt x="11796" y="6744"/>
                  <a:pt x="12005" y="6697"/>
                </a:cubicBezTo>
                <a:cubicBezTo>
                  <a:pt x="12166" y="6661"/>
                  <a:pt x="12338" y="6648"/>
                  <a:pt x="12477" y="6548"/>
                </a:cubicBezTo>
                <a:cubicBezTo>
                  <a:pt x="12617" y="6447"/>
                  <a:pt x="12646" y="6310"/>
                  <a:pt x="12675" y="6152"/>
                </a:cubicBezTo>
                <a:cubicBezTo>
                  <a:pt x="12705" y="5989"/>
                  <a:pt x="12688" y="5817"/>
                  <a:pt x="12650" y="5655"/>
                </a:cubicBezTo>
                <a:cubicBezTo>
                  <a:pt x="12616" y="5510"/>
                  <a:pt x="12478" y="5456"/>
                  <a:pt x="12353" y="5407"/>
                </a:cubicBezTo>
                <a:cubicBezTo>
                  <a:pt x="12221" y="5355"/>
                  <a:pt x="12021" y="5328"/>
                  <a:pt x="11881" y="5333"/>
                </a:cubicBezTo>
                <a:cubicBezTo>
                  <a:pt x="11671" y="5340"/>
                  <a:pt x="11455" y="5407"/>
                  <a:pt x="11261" y="5482"/>
                </a:cubicBezTo>
                <a:cubicBezTo>
                  <a:pt x="11032" y="5571"/>
                  <a:pt x="10811" y="5669"/>
                  <a:pt x="10592" y="5779"/>
                </a:cubicBezTo>
                <a:cubicBezTo>
                  <a:pt x="10365" y="5893"/>
                  <a:pt x="9944" y="6007"/>
                  <a:pt x="9798" y="6226"/>
                </a:cubicBezTo>
                <a:cubicBezTo>
                  <a:pt x="9707" y="6362"/>
                  <a:pt x="9644" y="6610"/>
                  <a:pt x="9624" y="6772"/>
                </a:cubicBezTo>
                <a:cubicBezTo>
                  <a:pt x="9607" y="6911"/>
                  <a:pt x="9728" y="6995"/>
                  <a:pt x="9847" y="7045"/>
                </a:cubicBezTo>
                <a:cubicBezTo>
                  <a:pt x="10071" y="7139"/>
                  <a:pt x="10316" y="7078"/>
                  <a:pt x="10542" y="7020"/>
                </a:cubicBezTo>
                <a:cubicBezTo>
                  <a:pt x="10648" y="6993"/>
                  <a:pt x="10736" y="6971"/>
                  <a:pt x="10840" y="694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4760" y="2367000"/>
            <a:ext cx="312480" cy="588960"/>
          </a:xfrm>
          <a:custGeom>
            <a:avLst/>
            <a:gdLst/>
            <a:ahLst/>
            <a:rect l="l" t="t" r="r" b="b"/>
            <a:pathLst>
              <a:path w="870" h="1638">
                <a:moveTo>
                  <a:pt x="14188" y="6846"/>
                </a:moveTo>
                <a:cubicBezTo>
                  <a:pt x="14138" y="6996"/>
                  <a:pt x="14006" y="7146"/>
                  <a:pt x="14039" y="7317"/>
                </a:cubicBezTo>
                <a:cubicBezTo>
                  <a:pt x="14056" y="7342"/>
                  <a:pt x="14072" y="7367"/>
                  <a:pt x="14089" y="7392"/>
                </a:cubicBezTo>
                <a:cubicBezTo>
                  <a:pt x="14291" y="7372"/>
                  <a:pt x="14409" y="7346"/>
                  <a:pt x="14486" y="7144"/>
                </a:cubicBezTo>
                <a:cubicBezTo>
                  <a:pt x="14486" y="7136"/>
                  <a:pt x="14486" y="7127"/>
                  <a:pt x="14486" y="7119"/>
                </a:cubicBezTo>
                <a:cubicBezTo>
                  <a:pt x="14400" y="7111"/>
                  <a:pt x="14080" y="7228"/>
                  <a:pt x="14188" y="7392"/>
                </a:cubicBezTo>
                <a:cubicBezTo>
                  <a:pt x="14221" y="7392"/>
                  <a:pt x="14255" y="7392"/>
                  <a:pt x="14288" y="7392"/>
                </a:cubicBezTo>
              </a:path>
              <a:path w="870" h="1638">
                <a:moveTo>
                  <a:pt x="14908" y="6573"/>
                </a:moveTo>
                <a:cubicBezTo>
                  <a:pt x="14888" y="6788"/>
                  <a:pt x="14892" y="7004"/>
                  <a:pt x="14858" y="7218"/>
                </a:cubicBezTo>
                <a:cubicBezTo>
                  <a:pt x="14850" y="7251"/>
                  <a:pt x="14841" y="7284"/>
                  <a:pt x="14833" y="7317"/>
                </a:cubicBezTo>
              </a:path>
              <a:path w="870" h="1638">
                <a:moveTo>
                  <a:pt x="14908" y="7541"/>
                </a:moveTo>
                <a:cubicBezTo>
                  <a:pt x="14788" y="7583"/>
                  <a:pt x="14531" y="7648"/>
                  <a:pt x="14660" y="7813"/>
                </a:cubicBezTo>
                <a:cubicBezTo>
                  <a:pt x="14807" y="8001"/>
                  <a:pt x="14828" y="7961"/>
                  <a:pt x="14784" y="8186"/>
                </a:cubicBezTo>
                <a:cubicBezTo>
                  <a:pt x="14751" y="8194"/>
                  <a:pt x="14717" y="8202"/>
                  <a:pt x="14684" y="8210"/>
                </a:cubicBezTo>
                <a:cubicBezTo>
                  <a:pt x="14660" y="7989"/>
                  <a:pt x="14720" y="7891"/>
                  <a:pt x="14858" y="7714"/>
                </a:cubicBezTo>
                <a:cubicBezTo>
                  <a:pt x="14866" y="7706"/>
                  <a:pt x="14875" y="7697"/>
                  <a:pt x="14883" y="76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30760" y="1411200"/>
            <a:ext cx="393480" cy="312840"/>
          </a:xfrm>
          <a:custGeom>
            <a:avLst/>
            <a:gdLst/>
            <a:ahLst/>
            <a:rect l="l" t="t" r="r" b="b"/>
            <a:pathLst>
              <a:path w="1093" h="869">
                <a:moveTo>
                  <a:pt x="10641" y="4118"/>
                </a:moveTo>
                <a:cubicBezTo>
                  <a:pt x="10666" y="4118"/>
                  <a:pt x="10674" y="4118"/>
                  <a:pt x="10666" y="4142"/>
                </a:cubicBezTo>
                <a:cubicBezTo>
                  <a:pt x="10737" y="4142"/>
                  <a:pt x="10700" y="4129"/>
                  <a:pt x="10740" y="4068"/>
                </a:cubicBezTo>
                <a:cubicBezTo>
                  <a:pt x="10764" y="4032"/>
                  <a:pt x="10848" y="4011"/>
                  <a:pt x="10889" y="4018"/>
                </a:cubicBezTo>
                <a:cubicBezTo>
                  <a:pt x="11037" y="4044"/>
                  <a:pt x="11052" y="4212"/>
                  <a:pt x="10964" y="4316"/>
                </a:cubicBezTo>
                <a:cubicBezTo>
                  <a:pt x="10870" y="4386"/>
                  <a:pt x="10844" y="4408"/>
                  <a:pt x="10765" y="4415"/>
                </a:cubicBezTo>
                <a:cubicBezTo>
                  <a:pt x="10810" y="4370"/>
                  <a:pt x="10993" y="4370"/>
                  <a:pt x="11013" y="4490"/>
                </a:cubicBezTo>
                <a:cubicBezTo>
                  <a:pt x="11058" y="4757"/>
                  <a:pt x="10735" y="4781"/>
                  <a:pt x="10641" y="4688"/>
                </a:cubicBezTo>
              </a:path>
              <a:path w="1093" h="869">
                <a:moveTo>
                  <a:pt x="11286" y="3919"/>
                </a:moveTo>
                <a:cubicBezTo>
                  <a:pt x="11286" y="4080"/>
                  <a:pt x="11249" y="4288"/>
                  <a:pt x="11311" y="4440"/>
                </a:cubicBezTo>
                <a:cubicBezTo>
                  <a:pt x="11396" y="4648"/>
                  <a:pt x="11675" y="4510"/>
                  <a:pt x="11733" y="4366"/>
                </a:cubicBezTo>
                <a:cubicBezTo>
                  <a:pt x="11733" y="4333"/>
                  <a:pt x="11733" y="4299"/>
                  <a:pt x="11733" y="4266"/>
                </a:cubicBezTo>
                <a:cubicBezTo>
                  <a:pt x="11522" y="4247"/>
                  <a:pt x="11526" y="4411"/>
                  <a:pt x="11485" y="45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71960" y="1768320"/>
            <a:ext cx="14292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311" y="4911"/>
                </a:moveTo>
                <a:cubicBezTo>
                  <a:pt x="11311" y="5072"/>
                  <a:pt x="11308" y="5225"/>
                  <a:pt x="11336" y="5383"/>
                </a:cubicBezTo>
                <a:cubicBezTo>
                  <a:pt x="11581" y="5357"/>
                  <a:pt x="11659" y="5344"/>
                  <a:pt x="11708" y="5110"/>
                </a:cubicBezTo>
                <a:cubicBezTo>
                  <a:pt x="11505" y="5143"/>
                  <a:pt x="11525" y="5246"/>
                  <a:pt x="11534" y="543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0" y="1339920"/>
            <a:ext cx="14292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0021" y="3795"/>
                </a:moveTo>
                <a:cubicBezTo>
                  <a:pt x="10086" y="3774"/>
                  <a:pt x="10150" y="3744"/>
                  <a:pt x="10220" y="3721"/>
                </a:cubicBezTo>
                <a:cubicBezTo>
                  <a:pt x="10266" y="3833"/>
                  <a:pt x="10221" y="3907"/>
                  <a:pt x="10170" y="4018"/>
                </a:cubicBezTo>
                <a:cubicBezTo>
                  <a:pt x="10034" y="3996"/>
                  <a:pt x="10222" y="3931"/>
                  <a:pt x="10294" y="3969"/>
                </a:cubicBezTo>
                <a:cubicBezTo>
                  <a:pt x="10507" y="4082"/>
                  <a:pt x="10248" y="4287"/>
                  <a:pt x="10120" y="4316"/>
                </a:cubicBezTo>
                <a:cubicBezTo>
                  <a:pt x="10029" y="4316"/>
                  <a:pt x="10021" y="4316"/>
                  <a:pt x="9971" y="431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14840" y="1884240"/>
            <a:ext cx="108000" cy="12564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10319" y="5283"/>
                </a:moveTo>
                <a:cubicBezTo>
                  <a:pt x="10423" y="5397"/>
                  <a:pt x="10488" y="5474"/>
                  <a:pt x="10616" y="5556"/>
                </a:cubicBezTo>
              </a:path>
              <a:path w="298" h="348">
                <a:moveTo>
                  <a:pt x="10616" y="5234"/>
                </a:moveTo>
                <a:cubicBezTo>
                  <a:pt x="10538" y="5385"/>
                  <a:pt x="10462" y="5456"/>
                  <a:pt x="10517" y="55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99"/>
                </a:solidFill>
                <a:latin typeface="Verdana"/>
              </a:rPr>
              <a:t>Unit 1 </a:t>
            </a:r>
            <a:r>
              <a:rPr b="1" lang="en-US" sz="4300" spc="-1" strike="noStrike">
                <a:solidFill>
                  <a:srgbClr val="f6fcac"/>
                </a:solidFill>
                <a:latin typeface="Verdana"/>
              </a:rPr>
              <a:t>	</a:t>
            </a:r>
            <a:endParaRPr b="1" lang="en-US" sz="43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438280" y="3200040"/>
            <a:ext cx="49960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Verdana"/>
              </a:rPr>
              <a:t>Course 2 – Lesson 1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Verdana"/>
              </a:rPr>
              <a:t>September 6, 2011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Powers &amp; Exponents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803680" y="5143680"/>
            <a:ext cx="4260600" cy="160200"/>
          </a:xfrm>
          <a:custGeom>
            <a:avLst/>
            <a:gdLst/>
            <a:ahLst/>
            <a:rect l="l" t="t" r="r" b="b"/>
            <a:pathLst>
              <a:path w="11833" h="447">
                <a:moveTo>
                  <a:pt x="7789" y="14288"/>
                </a:moveTo>
                <a:cubicBezTo>
                  <a:pt x="7837" y="14336"/>
                  <a:pt x="7796" y="14436"/>
                  <a:pt x="7913" y="14486"/>
                </a:cubicBezTo>
                <a:cubicBezTo>
                  <a:pt x="8049" y="14544"/>
                  <a:pt x="8288" y="14562"/>
                  <a:pt x="8434" y="14536"/>
                </a:cubicBezTo>
                <a:cubicBezTo>
                  <a:pt x="8613" y="14504"/>
                  <a:pt x="8769" y="14377"/>
                  <a:pt x="8954" y="14387"/>
                </a:cubicBezTo>
                <a:cubicBezTo>
                  <a:pt x="9149" y="14398"/>
                  <a:pt x="9314" y="14473"/>
                  <a:pt x="9525" y="14461"/>
                </a:cubicBezTo>
                <a:cubicBezTo>
                  <a:pt x="9753" y="14448"/>
                  <a:pt x="9918" y="14408"/>
                  <a:pt x="10145" y="14461"/>
                </a:cubicBezTo>
                <a:cubicBezTo>
                  <a:pt x="10387" y="14518"/>
                  <a:pt x="10506" y="14566"/>
                  <a:pt x="10765" y="14536"/>
                </a:cubicBezTo>
                <a:cubicBezTo>
                  <a:pt x="11300" y="14475"/>
                  <a:pt x="11651" y="14594"/>
                  <a:pt x="12179" y="14635"/>
                </a:cubicBezTo>
                <a:cubicBezTo>
                  <a:pt x="12591" y="14667"/>
                  <a:pt x="12987" y="14667"/>
                  <a:pt x="13395" y="14709"/>
                </a:cubicBezTo>
                <a:cubicBezTo>
                  <a:pt x="13628" y="14733"/>
                  <a:pt x="13830" y="14660"/>
                  <a:pt x="14064" y="14635"/>
                </a:cubicBezTo>
                <a:cubicBezTo>
                  <a:pt x="14322" y="14607"/>
                  <a:pt x="14576" y="14595"/>
                  <a:pt x="14833" y="14560"/>
                </a:cubicBezTo>
                <a:cubicBezTo>
                  <a:pt x="15186" y="14512"/>
                  <a:pt x="15526" y="14539"/>
                  <a:pt x="15875" y="14511"/>
                </a:cubicBezTo>
                <a:cubicBezTo>
                  <a:pt x="16158" y="14488"/>
                  <a:pt x="16348" y="14515"/>
                  <a:pt x="16619" y="14560"/>
                </a:cubicBezTo>
                <a:cubicBezTo>
                  <a:pt x="16987" y="14620"/>
                  <a:pt x="17364" y="14481"/>
                  <a:pt x="17735" y="14461"/>
                </a:cubicBezTo>
                <a:cubicBezTo>
                  <a:pt x="17965" y="14448"/>
                  <a:pt x="18199" y="14484"/>
                  <a:pt x="18430" y="14486"/>
                </a:cubicBezTo>
                <a:cubicBezTo>
                  <a:pt x="18811" y="14490"/>
                  <a:pt x="19194" y="14489"/>
                  <a:pt x="19571" y="14511"/>
                </a:cubicBezTo>
                <a:cubicBezTo>
                  <a:pt x="19596" y="14511"/>
                  <a:pt x="19604" y="14511"/>
                  <a:pt x="19621" y="145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343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Power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way to write repeated multiplication that looks like 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5</a:t>
            </a:r>
            <a:r>
              <a:rPr b="0" lang="en-US" sz="3200" spc="-1" strike="noStrike" baseline="30000">
                <a:solidFill>
                  <a:srgbClr val="ff66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Bas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factor part of a power – the 2 in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2</a:t>
            </a:r>
            <a:r>
              <a:rPr b="0" lang="en-US" sz="3200" spc="-1" strike="noStrike" baseline="30000">
                <a:solidFill>
                  <a:srgbClr val="0066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Exponent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art of a power that tells how many times the factor is repeated – the 3 in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16 = 2 x 2 x 2 x 2 = 2</a:t>
            </a:r>
            <a:r>
              <a:rPr b="1" lang="en-US" sz="3200" spc="-1" strike="noStrike" baseline="30000">
                <a:solidFill>
                  <a:srgbClr val="ff66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195444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1973160"/>
            <a:ext cx="1144440" cy="54000"/>
          </a:xfrm>
          <a:custGeom>
            <a:avLst/>
            <a:gdLst/>
            <a:ahLst/>
            <a:rect l="l" t="t" r="r" b="b"/>
            <a:pathLst>
              <a:path w="3176" h="150">
                <a:moveTo>
                  <a:pt x="1463" y="5631"/>
                </a:moveTo>
                <a:cubicBezTo>
                  <a:pt x="1463" y="5606"/>
                  <a:pt x="1463" y="5598"/>
                  <a:pt x="1439" y="5606"/>
                </a:cubicBezTo>
                <a:cubicBezTo>
                  <a:pt x="1473" y="5595"/>
                  <a:pt x="1477" y="5568"/>
                  <a:pt x="1563" y="5581"/>
                </a:cubicBezTo>
                <a:cubicBezTo>
                  <a:pt x="1633" y="5592"/>
                  <a:pt x="1681" y="5617"/>
                  <a:pt x="1761" y="5606"/>
                </a:cubicBezTo>
                <a:cubicBezTo>
                  <a:pt x="1840" y="5595"/>
                  <a:pt x="1905" y="5584"/>
                  <a:pt x="1984" y="5581"/>
                </a:cubicBezTo>
                <a:cubicBezTo>
                  <a:pt x="2047" y="5578"/>
                  <a:pt x="2093" y="5559"/>
                  <a:pt x="2158" y="5556"/>
                </a:cubicBezTo>
                <a:cubicBezTo>
                  <a:pt x="2242" y="5552"/>
                  <a:pt x="2325" y="5549"/>
                  <a:pt x="2406" y="5531"/>
                </a:cubicBezTo>
                <a:cubicBezTo>
                  <a:pt x="2502" y="5510"/>
                  <a:pt x="2552" y="5507"/>
                  <a:pt x="2654" y="5507"/>
                </a:cubicBezTo>
                <a:cubicBezTo>
                  <a:pt x="2782" y="5507"/>
                  <a:pt x="2903" y="5494"/>
                  <a:pt x="3026" y="5482"/>
                </a:cubicBezTo>
                <a:cubicBezTo>
                  <a:pt x="3467" y="5440"/>
                  <a:pt x="3984" y="5453"/>
                  <a:pt x="4415" y="5507"/>
                </a:cubicBezTo>
                <a:cubicBezTo>
                  <a:pt x="4478" y="5515"/>
                  <a:pt x="4550" y="5507"/>
                  <a:pt x="4614" y="5507"/>
                </a:cubicBezTo>
                <a:cubicBezTo>
                  <a:pt x="4582" y="5517"/>
                  <a:pt x="4567" y="5531"/>
                  <a:pt x="4490" y="5531"/>
                </a:cubicBezTo>
                <a:cubicBezTo>
                  <a:pt x="4360" y="5531"/>
                  <a:pt x="4243" y="5540"/>
                  <a:pt x="4118" y="5556"/>
                </a:cubicBezTo>
                <a:cubicBezTo>
                  <a:pt x="3978" y="5574"/>
                  <a:pt x="3781" y="5589"/>
                  <a:pt x="3646" y="5581"/>
                </a:cubicBezTo>
                <a:cubicBezTo>
                  <a:pt x="3576" y="5577"/>
                  <a:pt x="3521" y="5558"/>
                  <a:pt x="3448" y="5556"/>
                </a:cubicBezTo>
                <a:cubicBezTo>
                  <a:pt x="3329" y="5552"/>
                  <a:pt x="3223" y="5531"/>
                  <a:pt x="3101" y="5531"/>
                </a:cubicBezTo>
                <a:cubicBezTo>
                  <a:pt x="2981" y="5531"/>
                  <a:pt x="2872" y="5507"/>
                  <a:pt x="2753" y="5507"/>
                </a:cubicBezTo>
                <a:cubicBezTo>
                  <a:pt x="2624" y="5507"/>
                  <a:pt x="2507" y="5494"/>
                  <a:pt x="2381" y="5482"/>
                </a:cubicBezTo>
                <a:cubicBezTo>
                  <a:pt x="2177" y="5462"/>
                  <a:pt x="1956" y="5483"/>
                  <a:pt x="1761" y="5507"/>
                </a:cubicBezTo>
                <a:cubicBezTo>
                  <a:pt x="1686" y="5516"/>
                  <a:pt x="1634" y="5501"/>
                  <a:pt x="1563" y="5531"/>
                </a:cubicBezTo>
                <a:cubicBezTo>
                  <a:pt x="1533" y="5543"/>
                  <a:pt x="1492" y="5543"/>
                  <a:pt x="1463" y="5556"/>
                </a:cubicBezTo>
                <a:cubicBezTo>
                  <a:pt x="1455" y="5564"/>
                  <a:pt x="1447" y="5573"/>
                  <a:pt x="1439" y="55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1990800"/>
            <a:ext cx="7778880" cy="2768400"/>
          </a:xfrm>
          <a:custGeom>
            <a:avLst/>
            <a:gdLst/>
            <a:ahLst/>
            <a:rect l="l" t="t" r="r" b="b"/>
            <a:pathLst>
              <a:path w="21606" h="7691">
                <a:moveTo>
                  <a:pt x="15304" y="5655"/>
                </a:moveTo>
                <a:cubicBezTo>
                  <a:pt x="15345" y="5636"/>
                  <a:pt x="15362" y="5606"/>
                  <a:pt x="15478" y="5606"/>
                </a:cubicBezTo>
                <a:cubicBezTo>
                  <a:pt x="15615" y="5606"/>
                  <a:pt x="15741" y="5618"/>
                  <a:pt x="15875" y="5631"/>
                </a:cubicBezTo>
                <a:cubicBezTo>
                  <a:pt x="16215" y="5664"/>
                  <a:pt x="16580" y="5635"/>
                  <a:pt x="16917" y="5606"/>
                </a:cubicBezTo>
                <a:cubicBezTo>
                  <a:pt x="17114" y="5589"/>
                  <a:pt x="17316" y="5596"/>
                  <a:pt x="17512" y="5581"/>
                </a:cubicBezTo>
                <a:cubicBezTo>
                  <a:pt x="17709" y="5566"/>
                  <a:pt x="17911" y="5569"/>
                  <a:pt x="18107" y="5556"/>
                </a:cubicBezTo>
                <a:cubicBezTo>
                  <a:pt x="18313" y="5542"/>
                  <a:pt x="18522" y="5535"/>
                  <a:pt x="18728" y="5531"/>
                </a:cubicBezTo>
                <a:cubicBezTo>
                  <a:pt x="18825" y="5529"/>
                  <a:pt x="19150" y="5531"/>
                  <a:pt x="19174" y="5531"/>
                </a:cubicBezTo>
              </a:path>
              <a:path w="21606" h="7691">
                <a:moveTo>
                  <a:pt x="1836" y="7144"/>
                </a:moveTo>
                <a:cubicBezTo>
                  <a:pt x="1874" y="7130"/>
                  <a:pt x="2009" y="7076"/>
                  <a:pt x="2084" y="7069"/>
                </a:cubicBezTo>
                <a:cubicBezTo>
                  <a:pt x="2217" y="7057"/>
                  <a:pt x="2348" y="7061"/>
                  <a:pt x="2480" y="7045"/>
                </a:cubicBezTo>
                <a:cubicBezTo>
                  <a:pt x="2605" y="7030"/>
                  <a:pt x="2726" y="7030"/>
                  <a:pt x="2853" y="7020"/>
                </a:cubicBezTo>
                <a:cubicBezTo>
                  <a:pt x="2994" y="7009"/>
                  <a:pt x="3130" y="6995"/>
                  <a:pt x="3274" y="6995"/>
                </a:cubicBezTo>
                <a:cubicBezTo>
                  <a:pt x="3441" y="6995"/>
                  <a:pt x="3607" y="7014"/>
                  <a:pt x="3770" y="7020"/>
                </a:cubicBezTo>
                <a:cubicBezTo>
                  <a:pt x="4054" y="7031"/>
                  <a:pt x="4332" y="7000"/>
                  <a:pt x="4614" y="6995"/>
                </a:cubicBezTo>
                <a:cubicBezTo>
                  <a:pt x="4799" y="6992"/>
                  <a:pt x="4977" y="6982"/>
                  <a:pt x="5159" y="6970"/>
                </a:cubicBezTo>
                <a:cubicBezTo>
                  <a:pt x="5324" y="6959"/>
                  <a:pt x="5491" y="6956"/>
                  <a:pt x="5655" y="6945"/>
                </a:cubicBezTo>
                <a:cubicBezTo>
                  <a:pt x="6362" y="6897"/>
                  <a:pt x="7082" y="6955"/>
                  <a:pt x="7789" y="6921"/>
                </a:cubicBezTo>
                <a:cubicBezTo>
                  <a:pt x="7945" y="6914"/>
                  <a:pt x="8112" y="6906"/>
                  <a:pt x="8260" y="6896"/>
                </a:cubicBezTo>
                <a:cubicBezTo>
                  <a:pt x="8395" y="6887"/>
                  <a:pt x="8446" y="6879"/>
                  <a:pt x="8533" y="6846"/>
                </a:cubicBezTo>
              </a:path>
              <a:path w="21606" h="7691">
                <a:moveTo>
                  <a:pt x="5159" y="9699"/>
                </a:moveTo>
                <a:cubicBezTo>
                  <a:pt x="5086" y="9735"/>
                  <a:pt x="5012" y="9769"/>
                  <a:pt x="4936" y="9798"/>
                </a:cubicBezTo>
                <a:cubicBezTo>
                  <a:pt x="4835" y="9836"/>
                  <a:pt x="4721" y="9829"/>
                  <a:pt x="4614" y="9847"/>
                </a:cubicBezTo>
                <a:cubicBezTo>
                  <a:pt x="4461" y="9873"/>
                  <a:pt x="4362" y="9863"/>
                  <a:pt x="4217" y="9847"/>
                </a:cubicBezTo>
                <a:cubicBezTo>
                  <a:pt x="4136" y="9838"/>
                  <a:pt x="4071" y="9811"/>
                  <a:pt x="3994" y="9798"/>
                </a:cubicBezTo>
                <a:cubicBezTo>
                  <a:pt x="3905" y="9783"/>
                  <a:pt x="3802" y="9801"/>
                  <a:pt x="3746" y="9773"/>
                </a:cubicBezTo>
                <a:cubicBezTo>
                  <a:pt x="3777" y="9859"/>
                  <a:pt x="3828" y="9923"/>
                  <a:pt x="3894" y="9996"/>
                </a:cubicBezTo>
                <a:cubicBezTo>
                  <a:pt x="3842" y="9917"/>
                  <a:pt x="3789" y="9856"/>
                  <a:pt x="3721" y="9798"/>
                </a:cubicBezTo>
                <a:cubicBezTo>
                  <a:pt x="3810" y="9806"/>
                  <a:pt x="3904" y="9840"/>
                  <a:pt x="3994" y="9823"/>
                </a:cubicBezTo>
                <a:cubicBezTo>
                  <a:pt x="4016" y="9819"/>
                  <a:pt x="4076" y="9760"/>
                  <a:pt x="4093" y="9748"/>
                </a:cubicBezTo>
              </a:path>
              <a:path w="21606" h="7691">
                <a:moveTo>
                  <a:pt x="1315" y="11733"/>
                </a:moveTo>
                <a:cubicBezTo>
                  <a:pt x="1341" y="11709"/>
                  <a:pt x="1364" y="11652"/>
                  <a:pt x="1414" y="11633"/>
                </a:cubicBezTo>
                <a:cubicBezTo>
                  <a:pt x="1503" y="11600"/>
                  <a:pt x="1595" y="11603"/>
                  <a:pt x="1687" y="11584"/>
                </a:cubicBezTo>
                <a:cubicBezTo>
                  <a:pt x="1776" y="11565"/>
                  <a:pt x="1843" y="11561"/>
                  <a:pt x="1935" y="11559"/>
                </a:cubicBezTo>
                <a:cubicBezTo>
                  <a:pt x="2046" y="11557"/>
                  <a:pt x="2147" y="11540"/>
                  <a:pt x="2257" y="11534"/>
                </a:cubicBezTo>
                <a:cubicBezTo>
                  <a:pt x="2346" y="11529"/>
                  <a:pt x="2420" y="11524"/>
                  <a:pt x="2505" y="11509"/>
                </a:cubicBezTo>
                <a:cubicBezTo>
                  <a:pt x="2575" y="11496"/>
                  <a:pt x="2627" y="11494"/>
                  <a:pt x="2704" y="11485"/>
                </a:cubicBezTo>
                <a:cubicBezTo>
                  <a:pt x="2828" y="11470"/>
                  <a:pt x="2951" y="11441"/>
                  <a:pt x="3076" y="11435"/>
                </a:cubicBezTo>
                <a:cubicBezTo>
                  <a:pt x="3361" y="11420"/>
                  <a:pt x="3665" y="11418"/>
                  <a:pt x="3944" y="11460"/>
                </a:cubicBezTo>
                <a:cubicBezTo>
                  <a:pt x="4072" y="11479"/>
                  <a:pt x="4211" y="11500"/>
                  <a:pt x="4341" y="11509"/>
                </a:cubicBezTo>
                <a:cubicBezTo>
                  <a:pt x="4453" y="11516"/>
                  <a:pt x="4551" y="11532"/>
                  <a:pt x="4663" y="11534"/>
                </a:cubicBezTo>
                <a:cubicBezTo>
                  <a:pt x="4972" y="11540"/>
                  <a:pt x="5314" y="11552"/>
                  <a:pt x="5606" y="11509"/>
                </a:cubicBezTo>
                <a:cubicBezTo>
                  <a:pt x="5727" y="11491"/>
                  <a:pt x="5856" y="11470"/>
                  <a:pt x="5978" y="11460"/>
                </a:cubicBezTo>
                <a:cubicBezTo>
                  <a:pt x="6070" y="11452"/>
                  <a:pt x="6160" y="11447"/>
                  <a:pt x="6251" y="11435"/>
                </a:cubicBezTo>
                <a:cubicBezTo>
                  <a:pt x="6336" y="11424"/>
                  <a:pt x="6505" y="11436"/>
                  <a:pt x="6573" y="11385"/>
                </a:cubicBezTo>
                <a:cubicBezTo>
                  <a:pt x="6672" y="11385"/>
                  <a:pt x="6725" y="11326"/>
                  <a:pt x="6747" y="11187"/>
                </a:cubicBezTo>
              </a:path>
              <a:path w="21606" h="7691">
                <a:moveTo>
                  <a:pt x="2059" y="13022"/>
                </a:moveTo>
                <a:cubicBezTo>
                  <a:pt x="2317" y="13010"/>
                  <a:pt x="2569" y="13000"/>
                  <a:pt x="2828" y="12998"/>
                </a:cubicBezTo>
                <a:cubicBezTo>
                  <a:pt x="3557" y="12993"/>
                  <a:pt x="4287" y="12989"/>
                  <a:pt x="5011" y="13022"/>
                </a:cubicBezTo>
                <a:cubicBezTo>
                  <a:pt x="5130" y="13027"/>
                  <a:pt x="5240" y="13044"/>
                  <a:pt x="5358" y="13047"/>
                </a:cubicBezTo>
                <a:cubicBezTo>
                  <a:pt x="5813" y="13057"/>
                  <a:pt x="6266" y="13089"/>
                  <a:pt x="6722" y="13072"/>
                </a:cubicBezTo>
                <a:cubicBezTo>
                  <a:pt x="7085" y="13058"/>
                  <a:pt x="7456" y="13047"/>
                  <a:pt x="7813" y="13047"/>
                </a:cubicBezTo>
                <a:cubicBezTo>
                  <a:pt x="8073" y="13047"/>
                  <a:pt x="8324" y="13036"/>
                  <a:pt x="8582" y="13022"/>
                </a:cubicBezTo>
                <a:cubicBezTo>
                  <a:pt x="8757" y="13012"/>
                  <a:pt x="8929" y="13008"/>
                  <a:pt x="9103" y="12998"/>
                </a:cubicBezTo>
                <a:cubicBezTo>
                  <a:pt x="9277" y="12988"/>
                  <a:pt x="9451" y="12978"/>
                  <a:pt x="9624" y="12973"/>
                </a:cubicBezTo>
                <a:cubicBezTo>
                  <a:pt x="9856" y="12966"/>
                  <a:pt x="10104" y="12973"/>
                  <a:pt x="10344" y="12973"/>
                </a:cubicBezTo>
                <a:cubicBezTo>
                  <a:pt x="10686" y="12973"/>
                  <a:pt x="11023" y="12990"/>
                  <a:pt x="11361" y="12998"/>
                </a:cubicBezTo>
                <a:cubicBezTo>
                  <a:pt x="11810" y="13009"/>
                  <a:pt x="12256" y="13005"/>
                  <a:pt x="12700" y="12998"/>
                </a:cubicBezTo>
                <a:cubicBezTo>
                  <a:pt x="13190" y="12991"/>
                  <a:pt x="13676" y="13020"/>
                  <a:pt x="14163" y="13047"/>
                </a:cubicBezTo>
                <a:cubicBezTo>
                  <a:pt x="14354" y="13058"/>
                  <a:pt x="14543" y="13062"/>
                  <a:pt x="14734" y="13072"/>
                </a:cubicBezTo>
                <a:cubicBezTo>
                  <a:pt x="14948" y="13084"/>
                  <a:pt x="15164" y="13115"/>
                  <a:pt x="15379" y="13122"/>
                </a:cubicBezTo>
                <a:cubicBezTo>
                  <a:pt x="16206" y="13147"/>
                  <a:pt x="17039" y="13122"/>
                  <a:pt x="17859" y="13122"/>
                </a:cubicBezTo>
                <a:cubicBezTo>
                  <a:pt x="18012" y="13122"/>
                  <a:pt x="18171" y="13124"/>
                  <a:pt x="18331" y="13122"/>
                </a:cubicBezTo>
                <a:cubicBezTo>
                  <a:pt x="19166" y="13110"/>
                  <a:pt x="20005" y="13128"/>
                  <a:pt x="20836" y="13146"/>
                </a:cubicBezTo>
                <a:cubicBezTo>
                  <a:pt x="20898" y="13147"/>
                  <a:pt x="20927" y="13121"/>
                  <a:pt x="20985" y="13122"/>
                </a:cubicBezTo>
                <a:cubicBezTo>
                  <a:pt x="21049" y="13124"/>
                  <a:pt x="21130" y="13143"/>
                  <a:pt x="21208" y="13146"/>
                </a:cubicBezTo>
                <a:cubicBezTo>
                  <a:pt x="21334" y="13151"/>
                  <a:pt x="21452" y="13168"/>
                  <a:pt x="21580" y="13171"/>
                </a:cubicBezTo>
                <a:cubicBezTo>
                  <a:pt x="21840" y="13177"/>
                  <a:pt x="22092" y="13179"/>
                  <a:pt x="22349" y="13196"/>
                </a:cubicBezTo>
                <a:cubicBezTo>
                  <a:pt x="22539" y="13209"/>
                  <a:pt x="22728" y="13217"/>
                  <a:pt x="22920" y="132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05680" y="2027160"/>
            <a:ext cx="760320" cy="482760"/>
          </a:xfrm>
          <a:custGeom>
            <a:avLst/>
            <a:gdLst/>
            <a:ahLst/>
            <a:rect l="l" t="t" r="r" b="b"/>
            <a:pathLst>
              <a:path w="2110" h="1340">
                <a:moveTo>
                  <a:pt x="17611" y="6747"/>
                </a:moveTo>
                <a:cubicBezTo>
                  <a:pt x="17576" y="6711"/>
                  <a:pt x="17542" y="6671"/>
                  <a:pt x="17512" y="6648"/>
                </a:cubicBezTo>
                <a:cubicBezTo>
                  <a:pt x="17504" y="6640"/>
                  <a:pt x="17495" y="6631"/>
                  <a:pt x="17487" y="6623"/>
                </a:cubicBezTo>
                <a:cubicBezTo>
                  <a:pt x="17538" y="6623"/>
                  <a:pt x="17546" y="6612"/>
                  <a:pt x="17587" y="6598"/>
                </a:cubicBezTo>
                <a:cubicBezTo>
                  <a:pt x="17630" y="6583"/>
                  <a:pt x="17621" y="6619"/>
                  <a:pt x="17636" y="6573"/>
                </a:cubicBezTo>
                <a:cubicBezTo>
                  <a:pt x="17617" y="6558"/>
                  <a:pt x="17533" y="6496"/>
                  <a:pt x="17512" y="6499"/>
                </a:cubicBezTo>
                <a:cubicBezTo>
                  <a:pt x="17389" y="6517"/>
                  <a:pt x="17414" y="6606"/>
                  <a:pt x="17388" y="6697"/>
                </a:cubicBezTo>
                <a:cubicBezTo>
                  <a:pt x="17363" y="6785"/>
                  <a:pt x="17402" y="6808"/>
                  <a:pt x="17512" y="6821"/>
                </a:cubicBezTo>
                <a:cubicBezTo>
                  <a:pt x="17618" y="6834"/>
                  <a:pt x="17593" y="6813"/>
                  <a:pt x="17661" y="6796"/>
                </a:cubicBezTo>
              </a:path>
              <a:path w="2110" h="1340">
                <a:moveTo>
                  <a:pt x="17735" y="6573"/>
                </a:moveTo>
                <a:cubicBezTo>
                  <a:pt x="17792" y="6613"/>
                  <a:pt x="17834" y="6658"/>
                  <a:pt x="17859" y="6722"/>
                </a:cubicBezTo>
              </a:path>
              <a:path w="2110" h="1340">
                <a:moveTo>
                  <a:pt x="17934" y="6499"/>
                </a:moveTo>
                <a:cubicBezTo>
                  <a:pt x="17908" y="6576"/>
                  <a:pt x="17850" y="6646"/>
                  <a:pt x="17810" y="6722"/>
                </a:cubicBezTo>
                <a:cubicBezTo>
                  <a:pt x="17790" y="6762"/>
                  <a:pt x="17781" y="6769"/>
                  <a:pt x="17785" y="6796"/>
                </a:cubicBezTo>
              </a:path>
              <a:path w="2110" h="1340">
                <a:moveTo>
                  <a:pt x="19025" y="5755"/>
                </a:moveTo>
                <a:cubicBezTo>
                  <a:pt x="19000" y="5715"/>
                  <a:pt x="19014" y="5708"/>
                  <a:pt x="18976" y="5680"/>
                </a:cubicBezTo>
                <a:cubicBezTo>
                  <a:pt x="18921" y="5639"/>
                  <a:pt x="18896" y="5634"/>
                  <a:pt x="18827" y="5631"/>
                </a:cubicBezTo>
                <a:cubicBezTo>
                  <a:pt x="18749" y="5628"/>
                  <a:pt x="18668" y="5648"/>
                  <a:pt x="18604" y="5655"/>
                </a:cubicBezTo>
                <a:cubicBezTo>
                  <a:pt x="18561" y="5660"/>
                  <a:pt x="18511" y="5676"/>
                  <a:pt x="18479" y="5680"/>
                </a:cubicBezTo>
                <a:cubicBezTo>
                  <a:pt x="18407" y="5689"/>
                  <a:pt x="18398" y="5705"/>
                  <a:pt x="18331" y="5730"/>
                </a:cubicBezTo>
                <a:cubicBezTo>
                  <a:pt x="18273" y="5752"/>
                  <a:pt x="18220" y="5773"/>
                  <a:pt x="18157" y="5804"/>
                </a:cubicBezTo>
                <a:cubicBezTo>
                  <a:pt x="18117" y="5824"/>
                  <a:pt x="18070" y="5840"/>
                  <a:pt x="18033" y="5854"/>
                </a:cubicBezTo>
                <a:cubicBezTo>
                  <a:pt x="17994" y="5869"/>
                  <a:pt x="17948" y="5863"/>
                  <a:pt x="17909" y="5879"/>
                </a:cubicBezTo>
                <a:cubicBezTo>
                  <a:pt x="17864" y="5898"/>
                  <a:pt x="17769" y="5932"/>
                  <a:pt x="17735" y="5953"/>
                </a:cubicBezTo>
                <a:cubicBezTo>
                  <a:pt x="17698" y="5975"/>
                  <a:pt x="17652" y="6017"/>
                  <a:pt x="17636" y="6028"/>
                </a:cubicBezTo>
                <a:cubicBezTo>
                  <a:pt x="17575" y="6068"/>
                  <a:pt x="17500" y="6113"/>
                  <a:pt x="17462" y="6176"/>
                </a:cubicBezTo>
                <a:cubicBezTo>
                  <a:pt x="17423" y="6241"/>
                  <a:pt x="17367" y="6307"/>
                  <a:pt x="17338" y="6375"/>
                </a:cubicBezTo>
                <a:cubicBezTo>
                  <a:pt x="17325" y="6405"/>
                  <a:pt x="17292" y="6491"/>
                  <a:pt x="17289" y="6499"/>
                </a:cubicBezTo>
                <a:cubicBezTo>
                  <a:pt x="17267" y="6556"/>
                  <a:pt x="17279" y="6610"/>
                  <a:pt x="17264" y="6672"/>
                </a:cubicBezTo>
                <a:cubicBezTo>
                  <a:pt x="17248" y="6739"/>
                  <a:pt x="17228" y="6797"/>
                  <a:pt x="17239" y="6871"/>
                </a:cubicBezTo>
                <a:cubicBezTo>
                  <a:pt x="17250" y="6944"/>
                  <a:pt x="17405" y="6964"/>
                  <a:pt x="17462" y="6970"/>
                </a:cubicBezTo>
                <a:cubicBezTo>
                  <a:pt x="17624" y="6988"/>
                  <a:pt x="17798" y="6909"/>
                  <a:pt x="17959" y="6896"/>
                </a:cubicBezTo>
                <a:cubicBezTo>
                  <a:pt x="18085" y="6885"/>
                  <a:pt x="18204" y="6871"/>
                  <a:pt x="18331" y="6871"/>
                </a:cubicBezTo>
                <a:cubicBezTo>
                  <a:pt x="18424" y="6871"/>
                  <a:pt x="18509" y="6849"/>
                  <a:pt x="18604" y="6846"/>
                </a:cubicBezTo>
                <a:cubicBezTo>
                  <a:pt x="18683" y="6844"/>
                  <a:pt x="18750" y="6827"/>
                  <a:pt x="18827" y="6821"/>
                </a:cubicBezTo>
                <a:cubicBezTo>
                  <a:pt x="18890" y="6816"/>
                  <a:pt x="18978" y="6829"/>
                  <a:pt x="19025" y="6821"/>
                </a:cubicBezTo>
                <a:cubicBezTo>
                  <a:pt x="19068" y="6814"/>
                  <a:pt x="19112" y="6770"/>
                  <a:pt x="19149" y="6747"/>
                </a:cubicBezTo>
                <a:cubicBezTo>
                  <a:pt x="19233" y="6694"/>
                  <a:pt x="19218" y="6691"/>
                  <a:pt x="19273" y="6598"/>
                </a:cubicBezTo>
                <a:cubicBezTo>
                  <a:pt x="19315" y="6527"/>
                  <a:pt x="19348" y="6460"/>
                  <a:pt x="19348" y="6375"/>
                </a:cubicBezTo>
                <a:cubicBezTo>
                  <a:pt x="19348" y="6336"/>
                  <a:pt x="19331" y="6228"/>
                  <a:pt x="19323" y="6176"/>
                </a:cubicBezTo>
                <a:cubicBezTo>
                  <a:pt x="19312" y="6108"/>
                  <a:pt x="19300" y="6041"/>
                  <a:pt x="19273" y="5978"/>
                </a:cubicBezTo>
                <a:cubicBezTo>
                  <a:pt x="19246" y="5916"/>
                  <a:pt x="19212" y="5880"/>
                  <a:pt x="19174" y="5829"/>
                </a:cubicBezTo>
                <a:cubicBezTo>
                  <a:pt x="19151" y="5798"/>
                  <a:pt x="19116" y="5741"/>
                  <a:pt x="19100" y="5730"/>
                </a:cubicBezTo>
                <a:cubicBezTo>
                  <a:pt x="19058" y="5701"/>
                  <a:pt x="18977" y="5659"/>
                  <a:pt x="18926" y="5655"/>
                </a:cubicBezTo>
                <a:cubicBezTo>
                  <a:pt x="18891" y="5655"/>
                  <a:pt x="18874" y="5660"/>
                  <a:pt x="18852" y="568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83240" y="2347920"/>
            <a:ext cx="2125800" cy="3483000"/>
          </a:xfrm>
          <a:custGeom>
            <a:avLst/>
            <a:gdLst/>
            <a:ahLst/>
            <a:rect l="l" t="t" r="r" b="b"/>
            <a:pathLst>
              <a:path w="5905" h="9674">
                <a:moveTo>
                  <a:pt x="18033" y="6548"/>
                </a:moveTo>
                <a:cubicBezTo>
                  <a:pt x="18033" y="6524"/>
                  <a:pt x="18033" y="6516"/>
                  <a:pt x="18058" y="6524"/>
                </a:cubicBezTo>
              </a:path>
              <a:path w="5905" h="9674">
                <a:moveTo>
                  <a:pt x="18008" y="6747"/>
                </a:moveTo>
                <a:lnTo>
                  <a:pt x="18008" y="6747"/>
                </a:lnTo>
                <a:lnTo>
                  <a:pt x="18008" y="6747"/>
                </a:lnTo>
              </a:path>
              <a:path w="5905" h="9674">
                <a:moveTo>
                  <a:pt x="22920" y="15900"/>
                </a:moveTo>
                <a:cubicBezTo>
                  <a:pt x="22869" y="15971"/>
                  <a:pt x="22854" y="16007"/>
                  <a:pt x="22845" y="16098"/>
                </a:cubicBezTo>
                <a:cubicBezTo>
                  <a:pt x="22873" y="16100"/>
                  <a:pt x="23136" y="16083"/>
                  <a:pt x="23068" y="15974"/>
                </a:cubicBezTo>
                <a:cubicBezTo>
                  <a:pt x="23052" y="15966"/>
                  <a:pt x="23035" y="15957"/>
                  <a:pt x="23019" y="15949"/>
                </a:cubicBezTo>
              </a:path>
              <a:path w="5905" h="9674">
                <a:moveTo>
                  <a:pt x="23267" y="15677"/>
                </a:moveTo>
                <a:cubicBezTo>
                  <a:pt x="23271" y="15775"/>
                  <a:pt x="23273" y="16045"/>
                  <a:pt x="23316" y="16049"/>
                </a:cubicBezTo>
              </a:path>
              <a:path w="5905" h="9674">
                <a:moveTo>
                  <a:pt x="23440" y="15304"/>
                </a:moveTo>
                <a:cubicBezTo>
                  <a:pt x="23687" y="15501"/>
                  <a:pt x="24029" y="15703"/>
                  <a:pt x="23862" y="16073"/>
                </a:cubicBezTo>
                <a:cubicBezTo>
                  <a:pt x="23809" y="16190"/>
                  <a:pt x="23707" y="16180"/>
                  <a:pt x="23614" y="1617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6240" y="3133800"/>
            <a:ext cx="1625760" cy="287280"/>
          </a:xfrm>
          <a:custGeom>
            <a:avLst/>
            <a:gdLst/>
            <a:ahLst/>
            <a:rect l="l" t="t" r="r" b="b"/>
            <a:pathLst>
              <a:path w="4515" h="795">
                <a:moveTo>
                  <a:pt x="11435" y="9227"/>
                </a:moveTo>
                <a:cubicBezTo>
                  <a:pt x="11571" y="9240"/>
                  <a:pt x="11634" y="9238"/>
                  <a:pt x="11733" y="9327"/>
                </a:cubicBezTo>
                <a:cubicBezTo>
                  <a:pt x="11624" y="9425"/>
                  <a:pt x="11611" y="9419"/>
                  <a:pt x="11460" y="9401"/>
                </a:cubicBezTo>
              </a:path>
              <a:path w="4515" h="795">
                <a:moveTo>
                  <a:pt x="12353" y="9029"/>
                </a:moveTo>
                <a:lnTo>
                  <a:pt x="12353" y="9029"/>
                </a:lnTo>
                <a:lnTo>
                  <a:pt x="12353" y="9029"/>
                </a:lnTo>
              </a:path>
              <a:path w="4515" h="795">
                <a:moveTo>
                  <a:pt x="12353" y="9029"/>
                </a:moveTo>
                <a:lnTo>
                  <a:pt x="12353" y="9029"/>
                </a:lnTo>
              </a:path>
              <a:path w="4515" h="795">
                <a:moveTo>
                  <a:pt x="12998" y="9178"/>
                </a:moveTo>
                <a:cubicBezTo>
                  <a:pt x="13091" y="9169"/>
                  <a:pt x="13176" y="9158"/>
                  <a:pt x="13271" y="9153"/>
                </a:cubicBezTo>
              </a:path>
              <a:path w="4515" h="795">
                <a:moveTo>
                  <a:pt x="14362" y="9252"/>
                </a:moveTo>
                <a:cubicBezTo>
                  <a:pt x="14403" y="9333"/>
                  <a:pt x="14420" y="9346"/>
                  <a:pt x="14412" y="9401"/>
                </a:cubicBezTo>
              </a:path>
              <a:path w="4515" h="795">
                <a:moveTo>
                  <a:pt x="14412" y="9401"/>
                </a:moveTo>
                <a:lnTo>
                  <a:pt x="14412" y="9401"/>
                </a:lnTo>
              </a:path>
              <a:path w="4515" h="795">
                <a:moveTo>
                  <a:pt x="15379" y="8706"/>
                </a:moveTo>
                <a:cubicBezTo>
                  <a:pt x="15579" y="8806"/>
                  <a:pt x="15984" y="8984"/>
                  <a:pt x="15949" y="9277"/>
                </a:cubicBezTo>
                <a:cubicBezTo>
                  <a:pt x="15920" y="9523"/>
                  <a:pt x="15655" y="9475"/>
                  <a:pt x="15503" y="9475"/>
                </a:cubicBezTo>
              </a:path>
              <a:path w="4515" h="795">
                <a:moveTo>
                  <a:pt x="14436" y="8954"/>
                </a:moveTo>
                <a:cubicBezTo>
                  <a:pt x="14428" y="8954"/>
                  <a:pt x="14420" y="8954"/>
                  <a:pt x="14412" y="895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760" y="3054240"/>
            <a:ext cx="938160" cy="561960"/>
          </a:xfrm>
          <a:custGeom>
            <a:avLst/>
            <a:gdLst/>
            <a:ahLst/>
            <a:rect l="l" t="t" r="r" b="b"/>
            <a:pathLst>
              <a:path w="2605" h="1564">
                <a:moveTo>
                  <a:pt x="1191" y="8483"/>
                </a:moveTo>
                <a:cubicBezTo>
                  <a:pt x="1262" y="8512"/>
                  <a:pt x="1336" y="8545"/>
                  <a:pt x="1414" y="8558"/>
                </a:cubicBezTo>
                <a:cubicBezTo>
                  <a:pt x="1512" y="8574"/>
                  <a:pt x="1617" y="8567"/>
                  <a:pt x="1712" y="8582"/>
                </a:cubicBezTo>
                <a:cubicBezTo>
                  <a:pt x="1807" y="8597"/>
                  <a:pt x="1913" y="8604"/>
                  <a:pt x="2009" y="8607"/>
                </a:cubicBezTo>
                <a:cubicBezTo>
                  <a:pt x="2210" y="8613"/>
                  <a:pt x="2411" y="8608"/>
                  <a:pt x="2604" y="8632"/>
                </a:cubicBezTo>
                <a:cubicBezTo>
                  <a:pt x="2701" y="8644"/>
                  <a:pt x="2805" y="8654"/>
                  <a:pt x="2902" y="8657"/>
                </a:cubicBezTo>
                <a:cubicBezTo>
                  <a:pt x="2984" y="8660"/>
                  <a:pt x="3045" y="8679"/>
                  <a:pt x="3125" y="8682"/>
                </a:cubicBezTo>
                <a:cubicBezTo>
                  <a:pt x="3295" y="8689"/>
                  <a:pt x="3456" y="8684"/>
                  <a:pt x="3621" y="8706"/>
                </a:cubicBezTo>
                <a:cubicBezTo>
                  <a:pt x="3678" y="8714"/>
                  <a:pt x="3688" y="8706"/>
                  <a:pt x="3746" y="8706"/>
                </a:cubicBezTo>
                <a:cubicBezTo>
                  <a:pt x="3702" y="8692"/>
                  <a:pt x="3634" y="8662"/>
                  <a:pt x="3597" y="8657"/>
                </a:cubicBezTo>
                <a:cubicBezTo>
                  <a:pt x="3499" y="8643"/>
                  <a:pt x="3400" y="8616"/>
                  <a:pt x="3299" y="8607"/>
                </a:cubicBezTo>
                <a:cubicBezTo>
                  <a:pt x="3149" y="8594"/>
                  <a:pt x="3001" y="8586"/>
                  <a:pt x="2853" y="8558"/>
                </a:cubicBezTo>
                <a:cubicBezTo>
                  <a:pt x="2696" y="8528"/>
                  <a:pt x="2584" y="8545"/>
                  <a:pt x="2431" y="8558"/>
                </a:cubicBezTo>
                <a:cubicBezTo>
                  <a:pt x="2299" y="8569"/>
                  <a:pt x="2164" y="8557"/>
                  <a:pt x="2034" y="8582"/>
                </a:cubicBezTo>
                <a:cubicBezTo>
                  <a:pt x="1924" y="8603"/>
                  <a:pt x="1825" y="8607"/>
                  <a:pt x="1712" y="8607"/>
                </a:cubicBezTo>
                <a:cubicBezTo>
                  <a:pt x="1613" y="8607"/>
                  <a:pt x="1497" y="8603"/>
                  <a:pt x="1439" y="8632"/>
                </a:cubicBezTo>
              </a:path>
              <a:path w="2605" h="1564">
                <a:moveTo>
                  <a:pt x="2828" y="10046"/>
                </a:moveTo>
                <a:cubicBezTo>
                  <a:pt x="2768" y="10046"/>
                  <a:pt x="2773" y="10027"/>
                  <a:pt x="2828" y="10021"/>
                </a:cubicBezTo>
                <a:cubicBezTo>
                  <a:pt x="2911" y="10012"/>
                  <a:pt x="3004" y="10007"/>
                  <a:pt x="3076" y="9996"/>
                </a:cubicBezTo>
                <a:cubicBezTo>
                  <a:pt x="3167" y="9982"/>
                  <a:pt x="3261" y="9986"/>
                  <a:pt x="3349" y="9971"/>
                </a:cubicBezTo>
                <a:cubicBezTo>
                  <a:pt x="3457" y="9953"/>
                  <a:pt x="3565" y="9971"/>
                  <a:pt x="3671" y="9947"/>
                </a:cubicBezTo>
                <a:cubicBezTo>
                  <a:pt x="3693" y="9942"/>
                  <a:pt x="3723" y="9947"/>
                  <a:pt x="3746" y="9947"/>
                </a:cubicBezTo>
                <a:cubicBezTo>
                  <a:pt x="3633" y="9963"/>
                  <a:pt x="3539" y="9971"/>
                  <a:pt x="3423" y="9971"/>
                </a:cubicBezTo>
                <a:cubicBezTo>
                  <a:pt x="3319" y="9971"/>
                  <a:pt x="3230" y="9996"/>
                  <a:pt x="3125" y="9996"/>
                </a:cubicBezTo>
                <a:cubicBezTo>
                  <a:pt x="3043" y="9996"/>
                  <a:pt x="2979" y="10017"/>
                  <a:pt x="2902" y="10021"/>
                </a:cubicBezTo>
                <a:cubicBezTo>
                  <a:pt x="2853" y="10021"/>
                  <a:pt x="2836" y="10021"/>
                  <a:pt x="2803" y="10021"/>
                </a:cubicBezTo>
                <a:cubicBezTo>
                  <a:pt x="2792" y="10021"/>
                  <a:pt x="2689" y="10021"/>
                  <a:pt x="2753" y="10021"/>
                </a:cubicBezTo>
                <a:cubicBezTo>
                  <a:pt x="2920" y="10021"/>
                  <a:pt x="3084" y="9983"/>
                  <a:pt x="3249" y="9971"/>
                </a:cubicBezTo>
                <a:cubicBezTo>
                  <a:pt x="3422" y="9958"/>
                  <a:pt x="3612" y="9993"/>
                  <a:pt x="3770" y="9947"/>
                </a:cubicBezTo>
                <a:cubicBezTo>
                  <a:pt x="3778" y="9947"/>
                  <a:pt x="3787" y="9947"/>
                  <a:pt x="3795" y="994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6160" y="3106800"/>
            <a:ext cx="3679920" cy="411120"/>
          </a:xfrm>
          <a:custGeom>
            <a:avLst/>
            <a:gdLst/>
            <a:ahLst/>
            <a:rect l="l" t="t" r="r" b="b"/>
            <a:pathLst>
              <a:path w="10221" h="1142">
                <a:moveTo>
                  <a:pt x="7813" y="8706"/>
                </a:moveTo>
                <a:cubicBezTo>
                  <a:pt x="7974" y="8706"/>
                  <a:pt x="8132" y="8711"/>
                  <a:pt x="8285" y="8731"/>
                </a:cubicBezTo>
                <a:cubicBezTo>
                  <a:pt x="8422" y="8749"/>
                  <a:pt x="8570" y="8741"/>
                  <a:pt x="8706" y="8756"/>
                </a:cubicBezTo>
                <a:cubicBezTo>
                  <a:pt x="8774" y="8763"/>
                  <a:pt x="8842" y="8773"/>
                  <a:pt x="8905" y="8781"/>
                </a:cubicBezTo>
                <a:cubicBezTo>
                  <a:pt x="9010" y="8794"/>
                  <a:pt x="9122" y="8802"/>
                  <a:pt x="9227" y="8806"/>
                </a:cubicBezTo>
                <a:cubicBezTo>
                  <a:pt x="9420" y="8813"/>
                  <a:pt x="9608" y="8806"/>
                  <a:pt x="9798" y="8830"/>
                </a:cubicBezTo>
                <a:cubicBezTo>
                  <a:pt x="10016" y="8858"/>
                  <a:pt x="10261" y="8830"/>
                  <a:pt x="10468" y="8855"/>
                </a:cubicBezTo>
                <a:cubicBezTo>
                  <a:pt x="10550" y="8865"/>
                  <a:pt x="10617" y="8840"/>
                  <a:pt x="10691" y="8830"/>
                </a:cubicBezTo>
                <a:cubicBezTo>
                  <a:pt x="10723" y="8826"/>
                  <a:pt x="10757" y="8833"/>
                  <a:pt x="10790" y="8830"/>
                </a:cubicBezTo>
                <a:cubicBezTo>
                  <a:pt x="10682" y="8808"/>
                  <a:pt x="10575" y="8797"/>
                  <a:pt x="10468" y="8781"/>
                </a:cubicBezTo>
                <a:cubicBezTo>
                  <a:pt x="10270" y="8752"/>
                  <a:pt x="10070" y="8755"/>
                  <a:pt x="9872" y="8731"/>
                </a:cubicBezTo>
                <a:cubicBezTo>
                  <a:pt x="9700" y="8710"/>
                  <a:pt x="9521" y="8683"/>
                  <a:pt x="9351" y="8657"/>
                </a:cubicBezTo>
                <a:cubicBezTo>
                  <a:pt x="9232" y="8639"/>
                  <a:pt x="9125" y="8632"/>
                  <a:pt x="9004" y="8632"/>
                </a:cubicBezTo>
                <a:cubicBezTo>
                  <a:pt x="8821" y="8632"/>
                  <a:pt x="8625" y="8640"/>
                  <a:pt x="8458" y="8657"/>
                </a:cubicBezTo>
                <a:cubicBezTo>
                  <a:pt x="8399" y="8663"/>
                  <a:pt x="8366" y="8680"/>
                  <a:pt x="8310" y="8682"/>
                </a:cubicBezTo>
                <a:cubicBezTo>
                  <a:pt x="8249" y="8685"/>
                  <a:pt x="8216" y="8693"/>
                  <a:pt x="8161" y="8706"/>
                </a:cubicBezTo>
              </a:path>
              <a:path w="10221" h="1142">
                <a:moveTo>
                  <a:pt x="5407" y="8930"/>
                </a:moveTo>
                <a:cubicBezTo>
                  <a:pt x="5427" y="9104"/>
                  <a:pt x="5462" y="9277"/>
                  <a:pt x="5482" y="9451"/>
                </a:cubicBezTo>
                <a:cubicBezTo>
                  <a:pt x="5482" y="9492"/>
                  <a:pt x="5474" y="9508"/>
                  <a:pt x="5507" y="9500"/>
                </a:cubicBezTo>
              </a:path>
              <a:path w="10221" h="1142">
                <a:moveTo>
                  <a:pt x="5953" y="9227"/>
                </a:moveTo>
                <a:cubicBezTo>
                  <a:pt x="5892" y="9146"/>
                  <a:pt x="5878" y="9145"/>
                  <a:pt x="5779" y="9128"/>
                </a:cubicBezTo>
                <a:cubicBezTo>
                  <a:pt x="5736" y="9217"/>
                  <a:pt x="5631" y="9372"/>
                  <a:pt x="5779" y="9426"/>
                </a:cubicBezTo>
                <a:cubicBezTo>
                  <a:pt x="5906" y="9472"/>
                  <a:pt x="5923" y="9326"/>
                  <a:pt x="5953" y="9252"/>
                </a:cubicBezTo>
                <a:cubicBezTo>
                  <a:pt x="6023" y="9252"/>
                  <a:pt x="6003" y="9425"/>
                  <a:pt x="6052" y="9376"/>
                </a:cubicBezTo>
                <a:cubicBezTo>
                  <a:pt x="6052" y="9360"/>
                  <a:pt x="6052" y="9343"/>
                  <a:pt x="6052" y="9327"/>
                </a:cubicBezTo>
              </a:path>
              <a:path w="10221" h="1142">
                <a:moveTo>
                  <a:pt x="6152" y="9252"/>
                </a:moveTo>
                <a:cubicBezTo>
                  <a:pt x="6168" y="9269"/>
                  <a:pt x="6185" y="9285"/>
                  <a:pt x="6201" y="9302"/>
                </a:cubicBezTo>
                <a:cubicBezTo>
                  <a:pt x="6178" y="9227"/>
                  <a:pt x="6126" y="9131"/>
                  <a:pt x="6226" y="9128"/>
                </a:cubicBezTo>
                <a:cubicBezTo>
                  <a:pt x="6267" y="9128"/>
                  <a:pt x="6309" y="9128"/>
                  <a:pt x="6350" y="9128"/>
                </a:cubicBezTo>
              </a:path>
              <a:path w="10221" h="1142">
                <a:moveTo>
                  <a:pt x="6548" y="9153"/>
                </a:moveTo>
                <a:cubicBezTo>
                  <a:pt x="6436" y="9153"/>
                  <a:pt x="6375" y="9195"/>
                  <a:pt x="6375" y="9327"/>
                </a:cubicBezTo>
                <a:cubicBezTo>
                  <a:pt x="6403" y="9354"/>
                  <a:pt x="6417" y="9362"/>
                  <a:pt x="6449" y="9351"/>
                </a:cubicBezTo>
                <a:cubicBezTo>
                  <a:pt x="6490" y="9275"/>
                  <a:pt x="6511" y="9241"/>
                  <a:pt x="6524" y="9153"/>
                </a:cubicBezTo>
                <a:cubicBezTo>
                  <a:pt x="6571" y="9278"/>
                  <a:pt x="6725" y="9424"/>
                  <a:pt x="6697" y="9575"/>
                </a:cubicBezTo>
                <a:cubicBezTo>
                  <a:pt x="6661" y="9769"/>
                  <a:pt x="6490" y="9755"/>
                  <a:pt x="6350" y="9773"/>
                </a:cubicBezTo>
              </a:path>
              <a:path w="10221" h="1142">
                <a:moveTo>
                  <a:pt x="6672" y="9227"/>
                </a:moveTo>
                <a:cubicBezTo>
                  <a:pt x="6712" y="9217"/>
                  <a:pt x="6799" y="9191"/>
                  <a:pt x="6772" y="9128"/>
                </a:cubicBezTo>
                <a:cubicBezTo>
                  <a:pt x="6764" y="9128"/>
                  <a:pt x="6755" y="9128"/>
                  <a:pt x="6747" y="9128"/>
                </a:cubicBezTo>
                <a:cubicBezTo>
                  <a:pt x="6647" y="9173"/>
                  <a:pt x="6517" y="9325"/>
                  <a:pt x="6672" y="9426"/>
                </a:cubicBezTo>
                <a:cubicBezTo>
                  <a:pt x="6789" y="9502"/>
                  <a:pt x="6912" y="9322"/>
                  <a:pt x="6970" y="9252"/>
                </a:cubicBezTo>
                <a:cubicBezTo>
                  <a:pt x="6970" y="9349"/>
                  <a:pt x="6936" y="9327"/>
                  <a:pt x="6945" y="9252"/>
                </a:cubicBezTo>
                <a:cubicBezTo>
                  <a:pt x="6965" y="9151"/>
                  <a:pt x="6953" y="9120"/>
                  <a:pt x="7020" y="9103"/>
                </a:cubicBezTo>
              </a:path>
              <a:path w="10221" h="1142">
                <a:moveTo>
                  <a:pt x="7491" y="9153"/>
                </a:moveTo>
                <a:cubicBezTo>
                  <a:pt x="7525" y="9209"/>
                  <a:pt x="7615" y="9451"/>
                  <a:pt x="7615" y="9351"/>
                </a:cubicBezTo>
                <a:cubicBezTo>
                  <a:pt x="7615" y="9259"/>
                  <a:pt x="7626" y="9099"/>
                  <a:pt x="7764" y="9153"/>
                </a:cubicBezTo>
                <a:cubicBezTo>
                  <a:pt x="7869" y="9194"/>
                  <a:pt x="7938" y="9294"/>
                  <a:pt x="7938" y="9401"/>
                </a:cubicBezTo>
              </a:path>
              <a:path w="10221" h="1142">
                <a:moveTo>
                  <a:pt x="8037" y="9153"/>
                </a:moveTo>
                <a:cubicBezTo>
                  <a:pt x="8037" y="9243"/>
                  <a:pt x="8054" y="9367"/>
                  <a:pt x="8136" y="9426"/>
                </a:cubicBezTo>
                <a:cubicBezTo>
                  <a:pt x="8153" y="9426"/>
                  <a:pt x="8169" y="9426"/>
                  <a:pt x="8186" y="9426"/>
                </a:cubicBezTo>
                <a:cubicBezTo>
                  <a:pt x="8230" y="9354"/>
                  <a:pt x="8285" y="9198"/>
                  <a:pt x="8285" y="9203"/>
                </a:cubicBezTo>
                <a:cubicBezTo>
                  <a:pt x="8318" y="9308"/>
                  <a:pt x="8329" y="9356"/>
                  <a:pt x="8409" y="9426"/>
                </a:cubicBezTo>
              </a:path>
              <a:path w="10221" h="1142">
                <a:moveTo>
                  <a:pt x="8533" y="9178"/>
                </a:moveTo>
                <a:cubicBezTo>
                  <a:pt x="8533" y="9261"/>
                  <a:pt x="8535" y="9295"/>
                  <a:pt x="8558" y="9351"/>
                </a:cubicBezTo>
                <a:cubicBezTo>
                  <a:pt x="8558" y="9425"/>
                  <a:pt x="8552" y="9231"/>
                  <a:pt x="8558" y="9227"/>
                </a:cubicBezTo>
                <a:cubicBezTo>
                  <a:pt x="8676" y="9155"/>
                  <a:pt x="8771" y="9331"/>
                  <a:pt x="8806" y="9401"/>
                </a:cubicBezTo>
                <a:cubicBezTo>
                  <a:pt x="8793" y="9355"/>
                  <a:pt x="8703" y="9211"/>
                  <a:pt x="8806" y="9178"/>
                </a:cubicBezTo>
                <a:cubicBezTo>
                  <a:pt x="8933" y="9138"/>
                  <a:pt x="8880" y="9325"/>
                  <a:pt x="8880" y="9401"/>
                </a:cubicBezTo>
              </a:path>
              <a:path w="10221" h="1142">
                <a:moveTo>
                  <a:pt x="9029" y="9054"/>
                </a:moveTo>
                <a:cubicBezTo>
                  <a:pt x="9052" y="9195"/>
                  <a:pt x="9092" y="9306"/>
                  <a:pt x="9178" y="9426"/>
                </a:cubicBezTo>
                <a:cubicBezTo>
                  <a:pt x="9228" y="9236"/>
                  <a:pt x="9236" y="9217"/>
                  <a:pt x="9426" y="9277"/>
                </a:cubicBezTo>
                <a:cubicBezTo>
                  <a:pt x="9436" y="9435"/>
                  <a:pt x="9377" y="9629"/>
                  <a:pt x="9153" y="9525"/>
                </a:cubicBezTo>
                <a:cubicBezTo>
                  <a:pt x="9136" y="9500"/>
                  <a:pt x="9120" y="9476"/>
                  <a:pt x="9103" y="9451"/>
                </a:cubicBezTo>
              </a:path>
              <a:path w="10221" h="1142">
                <a:moveTo>
                  <a:pt x="9500" y="9351"/>
                </a:moveTo>
                <a:cubicBezTo>
                  <a:pt x="9574" y="9344"/>
                  <a:pt x="9726" y="9344"/>
                  <a:pt x="9699" y="9227"/>
                </a:cubicBezTo>
                <a:cubicBezTo>
                  <a:pt x="9691" y="9219"/>
                  <a:pt x="9682" y="9211"/>
                  <a:pt x="9674" y="9203"/>
                </a:cubicBezTo>
                <a:cubicBezTo>
                  <a:pt x="9604" y="9243"/>
                  <a:pt x="9384" y="9451"/>
                  <a:pt x="9575" y="9525"/>
                </a:cubicBezTo>
                <a:cubicBezTo>
                  <a:pt x="9765" y="9599"/>
                  <a:pt x="9849" y="9288"/>
                  <a:pt x="9947" y="9401"/>
                </a:cubicBezTo>
                <a:cubicBezTo>
                  <a:pt x="9947" y="9436"/>
                  <a:pt x="9942" y="9435"/>
                  <a:pt x="9922" y="9376"/>
                </a:cubicBezTo>
                <a:cubicBezTo>
                  <a:pt x="9996" y="9219"/>
                  <a:pt x="10042" y="9188"/>
                  <a:pt x="10195" y="9103"/>
                </a:cubicBezTo>
              </a:path>
              <a:path w="10221" h="1142">
                <a:moveTo>
                  <a:pt x="11187" y="8954"/>
                </a:moveTo>
                <a:cubicBezTo>
                  <a:pt x="11187" y="8821"/>
                  <a:pt x="11094" y="9148"/>
                  <a:pt x="11063" y="9277"/>
                </a:cubicBezTo>
                <a:cubicBezTo>
                  <a:pt x="11052" y="9322"/>
                  <a:pt x="11050" y="9671"/>
                  <a:pt x="11212" y="9550"/>
                </a:cubicBezTo>
                <a:cubicBezTo>
                  <a:pt x="11228" y="9525"/>
                  <a:pt x="11245" y="9500"/>
                  <a:pt x="11261" y="9475"/>
                </a:cubicBezTo>
              </a:path>
              <a:path w="10221" h="1142">
                <a:moveTo>
                  <a:pt x="11435" y="9277"/>
                </a:moveTo>
                <a:cubicBezTo>
                  <a:pt x="11482" y="9395"/>
                  <a:pt x="11525" y="9737"/>
                  <a:pt x="11584" y="9624"/>
                </a:cubicBezTo>
                <a:cubicBezTo>
                  <a:pt x="11584" y="9608"/>
                  <a:pt x="11584" y="9591"/>
                  <a:pt x="11584" y="9575"/>
                </a:cubicBezTo>
              </a:path>
              <a:path w="10221" h="1142">
                <a:moveTo>
                  <a:pt x="11881" y="9227"/>
                </a:moveTo>
                <a:cubicBezTo>
                  <a:pt x="11925" y="9315"/>
                  <a:pt x="11931" y="9338"/>
                  <a:pt x="11981" y="9376"/>
                </a:cubicBezTo>
                <a:cubicBezTo>
                  <a:pt x="11981" y="9302"/>
                  <a:pt x="11967" y="9192"/>
                  <a:pt x="12055" y="9153"/>
                </a:cubicBezTo>
                <a:cubicBezTo>
                  <a:pt x="12119" y="9125"/>
                  <a:pt x="12292" y="9092"/>
                  <a:pt x="12353" y="9153"/>
                </a:cubicBezTo>
                <a:cubicBezTo>
                  <a:pt x="12407" y="9207"/>
                  <a:pt x="12433" y="9291"/>
                  <a:pt x="12477" y="9351"/>
                </a:cubicBezTo>
              </a:path>
              <a:path w="10221" h="1142">
                <a:moveTo>
                  <a:pt x="12626" y="9203"/>
                </a:moveTo>
                <a:cubicBezTo>
                  <a:pt x="12652" y="9277"/>
                  <a:pt x="12675" y="9315"/>
                  <a:pt x="12700" y="9376"/>
                </a:cubicBezTo>
                <a:cubicBezTo>
                  <a:pt x="12684" y="9298"/>
                  <a:pt x="12667" y="9254"/>
                  <a:pt x="12700" y="9178"/>
                </a:cubicBezTo>
                <a:cubicBezTo>
                  <a:pt x="12844" y="9221"/>
                  <a:pt x="12870" y="9288"/>
                  <a:pt x="12923" y="9426"/>
                </a:cubicBezTo>
              </a:path>
              <a:path w="10221" h="1142">
                <a:moveTo>
                  <a:pt x="12973" y="8954"/>
                </a:moveTo>
                <a:cubicBezTo>
                  <a:pt x="13021" y="9085"/>
                  <a:pt x="13078" y="9313"/>
                  <a:pt x="13196" y="9401"/>
                </a:cubicBezTo>
                <a:cubicBezTo>
                  <a:pt x="13196" y="9393"/>
                  <a:pt x="13196" y="9384"/>
                  <a:pt x="13196" y="9376"/>
                </a:cubicBezTo>
              </a:path>
              <a:path w="10221" h="1142">
                <a:moveTo>
                  <a:pt x="13940" y="9103"/>
                </a:moveTo>
                <a:cubicBezTo>
                  <a:pt x="13867" y="9103"/>
                  <a:pt x="13843" y="9102"/>
                  <a:pt x="13816" y="9153"/>
                </a:cubicBezTo>
                <a:cubicBezTo>
                  <a:pt x="13898" y="9187"/>
                  <a:pt x="14164" y="9224"/>
                  <a:pt x="14089" y="9376"/>
                </a:cubicBezTo>
                <a:cubicBezTo>
                  <a:pt x="14005" y="9433"/>
                  <a:pt x="13968" y="9447"/>
                  <a:pt x="13891" y="9401"/>
                </a:cubicBezTo>
              </a:path>
              <a:path w="10221" h="1142">
                <a:moveTo>
                  <a:pt x="14585" y="9128"/>
                </a:moveTo>
                <a:cubicBezTo>
                  <a:pt x="14643" y="9128"/>
                  <a:pt x="14701" y="9128"/>
                  <a:pt x="14759" y="9128"/>
                </a:cubicBezTo>
                <a:cubicBezTo>
                  <a:pt x="14740" y="9263"/>
                  <a:pt x="14706" y="9313"/>
                  <a:pt x="14610" y="9401"/>
                </a:cubicBezTo>
                <a:cubicBezTo>
                  <a:pt x="14728" y="9419"/>
                  <a:pt x="14751" y="9409"/>
                  <a:pt x="14858" y="9351"/>
                </a:cubicBezTo>
              </a:path>
              <a:path w="10221" h="1142">
                <a:moveTo>
                  <a:pt x="14982" y="9252"/>
                </a:moveTo>
                <a:cubicBezTo>
                  <a:pt x="15078" y="9223"/>
                  <a:pt x="15181" y="9205"/>
                  <a:pt x="15280" y="9178"/>
                </a:cubicBezTo>
                <a:cubicBezTo>
                  <a:pt x="15304" y="9178"/>
                  <a:pt x="15312" y="9178"/>
                  <a:pt x="15304" y="9153"/>
                </a:cubicBezTo>
                <a:cubicBezTo>
                  <a:pt x="15184" y="9125"/>
                  <a:pt x="15031" y="9101"/>
                  <a:pt x="15007" y="9277"/>
                </a:cubicBezTo>
                <a:cubicBezTo>
                  <a:pt x="14977" y="9501"/>
                  <a:pt x="15400" y="9395"/>
                  <a:pt x="15478" y="9351"/>
                </a:cubicBezTo>
                <a:cubicBezTo>
                  <a:pt x="15528" y="9310"/>
                  <a:pt x="15577" y="9268"/>
                  <a:pt x="15627" y="922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7080" y="5160960"/>
            <a:ext cx="490680" cy="81000"/>
          </a:xfrm>
          <a:custGeom>
            <a:avLst/>
            <a:gdLst/>
            <a:ahLst/>
            <a:rect l="l" t="t" r="r" b="b"/>
            <a:pathLst>
              <a:path w="1365" h="224">
                <a:moveTo>
                  <a:pt x="6102" y="14461"/>
                </a:moveTo>
                <a:cubicBezTo>
                  <a:pt x="6123" y="14468"/>
                  <a:pt x="6140" y="14506"/>
                  <a:pt x="6176" y="14486"/>
                </a:cubicBezTo>
                <a:cubicBezTo>
                  <a:pt x="6225" y="14458"/>
                  <a:pt x="6348" y="14463"/>
                  <a:pt x="6424" y="14461"/>
                </a:cubicBezTo>
                <a:cubicBezTo>
                  <a:pt x="6535" y="14458"/>
                  <a:pt x="6635" y="14486"/>
                  <a:pt x="6747" y="14486"/>
                </a:cubicBezTo>
                <a:cubicBezTo>
                  <a:pt x="6845" y="14486"/>
                  <a:pt x="6926" y="14498"/>
                  <a:pt x="7020" y="14511"/>
                </a:cubicBezTo>
                <a:cubicBezTo>
                  <a:pt x="7123" y="14525"/>
                  <a:pt x="7218" y="14513"/>
                  <a:pt x="7317" y="14536"/>
                </a:cubicBezTo>
                <a:cubicBezTo>
                  <a:pt x="7363" y="14547"/>
                  <a:pt x="7400" y="14547"/>
                  <a:pt x="7441" y="14560"/>
                </a:cubicBezTo>
                <a:cubicBezTo>
                  <a:pt x="7449" y="14560"/>
                  <a:pt x="7458" y="14560"/>
                  <a:pt x="7466" y="14560"/>
                </a:cubicBezTo>
              </a:path>
              <a:path w="1365" h="224">
                <a:moveTo>
                  <a:pt x="6251" y="14337"/>
                </a:moveTo>
                <a:cubicBezTo>
                  <a:pt x="6330" y="14357"/>
                  <a:pt x="6410" y="14374"/>
                  <a:pt x="6499" y="14387"/>
                </a:cubicBezTo>
                <a:cubicBezTo>
                  <a:pt x="6648" y="14409"/>
                  <a:pt x="6797" y="14392"/>
                  <a:pt x="6945" y="14412"/>
                </a:cubicBezTo>
                <a:cubicBezTo>
                  <a:pt x="7055" y="14427"/>
                  <a:pt x="7157" y="14456"/>
                  <a:pt x="7268" y="14461"/>
                </a:cubicBezTo>
                <a:cubicBezTo>
                  <a:pt x="7325" y="14464"/>
                  <a:pt x="7344" y="14481"/>
                  <a:pt x="7392" y="14486"/>
                </a:cubicBezTo>
                <a:cubicBezTo>
                  <a:pt x="7417" y="14486"/>
                  <a:pt x="7425" y="14486"/>
                  <a:pt x="7441" y="144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99040" y="5089680"/>
            <a:ext cx="2813040" cy="420480"/>
          </a:xfrm>
          <a:custGeom>
            <a:avLst/>
            <a:gdLst/>
            <a:ahLst/>
            <a:rect l="l" t="t" r="r" b="b"/>
            <a:pathLst>
              <a:path w="7815" h="1166">
                <a:moveTo>
                  <a:pt x="19993" y="14808"/>
                </a:moveTo>
                <a:cubicBezTo>
                  <a:pt x="19943" y="14858"/>
                  <a:pt x="19825" y="15062"/>
                  <a:pt x="20017" y="15056"/>
                </a:cubicBezTo>
                <a:cubicBezTo>
                  <a:pt x="20219" y="15050"/>
                  <a:pt x="20146" y="14877"/>
                  <a:pt x="20092" y="14784"/>
                </a:cubicBezTo>
              </a:path>
              <a:path w="7815" h="1166">
                <a:moveTo>
                  <a:pt x="21382" y="14337"/>
                </a:moveTo>
                <a:cubicBezTo>
                  <a:pt x="21538" y="14293"/>
                  <a:pt x="21578" y="14280"/>
                  <a:pt x="21679" y="14263"/>
                </a:cubicBezTo>
              </a:path>
              <a:path w="7815" h="1166">
                <a:moveTo>
                  <a:pt x="21878" y="14213"/>
                </a:moveTo>
                <a:cubicBezTo>
                  <a:pt x="21910" y="14293"/>
                  <a:pt x="21936" y="14360"/>
                  <a:pt x="21977" y="14436"/>
                </a:cubicBezTo>
              </a:path>
              <a:path w="7815" h="1166">
                <a:moveTo>
                  <a:pt x="21878" y="14163"/>
                </a:moveTo>
                <a:cubicBezTo>
                  <a:pt x="21886" y="14163"/>
                  <a:pt x="21895" y="14163"/>
                  <a:pt x="21903" y="14163"/>
                </a:cubicBezTo>
              </a:path>
              <a:path w="7815" h="1166">
                <a:moveTo>
                  <a:pt x="21903" y="14163"/>
                </a:moveTo>
                <a:lnTo>
                  <a:pt x="21903" y="14163"/>
                </a:lnTo>
              </a:path>
              <a:path w="7815" h="1166">
                <a:moveTo>
                  <a:pt x="21233" y="15205"/>
                </a:moveTo>
                <a:cubicBezTo>
                  <a:pt x="21338" y="15220"/>
                  <a:pt x="21392" y="15230"/>
                  <a:pt x="21456" y="15304"/>
                </a:cubicBezTo>
              </a:path>
              <a:path w="7815" h="1166">
                <a:moveTo>
                  <a:pt x="14486" y="14139"/>
                </a:moveTo>
                <a:cubicBezTo>
                  <a:pt x="14354" y="14191"/>
                  <a:pt x="14307" y="14360"/>
                  <a:pt x="14263" y="14486"/>
                </a:cubicBezTo>
                <a:cubicBezTo>
                  <a:pt x="14188" y="14701"/>
                  <a:pt x="14171" y="14883"/>
                  <a:pt x="14163" y="151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16080" y="6296040"/>
            <a:ext cx="349200" cy="54000"/>
          </a:xfrm>
          <a:custGeom>
            <a:avLst/>
            <a:gdLst/>
            <a:ahLst/>
            <a:rect l="l" t="t" r="r" b="b"/>
            <a:pathLst>
              <a:path w="968" h="150">
                <a:moveTo>
                  <a:pt x="5879" y="17562"/>
                </a:moveTo>
                <a:cubicBezTo>
                  <a:pt x="6042" y="17535"/>
                  <a:pt x="6206" y="17496"/>
                  <a:pt x="6375" y="17487"/>
                </a:cubicBezTo>
                <a:cubicBezTo>
                  <a:pt x="6573" y="17487"/>
                  <a:pt x="6623" y="17487"/>
                  <a:pt x="6747" y="17487"/>
                </a:cubicBezTo>
                <a:cubicBezTo>
                  <a:pt x="6921" y="17487"/>
                  <a:pt x="6597" y="17495"/>
                  <a:pt x="6424" y="17512"/>
                </a:cubicBezTo>
                <a:cubicBezTo>
                  <a:pt x="6250" y="17529"/>
                  <a:pt x="5730" y="17562"/>
                  <a:pt x="5904" y="17562"/>
                </a:cubicBezTo>
                <a:cubicBezTo>
                  <a:pt x="6116" y="17562"/>
                  <a:pt x="6333" y="17587"/>
                  <a:pt x="6548" y="17587"/>
                </a:cubicBezTo>
                <a:cubicBezTo>
                  <a:pt x="6639" y="17587"/>
                  <a:pt x="6647" y="17587"/>
                  <a:pt x="6697" y="17587"/>
                </a:cubicBezTo>
                <a:cubicBezTo>
                  <a:pt x="6522" y="17587"/>
                  <a:pt x="6326" y="17598"/>
                  <a:pt x="6152" y="17611"/>
                </a:cubicBezTo>
                <a:cubicBezTo>
                  <a:pt x="5718" y="17644"/>
                  <a:pt x="6018" y="17632"/>
                  <a:pt x="6251" y="17611"/>
                </a:cubicBezTo>
                <a:cubicBezTo>
                  <a:pt x="6458" y="17591"/>
                  <a:pt x="6501" y="17591"/>
                  <a:pt x="6623" y="1756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8880" y="5089680"/>
            <a:ext cx="3009960" cy="839520"/>
          </a:xfrm>
          <a:custGeom>
            <a:avLst/>
            <a:gdLst/>
            <a:ahLst/>
            <a:rect l="l" t="t" r="r" b="b"/>
            <a:pathLst>
              <a:path w="8360" h="2332">
                <a:moveTo>
                  <a:pt x="8806" y="16470"/>
                </a:moveTo>
                <a:cubicBezTo>
                  <a:pt x="8824" y="16439"/>
                  <a:pt x="8843" y="16374"/>
                  <a:pt x="8880" y="16321"/>
                </a:cubicBezTo>
                <a:cubicBezTo>
                  <a:pt x="8949" y="16222"/>
                  <a:pt x="8975" y="16172"/>
                  <a:pt x="9103" y="16123"/>
                </a:cubicBezTo>
                <a:cubicBezTo>
                  <a:pt x="9226" y="16076"/>
                  <a:pt x="9370" y="16100"/>
                  <a:pt x="9500" y="16098"/>
                </a:cubicBezTo>
                <a:cubicBezTo>
                  <a:pt x="9734" y="16095"/>
                  <a:pt x="9966" y="16115"/>
                  <a:pt x="10195" y="16123"/>
                </a:cubicBezTo>
                <a:cubicBezTo>
                  <a:pt x="10332" y="16128"/>
                  <a:pt x="10458" y="16103"/>
                  <a:pt x="10592" y="16098"/>
                </a:cubicBezTo>
                <a:cubicBezTo>
                  <a:pt x="10712" y="16093"/>
                  <a:pt x="10825" y="16127"/>
                  <a:pt x="10939" y="16123"/>
                </a:cubicBezTo>
                <a:cubicBezTo>
                  <a:pt x="11019" y="16121"/>
                  <a:pt x="11083" y="16108"/>
                  <a:pt x="11162" y="16098"/>
                </a:cubicBezTo>
                <a:cubicBezTo>
                  <a:pt x="11282" y="16083"/>
                  <a:pt x="11418" y="16078"/>
                  <a:pt x="11534" y="16049"/>
                </a:cubicBezTo>
                <a:cubicBezTo>
                  <a:pt x="11624" y="16027"/>
                  <a:pt x="11767" y="15957"/>
                  <a:pt x="11857" y="15974"/>
                </a:cubicBezTo>
                <a:cubicBezTo>
                  <a:pt x="11883" y="15979"/>
                  <a:pt x="11922" y="16039"/>
                  <a:pt x="11981" y="16049"/>
                </a:cubicBezTo>
                <a:cubicBezTo>
                  <a:pt x="12099" y="16070"/>
                  <a:pt x="12157" y="16059"/>
                  <a:pt x="12278" y="16049"/>
                </a:cubicBezTo>
                <a:cubicBezTo>
                  <a:pt x="12425" y="16036"/>
                  <a:pt x="12572" y="16016"/>
                  <a:pt x="12725" y="16024"/>
                </a:cubicBezTo>
                <a:cubicBezTo>
                  <a:pt x="12862" y="16031"/>
                  <a:pt x="13008" y="16059"/>
                  <a:pt x="13146" y="16073"/>
                </a:cubicBezTo>
                <a:cubicBezTo>
                  <a:pt x="13361" y="16094"/>
                  <a:pt x="13575" y="16120"/>
                  <a:pt x="13791" y="16148"/>
                </a:cubicBezTo>
                <a:cubicBezTo>
                  <a:pt x="14122" y="16190"/>
                  <a:pt x="14455" y="16229"/>
                  <a:pt x="14784" y="16272"/>
                </a:cubicBezTo>
                <a:cubicBezTo>
                  <a:pt x="15005" y="16301"/>
                  <a:pt x="15216" y="16302"/>
                  <a:pt x="15429" y="16272"/>
                </a:cubicBezTo>
                <a:cubicBezTo>
                  <a:pt x="15522" y="16259"/>
                  <a:pt x="15612" y="16242"/>
                  <a:pt x="15701" y="16222"/>
                </a:cubicBezTo>
                <a:cubicBezTo>
                  <a:pt x="15784" y="16203"/>
                  <a:pt x="15864" y="16189"/>
                  <a:pt x="15949" y="16173"/>
                </a:cubicBezTo>
                <a:cubicBezTo>
                  <a:pt x="16093" y="16146"/>
                  <a:pt x="16224" y="16115"/>
                  <a:pt x="16371" y="16123"/>
                </a:cubicBezTo>
                <a:cubicBezTo>
                  <a:pt x="16448" y="16127"/>
                  <a:pt x="16566" y="16156"/>
                  <a:pt x="16644" y="16173"/>
                </a:cubicBezTo>
                <a:cubicBezTo>
                  <a:pt x="16740" y="16194"/>
                  <a:pt x="16839" y="16210"/>
                  <a:pt x="16917" y="16272"/>
                </a:cubicBezTo>
                <a:cubicBezTo>
                  <a:pt x="16939" y="16290"/>
                  <a:pt x="16951" y="16356"/>
                  <a:pt x="16966" y="16371"/>
                </a:cubicBezTo>
              </a:path>
              <a:path w="8360" h="2332">
                <a:moveTo>
                  <a:pt x="9178" y="15081"/>
                </a:moveTo>
                <a:cubicBezTo>
                  <a:pt x="9231" y="15011"/>
                  <a:pt x="9146" y="14924"/>
                  <a:pt x="9079" y="14883"/>
                </a:cubicBezTo>
                <a:cubicBezTo>
                  <a:pt x="8890" y="14768"/>
                  <a:pt x="8803" y="14890"/>
                  <a:pt x="8830" y="15081"/>
                </a:cubicBezTo>
                <a:cubicBezTo>
                  <a:pt x="8849" y="15218"/>
                  <a:pt x="8968" y="15436"/>
                  <a:pt x="8930" y="15577"/>
                </a:cubicBezTo>
                <a:cubicBezTo>
                  <a:pt x="8922" y="15585"/>
                  <a:pt x="8913" y="15594"/>
                  <a:pt x="8905" y="15602"/>
                </a:cubicBezTo>
              </a:path>
              <a:path w="8360" h="2332">
                <a:moveTo>
                  <a:pt x="8607" y="15404"/>
                </a:moveTo>
                <a:cubicBezTo>
                  <a:pt x="8789" y="15367"/>
                  <a:pt x="8966" y="15310"/>
                  <a:pt x="9153" y="15304"/>
                </a:cubicBezTo>
                <a:cubicBezTo>
                  <a:pt x="9229" y="15304"/>
                  <a:pt x="9255" y="15305"/>
                  <a:pt x="9302" y="15329"/>
                </a:cubicBezTo>
              </a:path>
              <a:path w="8360" h="2332">
                <a:moveTo>
                  <a:pt x="9500" y="15354"/>
                </a:moveTo>
                <a:cubicBezTo>
                  <a:pt x="9500" y="15298"/>
                  <a:pt x="9438" y="15219"/>
                  <a:pt x="9376" y="15230"/>
                </a:cubicBezTo>
                <a:cubicBezTo>
                  <a:pt x="9261" y="15250"/>
                  <a:pt x="9088" y="15553"/>
                  <a:pt x="9277" y="15553"/>
                </a:cubicBezTo>
                <a:cubicBezTo>
                  <a:pt x="9386" y="15553"/>
                  <a:pt x="9475" y="15455"/>
                  <a:pt x="9475" y="15354"/>
                </a:cubicBezTo>
                <a:cubicBezTo>
                  <a:pt x="9506" y="15431"/>
                  <a:pt x="9619" y="15552"/>
                  <a:pt x="9723" y="15503"/>
                </a:cubicBezTo>
                <a:cubicBezTo>
                  <a:pt x="9756" y="15470"/>
                  <a:pt x="9790" y="15437"/>
                  <a:pt x="9823" y="15404"/>
                </a:cubicBezTo>
              </a:path>
              <a:path w="8360" h="2332">
                <a:moveTo>
                  <a:pt x="9823" y="15180"/>
                </a:moveTo>
                <a:cubicBezTo>
                  <a:pt x="9823" y="15205"/>
                  <a:pt x="9823" y="15213"/>
                  <a:pt x="9823" y="15230"/>
                </a:cubicBezTo>
                <a:cubicBezTo>
                  <a:pt x="9823" y="15194"/>
                  <a:pt x="9802" y="15069"/>
                  <a:pt x="9723" y="15180"/>
                </a:cubicBezTo>
                <a:cubicBezTo>
                  <a:pt x="9581" y="15378"/>
                  <a:pt x="9752" y="15574"/>
                  <a:pt x="9971" y="15453"/>
                </a:cubicBezTo>
                <a:cubicBezTo>
                  <a:pt x="10029" y="15403"/>
                  <a:pt x="10087" y="15354"/>
                  <a:pt x="10145" y="15304"/>
                </a:cubicBezTo>
              </a:path>
              <a:path w="8360" h="2332">
                <a:moveTo>
                  <a:pt x="10071" y="14858"/>
                </a:moveTo>
                <a:cubicBezTo>
                  <a:pt x="10089" y="15017"/>
                  <a:pt x="10124" y="15174"/>
                  <a:pt x="10170" y="15329"/>
                </a:cubicBezTo>
                <a:cubicBezTo>
                  <a:pt x="10182" y="15370"/>
                  <a:pt x="10195" y="15447"/>
                  <a:pt x="10195" y="15404"/>
                </a:cubicBezTo>
              </a:path>
              <a:path w="8360" h="2332">
                <a:moveTo>
                  <a:pt x="9872" y="15081"/>
                </a:moveTo>
                <a:cubicBezTo>
                  <a:pt x="10063" y="15071"/>
                  <a:pt x="10255" y="15059"/>
                  <a:pt x="10443" y="15032"/>
                </a:cubicBezTo>
                <a:cubicBezTo>
                  <a:pt x="10427" y="15127"/>
                  <a:pt x="10347" y="15260"/>
                  <a:pt x="10418" y="15354"/>
                </a:cubicBezTo>
                <a:cubicBezTo>
                  <a:pt x="10543" y="15519"/>
                  <a:pt x="10766" y="15319"/>
                  <a:pt x="10716" y="15156"/>
                </a:cubicBezTo>
                <a:cubicBezTo>
                  <a:pt x="10690" y="15072"/>
                  <a:pt x="10613" y="15030"/>
                  <a:pt x="10542" y="15007"/>
                </a:cubicBezTo>
              </a:path>
              <a:path w="8360" h="2332">
                <a:moveTo>
                  <a:pt x="10889" y="15230"/>
                </a:moveTo>
                <a:cubicBezTo>
                  <a:pt x="10889" y="15291"/>
                  <a:pt x="10880" y="15307"/>
                  <a:pt x="10914" y="15329"/>
                </a:cubicBezTo>
                <a:cubicBezTo>
                  <a:pt x="10898" y="15205"/>
                  <a:pt x="10847" y="15088"/>
                  <a:pt x="10939" y="14982"/>
                </a:cubicBezTo>
                <a:cubicBezTo>
                  <a:pt x="11014" y="14896"/>
                  <a:pt x="11095" y="14938"/>
                  <a:pt x="11187" y="14957"/>
                </a:cubicBezTo>
              </a:path>
              <a:path w="8360" h="2332">
                <a:moveTo>
                  <a:pt x="12179" y="14734"/>
                </a:moveTo>
                <a:cubicBezTo>
                  <a:pt x="12117" y="14679"/>
                  <a:pt x="11980" y="14550"/>
                  <a:pt x="11906" y="14684"/>
                </a:cubicBezTo>
                <a:cubicBezTo>
                  <a:pt x="11819" y="14841"/>
                  <a:pt x="11937" y="15147"/>
                  <a:pt x="11981" y="15304"/>
                </a:cubicBezTo>
                <a:cubicBezTo>
                  <a:pt x="11989" y="15321"/>
                  <a:pt x="11997" y="15337"/>
                  <a:pt x="12005" y="15354"/>
                </a:cubicBezTo>
              </a:path>
              <a:path w="8360" h="2332">
                <a:moveTo>
                  <a:pt x="11733" y="15081"/>
                </a:moveTo>
                <a:cubicBezTo>
                  <a:pt x="11913" y="15081"/>
                  <a:pt x="12076" y="15058"/>
                  <a:pt x="12254" y="15032"/>
                </a:cubicBezTo>
                <a:cubicBezTo>
                  <a:pt x="12262" y="15032"/>
                  <a:pt x="12270" y="15032"/>
                  <a:pt x="12278" y="15032"/>
                </a:cubicBezTo>
                <a:cubicBezTo>
                  <a:pt x="12258" y="15132"/>
                  <a:pt x="12221" y="15177"/>
                  <a:pt x="12229" y="15280"/>
                </a:cubicBezTo>
                <a:cubicBezTo>
                  <a:pt x="12348" y="15293"/>
                  <a:pt x="12655" y="15305"/>
                  <a:pt x="12526" y="15081"/>
                </a:cubicBezTo>
                <a:cubicBezTo>
                  <a:pt x="12455" y="15034"/>
                  <a:pt x="12434" y="15019"/>
                  <a:pt x="12378" y="15007"/>
                </a:cubicBezTo>
              </a:path>
              <a:path w="8360" h="2332">
                <a:moveTo>
                  <a:pt x="12675" y="15081"/>
                </a:moveTo>
                <a:cubicBezTo>
                  <a:pt x="12703" y="15129"/>
                  <a:pt x="12722" y="15182"/>
                  <a:pt x="12750" y="15230"/>
                </a:cubicBezTo>
                <a:cubicBezTo>
                  <a:pt x="12661" y="15164"/>
                  <a:pt x="12705" y="15090"/>
                  <a:pt x="12750" y="15007"/>
                </a:cubicBezTo>
                <a:cubicBezTo>
                  <a:pt x="12784" y="14944"/>
                  <a:pt x="12806" y="14957"/>
                  <a:pt x="12874" y="14932"/>
                </a:cubicBezTo>
              </a:path>
              <a:path w="8360" h="2332">
                <a:moveTo>
                  <a:pt x="13072" y="15007"/>
                </a:moveTo>
                <a:cubicBezTo>
                  <a:pt x="13058" y="15102"/>
                  <a:pt x="13047" y="15182"/>
                  <a:pt x="13047" y="15280"/>
                </a:cubicBezTo>
                <a:cubicBezTo>
                  <a:pt x="13076" y="15223"/>
                  <a:pt x="13090" y="14922"/>
                  <a:pt x="13221" y="15032"/>
                </a:cubicBezTo>
                <a:cubicBezTo>
                  <a:pt x="13273" y="15076"/>
                  <a:pt x="13285" y="15144"/>
                  <a:pt x="13295" y="15205"/>
                </a:cubicBezTo>
                <a:cubicBezTo>
                  <a:pt x="13304" y="15133"/>
                  <a:pt x="13323" y="14908"/>
                  <a:pt x="13444" y="14908"/>
                </a:cubicBezTo>
                <a:cubicBezTo>
                  <a:pt x="13625" y="14908"/>
                  <a:pt x="13657" y="15180"/>
                  <a:pt x="13692" y="15304"/>
                </a:cubicBezTo>
              </a:path>
              <a:path w="8360" h="2332">
                <a:moveTo>
                  <a:pt x="14312" y="14560"/>
                </a:moveTo>
                <a:cubicBezTo>
                  <a:pt x="14166" y="14772"/>
                  <a:pt x="14003" y="15038"/>
                  <a:pt x="13990" y="15304"/>
                </a:cubicBezTo>
                <a:cubicBezTo>
                  <a:pt x="13982" y="15466"/>
                  <a:pt x="14109" y="15505"/>
                  <a:pt x="14139" y="15627"/>
                </a:cubicBezTo>
              </a:path>
              <a:path w="8360" h="2332">
                <a:moveTo>
                  <a:pt x="14536" y="15032"/>
                </a:moveTo>
                <a:cubicBezTo>
                  <a:pt x="14458" y="15045"/>
                  <a:pt x="14411" y="15071"/>
                  <a:pt x="14337" y="15106"/>
                </a:cubicBezTo>
                <a:cubicBezTo>
                  <a:pt x="14359" y="15135"/>
                  <a:pt x="14542" y="15258"/>
                  <a:pt x="14511" y="15304"/>
                </a:cubicBezTo>
                <a:cubicBezTo>
                  <a:pt x="14462" y="15376"/>
                  <a:pt x="14277" y="15383"/>
                  <a:pt x="14238" y="15354"/>
                </a:cubicBezTo>
              </a:path>
              <a:path w="8360" h="2332">
                <a:moveTo>
                  <a:pt x="14610" y="15106"/>
                </a:moveTo>
                <a:cubicBezTo>
                  <a:pt x="14618" y="15190"/>
                  <a:pt x="14610" y="15368"/>
                  <a:pt x="14734" y="15354"/>
                </a:cubicBezTo>
                <a:cubicBezTo>
                  <a:pt x="14833" y="15343"/>
                  <a:pt x="14848" y="15202"/>
                  <a:pt x="14858" y="15131"/>
                </a:cubicBezTo>
                <a:cubicBezTo>
                  <a:pt x="14873" y="15321"/>
                  <a:pt x="14923" y="15538"/>
                  <a:pt x="14784" y="15701"/>
                </a:cubicBezTo>
                <a:cubicBezTo>
                  <a:pt x="14626" y="15886"/>
                  <a:pt x="14531" y="15754"/>
                  <a:pt x="14511" y="15602"/>
                </a:cubicBezTo>
              </a:path>
              <a:path w="8360" h="2332">
                <a:moveTo>
                  <a:pt x="14982" y="15106"/>
                </a:moveTo>
                <a:cubicBezTo>
                  <a:pt x="15003" y="15173"/>
                  <a:pt x="15022" y="15235"/>
                  <a:pt x="15032" y="15304"/>
                </a:cubicBezTo>
                <a:cubicBezTo>
                  <a:pt x="15016" y="15210"/>
                  <a:pt x="14979" y="15137"/>
                  <a:pt x="15081" y="15081"/>
                </a:cubicBezTo>
                <a:cubicBezTo>
                  <a:pt x="15223" y="15003"/>
                  <a:pt x="15281" y="15139"/>
                  <a:pt x="15304" y="15255"/>
                </a:cubicBezTo>
                <a:cubicBezTo>
                  <a:pt x="15323" y="15350"/>
                  <a:pt x="15326" y="15175"/>
                  <a:pt x="15354" y="15106"/>
                </a:cubicBezTo>
                <a:cubicBezTo>
                  <a:pt x="15457" y="15123"/>
                  <a:pt x="15532" y="15168"/>
                  <a:pt x="15553" y="15280"/>
                </a:cubicBezTo>
                <a:cubicBezTo>
                  <a:pt x="15553" y="15358"/>
                  <a:pt x="15538" y="15375"/>
                  <a:pt x="15577" y="15404"/>
                </a:cubicBezTo>
              </a:path>
              <a:path w="8360" h="2332">
                <a:moveTo>
                  <a:pt x="15652" y="14784"/>
                </a:moveTo>
                <a:cubicBezTo>
                  <a:pt x="15688" y="14960"/>
                  <a:pt x="15703" y="15126"/>
                  <a:pt x="15726" y="15304"/>
                </a:cubicBezTo>
                <a:cubicBezTo>
                  <a:pt x="15753" y="15171"/>
                  <a:pt x="15818" y="15100"/>
                  <a:pt x="15949" y="15056"/>
                </a:cubicBezTo>
                <a:cubicBezTo>
                  <a:pt x="15974" y="15056"/>
                  <a:pt x="15999" y="15056"/>
                  <a:pt x="16024" y="15056"/>
                </a:cubicBezTo>
                <a:cubicBezTo>
                  <a:pt x="16073" y="15190"/>
                  <a:pt x="16109" y="15316"/>
                  <a:pt x="15949" y="15404"/>
                </a:cubicBezTo>
                <a:cubicBezTo>
                  <a:pt x="15786" y="15494"/>
                  <a:pt x="15741" y="15412"/>
                  <a:pt x="15751" y="15280"/>
                </a:cubicBezTo>
              </a:path>
              <a:path w="8360" h="2332">
                <a:moveTo>
                  <a:pt x="16197" y="15106"/>
                </a:moveTo>
                <a:cubicBezTo>
                  <a:pt x="16179" y="15198"/>
                  <a:pt x="16067" y="15253"/>
                  <a:pt x="16098" y="15354"/>
                </a:cubicBezTo>
                <a:cubicBezTo>
                  <a:pt x="16143" y="15500"/>
                  <a:pt x="16321" y="15355"/>
                  <a:pt x="16346" y="15280"/>
                </a:cubicBezTo>
                <a:cubicBezTo>
                  <a:pt x="16346" y="15228"/>
                  <a:pt x="16345" y="15210"/>
                  <a:pt x="16321" y="15180"/>
                </a:cubicBezTo>
              </a:path>
              <a:path w="8360" h="2332">
                <a:moveTo>
                  <a:pt x="16495" y="14808"/>
                </a:moveTo>
                <a:cubicBezTo>
                  <a:pt x="16532" y="14973"/>
                  <a:pt x="16545" y="15108"/>
                  <a:pt x="16545" y="15280"/>
                </a:cubicBezTo>
                <a:cubicBezTo>
                  <a:pt x="16545" y="15358"/>
                  <a:pt x="16530" y="15376"/>
                  <a:pt x="16570" y="15404"/>
                </a:cubicBezTo>
              </a:path>
              <a:path w="8360" h="2332">
                <a:moveTo>
                  <a:pt x="16520" y="14560"/>
                </a:moveTo>
                <a:cubicBezTo>
                  <a:pt x="16779" y="14677"/>
                  <a:pt x="16885" y="14850"/>
                  <a:pt x="16892" y="15156"/>
                </a:cubicBezTo>
                <a:cubicBezTo>
                  <a:pt x="16894" y="15250"/>
                  <a:pt x="16850" y="15610"/>
                  <a:pt x="16743" y="15677"/>
                </a:cubicBezTo>
                <a:cubicBezTo>
                  <a:pt x="16718" y="15685"/>
                  <a:pt x="16694" y="15693"/>
                  <a:pt x="16669" y="15701"/>
                </a:cubicBezTo>
              </a:path>
              <a:path w="8360" h="2332">
                <a:moveTo>
                  <a:pt x="14114" y="14833"/>
                </a:moveTo>
                <a:cubicBezTo>
                  <a:pt x="14493" y="14913"/>
                  <a:pt x="14873" y="15022"/>
                  <a:pt x="15255" y="15081"/>
                </a:cubicBezTo>
                <a:cubicBezTo>
                  <a:pt x="15544" y="15125"/>
                  <a:pt x="15856" y="15157"/>
                  <a:pt x="16148" y="15180"/>
                </a:cubicBezTo>
                <a:cubicBezTo>
                  <a:pt x="15805" y="15199"/>
                  <a:pt x="15452" y="15192"/>
                  <a:pt x="15106" y="15180"/>
                </a:cubicBezTo>
                <a:cubicBezTo>
                  <a:pt x="14782" y="15169"/>
                  <a:pt x="14463" y="15156"/>
                  <a:pt x="14139" y="15156"/>
                </a:cubicBezTo>
                <a:cubicBezTo>
                  <a:pt x="14541" y="15156"/>
                  <a:pt x="14928" y="15181"/>
                  <a:pt x="15329" y="15205"/>
                </a:cubicBezTo>
                <a:cubicBezTo>
                  <a:pt x="15627" y="15223"/>
                  <a:pt x="16220" y="15252"/>
                  <a:pt x="15925" y="15205"/>
                </a:cubicBezTo>
                <a:cubicBezTo>
                  <a:pt x="15726" y="15173"/>
                  <a:pt x="14210" y="15131"/>
                  <a:pt x="15131" y="15131"/>
                </a:cubicBezTo>
                <a:cubicBezTo>
                  <a:pt x="15662" y="15140"/>
                  <a:pt x="17083" y="15321"/>
                  <a:pt x="16570" y="15180"/>
                </a:cubicBezTo>
                <a:cubicBezTo>
                  <a:pt x="16529" y="15172"/>
                  <a:pt x="16487" y="15164"/>
                  <a:pt x="16446" y="15156"/>
                </a:cubicBezTo>
              </a:path>
              <a:path w="8360" h="2332">
                <a:moveTo>
                  <a:pt x="16222" y="14908"/>
                </a:moveTo>
                <a:cubicBezTo>
                  <a:pt x="15858" y="14948"/>
                  <a:pt x="15516" y="15008"/>
                  <a:pt x="15156" y="15081"/>
                </a:cubicBezTo>
                <a:cubicBezTo>
                  <a:pt x="14891" y="15165"/>
                  <a:pt x="14342" y="15351"/>
                  <a:pt x="14610" y="15280"/>
                </a:cubicBezTo>
                <a:cubicBezTo>
                  <a:pt x="15205" y="15121"/>
                  <a:pt x="15812" y="14959"/>
                  <a:pt x="16421" y="14858"/>
                </a:cubicBezTo>
                <a:cubicBezTo>
                  <a:pt x="16557" y="14835"/>
                  <a:pt x="16354" y="14916"/>
                  <a:pt x="16222" y="14957"/>
                </a:cubicBezTo>
                <a:cubicBezTo>
                  <a:pt x="15670" y="15088"/>
                  <a:pt x="15113" y="15183"/>
                  <a:pt x="14560" y="15304"/>
                </a:cubicBezTo>
                <a:cubicBezTo>
                  <a:pt x="14026" y="15420"/>
                  <a:pt x="15631" y="15077"/>
                  <a:pt x="16173" y="15007"/>
                </a:cubicBezTo>
                <a:cubicBezTo>
                  <a:pt x="16375" y="14981"/>
                  <a:pt x="16788" y="14893"/>
                  <a:pt x="16297" y="15056"/>
                </a:cubicBezTo>
                <a:cubicBezTo>
                  <a:pt x="15754" y="15180"/>
                  <a:pt x="14153" y="15610"/>
                  <a:pt x="14660" y="15379"/>
                </a:cubicBezTo>
                <a:cubicBezTo>
                  <a:pt x="15173" y="15145"/>
                  <a:pt x="15892" y="15150"/>
                  <a:pt x="16446" y="15106"/>
                </a:cubicBezTo>
                <a:cubicBezTo>
                  <a:pt x="16505" y="15101"/>
                  <a:pt x="15505" y="15298"/>
                  <a:pt x="15329" y="15329"/>
                </a:cubicBezTo>
                <a:cubicBezTo>
                  <a:pt x="14935" y="15398"/>
                  <a:pt x="15503" y="15353"/>
                  <a:pt x="15900" y="15304"/>
                </a:cubicBezTo>
                <a:cubicBezTo>
                  <a:pt x="16191" y="15268"/>
                  <a:pt x="16996" y="15220"/>
                  <a:pt x="16098" y="15354"/>
                </a:cubicBezTo>
                <a:cubicBezTo>
                  <a:pt x="15898" y="15384"/>
                  <a:pt x="14571" y="15561"/>
                  <a:pt x="14808" y="15528"/>
                </a:cubicBezTo>
                <a:cubicBezTo>
                  <a:pt x="15448" y="15439"/>
                  <a:pt x="16072" y="15331"/>
                  <a:pt x="16718" y="15304"/>
                </a:cubicBezTo>
                <a:cubicBezTo>
                  <a:pt x="16156" y="15413"/>
                  <a:pt x="15575" y="15446"/>
                  <a:pt x="15007" y="15528"/>
                </a:cubicBezTo>
                <a:cubicBezTo>
                  <a:pt x="14966" y="15536"/>
                  <a:pt x="14924" y="15545"/>
                  <a:pt x="14883" y="15553"/>
                </a:cubicBezTo>
              </a:path>
              <a:path w="8360" h="2332">
                <a:moveTo>
                  <a:pt x="14684" y="14139"/>
                </a:moveTo>
                <a:cubicBezTo>
                  <a:pt x="14662" y="14273"/>
                  <a:pt x="14607" y="14423"/>
                  <a:pt x="14610" y="14560"/>
                </a:cubicBezTo>
                <a:cubicBezTo>
                  <a:pt x="14614" y="14731"/>
                  <a:pt x="14842" y="14606"/>
                  <a:pt x="14908" y="14560"/>
                </a:cubicBezTo>
                <a:cubicBezTo>
                  <a:pt x="14933" y="14535"/>
                  <a:pt x="14957" y="14511"/>
                  <a:pt x="14982" y="14486"/>
                </a:cubicBezTo>
              </a:path>
              <a:path w="8360" h="2332">
                <a:moveTo>
                  <a:pt x="14932" y="14337"/>
                </a:moveTo>
                <a:cubicBezTo>
                  <a:pt x="14902" y="14455"/>
                  <a:pt x="14903" y="14734"/>
                  <a:pt x="15131" y="14560"/>
                </a:cubicBezTo>
                <a:cubicBezTo>
                  <a:pt x="15335" y="14404"/>
                  <a:pt x="15007" y="14372"/>
                  <a:pt x="15007" y="14312"/>
                </a:cubicBezTo>
                <a:cubicBezTo>
                  <a:pt x="15023" y="14304"/>
                  <a:pt x="15040" y="14296"/>
                  <a:pt x="15056" y="14288"/>
                </a:cubicBezTo>
              </a:path>
              <a:path w="8360" h="2332">
                <a:moveTo>
                  <a:pt x="15280" y="14362"/>
                </a:moveTo>
                <a:cubicBezTo>
                  <a:pt x="15292" y="14436"/>
                  <a:pt x="15304" y="14461"/>
                  <a:pt x="15304" y="14536"/>
                </a:cubicBezTo>
                <a:cubicBezTo>
                  <a:pt x="15329" y="14455"/>
                  <a:pt x="15406" y="14180"/>
                  <a:pt x="15553" y="14312"/>
                </a:cubicBezTo>
                <a:cubicBezTo>
                  <a:pt x="15608" y="14362"/>
                  <a:pt x="15572" y="14465"/>
                  <a:pt x="15553" y="14511"/>
                </a:cubicBezTo>
              </a:path>
              <a:path w="8360" h="2332">
                <a:moveTo>
                  <a:pt x="15801" y="14263"/>
                </a:moveTo>
                <a:cubicBezTo>
                  <a:pt x="15670" y="14247"/>
                  <a:pt x="15667" y="14342"/>
                  <a:pt x="15677" y="14461"/>
                </a:cubicBezTo>
                <a:cubicBezTo>
                  <a:pt x="15798" y="14461"/>
                  <a:pt x="15851" y="14455"/>
                  <a:pt x="15875" y="14312"/>
                </a:cubicBezTo>
                <a:cubicBezTo>
                  <a:pt x="15970" y="14426"/>
                  <a:pt x="16167" y="14645"/>
                  <a:pt x="15974" y="14784"/>
                </a:cubicBezTo>
                <a:cubicBezTo>
                  <a:pt x="15820" y="14895"/>
                  <a:pt x="15691" y="14823"/>
                  <a:pt x="15602" y="14734"/>
                </a:cubicBezTo>
              </a:path>
              <a:path w="8360" h="2332">
                <a:moveTo>
                  <a:pt x="16173" y="14163"/>
                </a:moveTo>
                <a:cubicBezTo>
                  <a:pt x="16340" y="14264"/>
                  <a:pt x="16392" y="14390"/>
                  <a:pt x="16520" y="14536"/>
                </a:cubicBezTo>
                <a:cubicBezTo>
                  <a:pt x="16589" y="14614"/>
                  <a:pt x="16669" y="14685"/>
                  <a:pt x="16743" y="14759"/>
                </a:cubicBezTo>
                <a:cubicBezTo>
                  <a:pt x="16765" y="14781"/>
                  <a:pt x="16774" y="14786"/>
                  <a:pt x="16768" y="1480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24800" y="4991040"/>
            <a:ext cx="1428480" cy="644760"/>
          </a:xfrm>
          <a:custGeom>
            <a:avLst/>
            <a:gdLst/>
            <a:ahLst/>
            <a:rect l="l" t="t" r="r" b="b"/>
            <a:pathLst>
              <a:path w="3970" h="1787">
                <a:moveTo>
                  <a:pt x="18752" y="15379"/>
                </a:moveTo>
                <a:cubicBezTo>
                  <a:pt x="18782" y="15369"/>
                  <a:pt x="18930" y="15324"/>
                  <a:pt x="18951" y="15304"/>
                </a:cubicBezTo>
                <a:cubicBezTo>
                  <a:pt x="18951" y="15296"/>
                  <a:pt x="18951" y="15288"/>
                  <a:pt x="18951" y="15280"/>
                </a:cubicBezTo>
                <a:cubicBezTo>
                  <a:pt x="18849" y="15195"/>
                  <a:pt x="18765" y="15103"/>
                  <a:pt x="18703" y="15280"/>
                </a:cubicBezTo>
                <a:cubicBezTo>
                  <a:pt x="18678" y="15403"/>
                  <a:pt x="18670" y="15444"/>
                  <a:pt x="18678" y="15528"/>
                </a:cubicBezTo>
                <a:cubicBezTo>
                  <a:pt x="18910" y="15553"/>
                  <a:pt x="18992" y="15522"/>
                  <a:pt x="19149" y="15354"/>
                </a:cubicBezTo>
              </a:path>
              <a:path w="3970" h="1787">
                <a:moveTo>
                  <a:pt x="19050" y="15106"/>
                </a:moveTo>
                <a:cubicBezTo>
                  <a:pt x="19155" y="15158"/>
                  <a:pt x="19246" y="15224"/>
                  <a:pt x="19348" y="15280"/>
                </a:cubicBezTo>
                <a:cubicBezTo>
                  <a:pt x="19395" y="15303"/>
                  <a:pt x="19412" y="15313"/>
                  <a:pt x="19397" y="15255"/>
                </a:cubicBezTo>
              </a:path>
              <a:path w="3970" h="1787">
                <a:moveTo>
                  <a:pt x="19273" y="14982"/>
                </a:moveTo>
                <a:cubicBezTo>
                  <a:pt x="19273" y="15139"/>
                  <a:pt x="19220" y="15325"/>
                  <a:pt x="19248" y="15478"/>
                </a:cubicBezTo>
                <a:cubicBezTo>
                  <a:pt x="19256" y="15478"/>
                  <a:pt x="19265" y="15478"/>
                  <a:pt x="19273" y="15478"/>
                </a:cubicBezTo>
              </a:path>
              <a:path w="3970" h="1787">
                <a:moveTo>
                  <a:pt x="19496" y="14982"/>
                </a:moveTo>
                <a:cubicBezTo>
                  <a:pt x="19539" y="15133"/>
                  <a:pt x="19590" y="15329"/>
                  <a:pt x="19695" y="15453"/>
                </a:cubicBezTo>
                <a:cubicBezTo>
                  <a:pt x="19695" y="15445"/>
                  <a:pt x="19695" y="15437"/>
                  <a:pt x="19695" y="15429"/>
                </a:cubicBezTo>
              </a:path>
              <a:path w="3970" h="1787">
                <a:moveTo>
                  <a:pt x="19422" y="14982"/>
                </a:moveTo>
                <a:cubicBezTo>
                  <a:pt x="19608" y="14960"/>
                  <a:pt x="19667" y="14946"/>
                  <a:pt x="19819" y="15032"/>
                </a:cubicBezTo>
                <a:cubicBezTo>
                  <a:pt x="19736" y="15131"/>
                  <a:pt x="19651" y="15250"/>
                  <a:pt x="19571" y="15131"/>
                </a:cubicBezTo>
              </a:path>
              <a:path w="3970" h="1787">
                <a:moveTo>
                  <a:pt x="20241" y="14412"/>
                </a:moveTo>
                <a:cubicBezTo>
                  <a:pt x="20277" y="14554"/>
                  <a:pt x="20339" y="14725"/>
                  <a:pt x="20414" y="14858"/>
                </a:cubicBezTo>
                <a:cubicBezTo>
                  <a:pt x="20473" y="14963"/>
                  <a:pt x="20568" y="14885"/>
                  <a:pt x="20613" y="14833"/>
                </a:cubicBezTo>
              </a:path>
              <a:path w="3970" h="1787">
                <a:moveTo>
                  <a:pt x="20166" y="14784"/>
                </a:moveTo>
                <a:cubicBezTo>
                  <a:pt x="20307" y="14743"/>
                  <a:pt x="20448" y="14703"/>
                  <a:pt x="20588" y="14660"/>
                </a:cubicBezTo>
              </a:path>
              <a:path w="3970" h="1787">
                <a:moveTo>
                  <a:pt x="20613" y="14660"/>
                </a:moveTo>
                <a:cubicBezTo>
                  <a:pt x="20693" y="14597"/>
                  <a:pt x="20687" y="14633"/>
                  <a:pt x="20687" y="14560"/>
                </a:cubicBezTo>
                <a:cubicBezTo>
                  <a:pt x="20559" y="14576"/>
                  <a:pt x="20449" y="14784"/>
                  <a:pt x="20638" y="14808"/>
                </a:cubicBezTo>
                <a:cubicBezTo>
                  <a:pt x="20861" y="14836"/>
                  <a:pt x="20856" y="14662"/>
                  <a:pt x="20960" y="14560"/>
                </a:cubicBezTo>
                <a:cubicBezTo>
                  <a:pt x="20996" y="14525"/>
                  <a:pt x="20978" y="14659"/>
                  <a:pt x="20985" y="14709"/>
                </a:cubicBezTo>
                <a:cubicBezTo>
                  <a:pt x="20985" y="14618"/>
                  <a:pt x="20962" y="14467"/>
                  <a:pt x="21084" y="14436"/>
                </a:cubicBezTo>
                <a:cubicBezTo>
                  <a:pt x="21229" y="14400"/>
                  <a:pt x="21266" y="14494"/>
                  <a:pt x="21282" y="14610"/>
                </a:cubicBezTo>
              </a:path>
              <a:path w="3970" h="1787">
                <a:moveTo>
                  <a:pt x="21332" y="14114"/>
                </a:moveTo>
                <a:cubicBezTo>
                  <a:pt x="21432" y="14263"/>
                  <a:pt x="21518" y="14442"/>
                  <a:pt x="21654" y="14560"/>
                </a:cubicBezTo>
                <a:cubicBezTo>
                  <a:pt x="21762" y="14654"/>
                  <a:pt x="21835" y="14540"/>
                  <a:pt x="21878" y="14461"/>
                </a:cubicBezTo>
              </a:path>
              <a:path w="3970" h="1787">
                <a:moveTo>
                  <a:pt x="22275" y="14188"/>
                </a:moveTo>
                <a:cubicBezTo>
                  <a:pt x="22181" y="14188"/>
                  <a:pt x="22075" y="14232"/>
                  <a:pt x="22101" y="14362"/>
                </a:cubicBezTo>
                <a:cubicBezTo>
                  <a:pt x="22145" y="14578"/>
                  <a:pt x="22248" y="14229"/>
                  <a:pt x="22250" y="14213"/>
                </a:cubicBezTo>
                <a:cubicBezTo>
                  <a:pt x="22356" y="14347"/>
                  <a:pt x="22408" y="14311"/>
                  <a:pt x="22498" y="14213"/>
                </a:cubicBezTo>
              </a:path>
              <a:path w="3970" h="1787">
                <a:moveTo>
                  <a:pt x="22374" y="13866"/>
                </a:moveTo>
                <a:cubicBezTo>
                  <a:pt x="22473" y="13915"/>
                  <a:pt x="22542" y="14109"/>
                  <a:pt x="22597" y="14213"/>
                </a:cubicBezTo>
                <a:cubicBezTo>
                  <a:pt x="22617" y="14254"/>
                  <a:pt x="22615" y="14270"/>
                  <a:pt x="22647" y="14263"/>
                </a:cubicBezTo>
              </a:path>
              <a:path w="3970" h="1787">
                <a:moveTo>
                  <a:pt x="20811" y="15131"/>
                </a:moveTo>
                <a:cubicBezTo>
                  <a:pt x="20659" y="15192"/>
                  <a:pt x="20646" y="15265"/>
                  <a:pt x="20712" y="15429"/>
                </a:cubicBezTo>
                <a:cubicBezTo>
                  <a:pt x="20752" y="15528"/>
                  <a:pt x="20814" y="15581"/>
                  <a:pt x="20886" y="15652"/>
                </a:cubicBezTo>
              </a:path>
              <a:path w="3970" h="1787">
                <a:moveTo>
                  <a:pt x="20588" y="15553"/>
                </a:moveTo>
                <a:cubicBezTo>
                  <a:pt x="20749" y="15478"/>
                  <a:pt x="20913" y="15397"/>
                  <a:pt x="21084" y="15354"/>
                </a:cubicBezTo>
                <a:cubicBezTo>
                  <a:pt x="21037" y="15459"/>
                  <a:pt x="21011" y="15617"/>
                  <a:pt x="21208" y="15553"/>
                </a:cubicBezTo>
                <a:cubicBezTo>
                  <a:pt x="21415" y="15485"/>
                  <a:pt x="21271" y="15351"/>
                  <a:pt x="21183" y="15280"/>
                </a:cubicBezTo>
              </a:path>
              <a:path w="3970" h="1787">
                <a:moveTo>
                  <a:pt x="21481" y="15304"/>
                </a:moveTo>
                <a:cubicBezTo>
                  <a:pt x="21481" y="15370"/>
                  <a:pt x="21451" y="15215"/>
                  <a:pt x="21481" y="15156"/>
                </a:cubicBezTo>
                <a:cubicBezTo>
                  <a:pt x="21543" y="15093"/>
                  <a:pt x="21553" y="15075"/>
                  <a:pt x="21605" y="15056"/>
                </a:cubicBezTo>
              </a:path>
              <a:path w="3970" h="1787">
                <a:moveTo>
                  <a:pt x="21679" y="15081"/>
                </a:moveTo>
                <a:cubicBezTo>
                  <a:pt x="21722" y="15151"/>
                  <a:pt x="21784" y="15229"/>
                  <a:pt x="21803" y="15304"/>
                </a:cubicBezTo>
                <a:cubicBezTo>
                  <a:pt x="21803" y="15214"/>
                  <a:pt x="21767" y="15095"/>
                  <a:pt x="21853" y="15032"/>
                </a:cubicBezTo>
                <a:cubicBezTo>
                  <a:pt x="21976" y="14943"/>
                  <a:pt x="22096" y="15051"/>
                  <a:pt x="22175" y="15131"/>
                </a:cubicBezTo>
                <a:cubicBezTo>
                  <a:pt x="22175" y="15090"/>
                  <a:pt x="22146" y="14902"/>
                  <a:pt x="22225" y="14908"/>
                </a:cubicBezTo>
                <a:cubicBezTo>
                  <a:pt x="22318" y="14915"/>
                  <a:pt x="22389" y="14989"/>
                  <a:pt x="22423" y="150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48680" y="5732640"/>
            <a:ext cx="107640" cy="2602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20613" y="15925"/>
                </a:moveTo>
                <a:cubicBezTo>
                  <a:pt x="20498" y="16115"/>
                  <a:pt x="20310" y="16353"/>
                  <a:pt x="20489" y="16570"/>
                </a:cubicBezTo>
                <a:cubicBezTo>
                  <a:pt x="20600" y="16636"/>
                  <a:pt x="20626" y="16661"/>
                  <a:pt x="20712" y="166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18240" y="5697360"/>
            <a:ext cx="689040" cy="312840"/>
          </a:xfrm>
          <a:custGeom>
            <a:avLst/>
            <a:gdLst/>
            <a:ahLst/>
            <a:rect l="l" t="t" r="r" b="b"/>
            <a:pathLst>
              <a:path w="1911" h="870">
                <a:moveTo>
                  <a:pt x="21084" y="16123"/>
                </a:moveTo>
                <a:cubicBezTo>
                  <a:pt x="21014" y="16131"/>
                  <a:pt x="20885" y="16141"/>
                  <a:pt x="20910" y="16247"/>
                </a:cubicBezTo>
                <a:cubicBezTo>
                  <a:pt x="20922" y="16299"/>
                  <a:pt x="21059" y="16355"/>
                  <a:pt x="21109" y="16396"/>
                </a:cubicBezTo>
                <a:cubicBezTo>
                  <a:pt x="20995" y="16539"/>
                  <a:pt x="20943" y="16437"/>
                  <a:pt x="20886" y="16321"/>
                </a:cubicBezTo>
              </a:path>
              <a:path w="1911" h="870">
                <a:moveTo>
                  <a:pt x="21258" y="16148"/>
                </a:moveTo>
                <a:cubicBezTo>
                  <a:pt x="21265" y="16212"/>
                  <a:pt x="21279" y="16452"/>
                  <a:pt x="21431" y="16371"/>
                </a:cubicBezTo>
                <a:cubicBezTo>
                  <a:pt x="21532" y="16317"/>
                  <a:pt x="21506" y="16266"/>
                  <a:pt x="21506" y="16173"/>
                </a:cubicBezTo>
                <a:cubicBezTo>
                  <a:pt x="21506" y="16334"/>
                  <a:pt x="21617" y="16466"/>
                  <a:pt x="21555" y="16619"/>
                </a:cubicBezTo>
                <a:cubicBezTo>
                  <a:pt x="21484" y="16796"/>
                  <a:pt x="21304" y="16661"/>
                  <a:pt x="21208" y="16619"/>
                </a:cubicBezTo>
              </a:path>
              <a:path w="1911" h="870">
                <a:moveTo>
                  <a:pt x="21630" y="16123"/>
                </a:moveTo>
                <a:cubicBezTo>
                  <a:pt x="21684" y="16222"/>
                  <a:pt x="21727" y="16287"/>
                  <a:pt x="21754" y="16396"/>
                </a:cubicBezTo>
                <a:cubicBezTo>
                  <a:pt x="21754" y="16332"/>
                  <a:pt x="21725" y="16156"/>
                  <a:pt x="21828" y="16148"/>
                </a:cubicBezTo>
                <a:cubicBezTo>
                  <a:pt x="21934" y="16175"/>
                  <a:pt x="21972" y="16189"/>
                  <a:pt x="22002" y="16272"/>
                </a:cubicBezTo>
                <a:cubicBezTo>
                  <a:pt x="22050" y="16304"/>
                  <a:pt x="21985" y="16202"/>
                  <a:pt x="22051" y="16123"/>
                </a:cubicBezTo>
                <a:cubicBezTo>
                  <a:pt x="22174" y="15976"/>
                  <a:pt x="22248" y="16188"/>
                  <a:pt x="22299" y="16272"/>
                </a:cubicBezTo>
                <a:cubicBezTo>
                  <a:pt x="22299" y="16314"/>
                  <a:pt x="22299" y="16305"/>
                  <a:pt x="22299" y="16222"/>
                </a:cubicBezTo>
              </a:path>
              <a:path w="1911" h="870">
                <a:moveTo>
                  <a:pt x="22324" y="15825"/>
                </a:moveTo>
                <a:cubicBezTo>
                  <a:pt x="22359" y="15974"/>
                  <a:pt x="22381" y="16112"/>
                  <a:pt x="22448" y="16247"/>
                </a:cubicBezTo>
                <a:cubicBezTo>
                  <a:pt x="22464" y="16154"/>
                  <a:pt x="22488" y="15949"/>
                  <a:pt x="22622" y="15974"/>
                </a:cubicBezTo>
                <a:cubicBezTo>
                  <a:pt x="22740" y="15996"/>
                  <a:pt x="22758" y="16081"/>
                  <a:pt x="22796" y="16173"/>
                </a:cubicBezTo>
                <a:cubicBezTo>
                  <a:pt x="22645" y="16256"/>
                  <a:pt x="22618" y="16238"/>
                  <a:pt x="22523" y="1612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6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ow do I correctly READ powers?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We read 2</a:t>
            </a:r>
            <a:r>
              <a:rPr b="0" lang="en-US" sz="2800" spc="-1" strike="noStrike" baseline="30000">
                <a:solidFill>
                  <a:srgbClr val="ff66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 as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</a:rPr>
              <a:t>Use what you’ve learned to complete the chart below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04920" y="2743200"/>
          <a:ext cx="8534160" cy="3463920"/>
        </p:xfrm>
        <a:graphic>
          <a:graphicData uri="http://schemas.openxmlformats.org/drawingml/2006/table">
            <a:tbl>
              <a:tblPr/>
              <a:tblGrid>
                <a:gridCol w="2743200"/>
                <a:gridCol w="2793960"/>
                <a:gridCol w="2997000"/>
              </a:tblGrid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Long Form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Symbol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9 • 9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11</a:t>
                      </a:r>
                      <a:r>
                        <a:rPr b="1" lang="en-US" sz="2400" spc="-1" strike="noStrike" baseline="30000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Five to the third power or </a:t>
                      </a:r>
                      <a:r>
                        <a:rPr b="0" i="1" lang="en-US" sz="2200" spc="-1" strike="noStrike">
                          <a:solidFill>
                            <a:srgbClr val="006699"/>
                          </a:solidFill>
                          <a:latin typeface="Verdana"/>
                          <a:ea typeface="Arial"/>
                        </a:rPr>
                        <a:t>five cubed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7045200" y="973080"/>
            <a:ext cx="1027080" cy="339840"/>
          </a:xfrm>
          <a:custGeom>
            <a:avLst/>
            <a:gdLst/>
            <a:ahLst/>
            <a:rect l="l" t="t" r="r" b="b"/>
            <a:pathLst>
              <a:path w="2853" h="943">
                <a:moveTo>
                  <a:pt x="19571" y="3646"/>
                </a:moveTo>
                <a:cubicBezTo>
                  <a:pt x="19695" y="3628"/>
                  <a:pt x="19819" y="3609"/>
                  <a:pt x="19943" y="3597"/>
                </a:cubicBezTo>
              </a:path>
              <a:path w="2853" h="943">
                <a:moveTo>
                  <a:pt x="21208" y="3249"/>
                </a:moveTo>
                <a:cubicBezTo>
                  <a:pt x="21173" y="3413"/>
                  <a:pt x="21230" y="3636"/>
                  <a:pt x="21481" y="3497"/>
                </a:cubicBezTo>
                <a:cubicBezTo>
                  <a:pt x="21701" y="3375"/>
                  <a:pt x="21428" y="3223"/>
                  <a:pt x="21332" y="3175"/>
                </a:cubicBezTo>
              </a:path>
              <a:path w="2853" h="943">
                <a:moveTo>
                  <a:pt x="21729" y="3423"/>
                </a:moveTo>
                <a:cubicBezTo>
                  <a:pt x="21748" y="3356"/>
                  <a:pt x="21716" y="3149"/>
                  <a:pt x="21828" y="3101"/>
                </a:cubicBezTo>
                <a:cubicBezTo>
                  <a:pt x="21869" y="3101"/>
                  <a:pt x="21911" y="3101"/>
                  <a:pt x="21952" y="3101"/>
                </a:cubicBezTo>
              </a:path>
              <a:path w="2853" h="943">
                <a:moveTo>
                  <a:pt x="22324" y="3101"/>
                </a:moveTo>
                <a:cubicBezTo>
                  <a:pt x="22191" y="3012"/>
                  <a:pt x="22085" y="3027"/>
                  <a:pt x="21977" y="3150"/>
                </a:cubicBezTo>
                <a:cubicBezTo>
                  <a:pt x="21960" y="3183"/>
                  <a:pt x="21944" y="3216"/>
                  <a:pt x="21927" y="3249"/>
                </a:cubicBezTo>
                <a:cubicBezTo>
                  <a:pt x="22117" y="3458"/>
                  <a:pt x="22179" y="3353"/>
                  <a:pt x="22349" y="3175"/>
                </a:cubicBezTo>
              </a:path>
              <a:path w="2853" h="943">
                <a:moveTo>
                  <a:pt x="22175" y="2704"/>
                </a:moveTo>
                <a:cubicBezTo>
                  <a:pt x="22281" y="2879"/>
                  <a:pt x="22339" y="3085"/>
                  <a:pt x="22423" y="327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78000" y="1724040"/>
            <a:ext cx="304920" cy="71280"/>
          </a:xfrm>
          <a:custGeom>
            <a:avLst/>
            <a:gdLst/>
            <a:ahLst/>
            <a:rect l="l" t="t" r="r" b="b"/>
            <a:pathLst>
              <a:path w="845" h="200">
                <a:moveTo>
                  <a:pt x="6152" y="4862"/>
                </a:moveTo>
                <a:cubicBezTo>
                  <a:pt x="6238" y="4862"/>
                  <a:pt x="6317" y="4842"/>
                  <a:pt x="6400" y="4837"/>
                </a:cubicBezTo>
                <a:cubicBezTo>
                  <a:pt x="6527" y="4829"/>
                  <a:pt x="6647" y="4794"/>
                  <a:pt x="6772" y="4787"/>
                </a:cubicBezTo>
                <a:cubicBezTo>
                  <a:pt x="6797" y="4786"/>
                  <a:pt x="6970" y="4761"/>
                  <a:pt x="6846" y="4787"/>
                </a:cubicBezTo>
                <a:cubicBezTo>
                  <a:pt x="6691" y="4820"/>
                  <a:pt x="6548" y="4863"/>
                  <a:pt x="6400" y="4911"/>
                </a:cubicBezTo>
                <a:cubicBezTo>
                  <a:pt x="6307" y="4941"/>
                  <a:pt x="6222" y="4936"/>
                  <a:pt x="6127" y="4936"/>
                </a:cubicBezTo>
                <a:cubicBezTo>
                  <a:pt x="6038" y="4936"/>
                  <a:pt x="6047" y="4927"/>
                  <a:pt x="6127" y="4961"/>
                </a:cubicBezTo>
                <a:cubicBezTo>
                  <a:pt x="6308" y="4934"/>
                  <a:pt x="6489" y="4916"/>
                  <a:pt x="6672" y="4911"/>
                </a:cubicBezTo>
                <a:cubicBezTo>
                  <a:pt x="6687" y="4911"/>
                  <a:pt x="6881" y="4911"/>
                  <a:pt x="6821" y="4911"/>
                </a:cubicBezTo>
                <a:cubicBezTo>
                  <a:pt x="6619" y="4911"/>
                  <a:pt x="6424" y="4917"/>
                  <a:pt x="6226" y="4936"/>
                </a:cubicBezTo>
                <a:cubicBezTo>
                  <a:pt x="6201" y="4936"/>
                  <a:pt x="6177" y="4936"/>
                  <a:pt x="6152" y="4936"/>
                </a:cubicBezTo>
                <a:cubicBezTo>
                  <a:pt x="6096" y="4978"/>
                  <a:pt x="6100" y="4972"/>
                  <a:pt x="6201" y="4961"/>
                </a:cubicBezTo>
                <a:cubicBezTo>
                  <a:pt x="6408" y="4938"/>
                  <a:pt x="6613" y="4896"/>
                  <a:pt x="6821" y="4887"/>
                </a:cubicBezTo>
                <a:cubicBezTo>
                  <a:pt x="6829" y="4887"/>
                  <a:pt x="6838" y="4887"/>
                  <a:pt x="6846" y="4887"/>
                </a:cubicBezTo>
                <a:cubicBezTo>
                  <a:pt x="6665" y="4906"/>
                  <a:pt x="6480" y="4917"/>
                  <a:pt x="6300" y="4936"/>
                </a:cubicBezTo>
                <a:cubicBezTo>
                  <a:pt x="6201" y="4956"/>
                  <a:pt x="6186" y="4964"/>
                  <a:pt x="6127" y="4961"/>
                </a:cubicBezTo>
                <a:cubicBezTo>
                  <a:pt x="6310" y="4961"/>
                  <a:pt x="6492" y="4947"/>
                  <a:pt x="6672" y="4911"/>
                </a:cubicBezTo>
                <a:cubicBezTo>
                  <a:pt x="6853" y="4875"/>
                  <a:pt x="6717" y="4895"/>
                  <a:pt x="6598" y="4911"/>
                </a:cubicBezTo>
                <a:cubicBezTo>
                  <a:pt x="6446" y="4931"/>
                  <a:pt x="6300" y="4949"/>
                  <a:pt x="6152" y="49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4280" y="1428840"/>
            <a:ext cx="250920" cy="312480"/>
          </a:xfrm>
          <a:custGeom>
            <a:avLst/>
            <a:gdLst/>
            <a:ahLst/>
            <a:rect l="l" t="t" r="r" b="b"/>
            <a:pathLst>
              <a:path w="696" h="869">
                <a:moveTo>
                  <a:pt x="9947" y="4043"/>
                </a:moveTo>
                <a:cubicBezTo>
                  <a:pt x="10100" y="3984"/>
                  <a:pt x="10141" y="3976"/>
                  <a:pt x="10294" y="4018"/>
                </a:cubicBezTo>
                <a:cubicBezTo>
                  <a:pt x="10294" y="4306"/>
                  <a:pt x="10119" y="4502"/>
                  <a:pt x="9947" y="4738"/>
                </a:cubicBezTo>
                <a:cubicBezTo>
                  <a:pt x="9922" y="4771"/>
                  <a:pt x="9897" y="4804"/>
                  <a:pt x="9872" y="4837"/>
                </a:cubicBezTo>
                <a:cubicBezTo>
                  <a:pt x="10018" y="4678"/>
                  <a:pt x="10169" y="4625"/>
                  <a:pt x="10393" y="4688"/>
                </a:cubicBezTo>
                <a:cubicBezTo>
                  <a:pt x="10474" y="4742"/>
                  <a:pt x="10505" y="4755"/>
                  <a:pt x="10567" y="46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0960" y="1438200"/>
            <a:ext cx="314280" cy="24948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11385" y="3994"/>
                </a:moveTo>
                <a:cubicBezTo>
                  <a:pt x="11400" y="4211"/>
                  <a:pt x="11463" y="4403"/>
                  <a:pt x="11485" y="4614"/>
                </a:cubicBezTo>
                <a:cubicBezTo>
                  <a:pt x="11485" y="4622"/>
                  <a:pt x="11485" y="4630"/>
                  <a:pt x="11485" y="4638"/>
                </a:cubicBezTo>
              </a:path>
              <a:path w="869" h="695">
                <a:moveTo>
                  <a:pt x="11088" y="4366"/>
                </a:moveTo>
                <a:cubicBezTo>
                  <a:pt x="11289" y="4339"/>
                  <a:pt x="11484" y="4306"/>
                  <a:pt x="11683" y="4266"/>
                </a:cubicBezTo>
                <a:cubicBezTo>
                  <a:pt x="11663" y="4384"/>
                  <a:pt x="11592" y="4519"/>
                  <a:pt x="11658" y="4638"/>
                </a:cubicBezTo>
                <a:cubicBezTo>
                  <a:pt x="11748" y="4802"/>
                  <a:pt x="12024" y="4507"/>
                  <a:pt x="11956" y="4366"/>
                </a:cubicBezTo>
                <a:cubicBezTo>
                  <a:pt x="11846" y="4310"/>
                  <a:pt x="11800" y="4294"/>
                  <a:pt x="11708" y="431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1419120"/>
            <a:ext cx="509400" cy="287280"/>
          </a:xfrm>
          <a:custGeom>
            <a:avLst/>
            <a:gdLst/>
            <a:ahLst/>
            <a:rect l="l" t="t" r="r" b="b"/>
            <a:pathLst>
              <a:path w="1414" h="795">
                <a:moveTo>
                  <a:pt x="12675" y="3969"/>
                </a:moveTo>
                <a:cubicBezTo>
                  <a:pt x="12729" y="3861"/>
                  <a:pt x="12723" y="4148"/>
                  <a:pt x="12750" y="4266"/>
                </a:cubicBezTo>
                <a:cubicBezTo>
                  <a:pt x="12783" y="4409"/>
                  <a:pt x="12901" y="4715"/>
                  <a:pt x="12824" y="4589"/>
                </a:cubicBezTo>
              </a:path>
              <a:path w="1414" h="795">
                <a:moveTo>
                  <a:pt x="12502" y="4366"/>
                </a:moveTo>
                <a:cubicBezTo>
                  <a:pt x="12669" y="4393"/>
                  <a:pt x="13050" y="4487"/>
                  <a:pt x="13097" y="4217"/>
                </a:cubicBezTo>
                <a:cubicBezTo>
                  <a:pt x="13089" y="4176"/>
                  <a:pt x="13080" y="4134"/>
                  <a:pt x="13072" y="4093"/>
                </a:cubicBezTo>
                <a:cubicBezTo>
                  <a:pt x="12985" y="4092"/>
                  <a:pt x="13117" y="4452"/>
                  <a:pt x="13146" y="4564"/>
                </a:cubicBezTo>
                <a:cubicBezTo>
                  <a:pt x="13146" y="4708"/>
                  <a:pt x="13169" y="4398"/>
                  <a:pt x="13171" y="4390"/>
                </a:cubicBezTo>
                <a:cubicBezTo>
                  <a:pt x="13230" y="4187"/>
                  <a:pt x="13411" y="4613"/>
                  <a:pt x="13419" y="4638"/>
                </a:cubicBezTo>
                <a:cubicBezTo>
                  <a:pt x="13427" y="4671"/>
                  <a:pt x="13436" y="4705"/>
                  <a:pt x="13444" y="4738"/>
                </a:cubicBezTo>
              </a:path>
              <a:path w="1414" h="795">
                <a:moveTo>
                  <a:pt x="13519" y="4539"/>
                </a:moveTo>
                <a:cubicBezTo>
                  <a:pt x="13618" y="4458"/>
                  <a:pt x="13627" y="4439"/>
                  <a:pt x="13667" y="4316"/>
                </a:cubicBezTo>
                <a:cubicBezTo>
                  <a:pt x="13608" y="4256"/>
                  <a:pt x="13512" y="4434"/>
                  <a:pt x="13519" y="4514"/>
                </a:cubicBezTo>
                <a:cubicBezTo>
                  <a:pt x="13545" y="4831"/>
                  <a:pt x="13752" y="4655"/>
                  <a:pt x="13915" y="458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4320" y="1312920"/>
            <a:ext cx="428760" cy="366480"/>
          </a:xfrm>
          <a:custGeom>
            <a:avLst/>
            <a:gdLst/>
            <a:ahLst/>
            <a:rect l="l" t="t" r="r" b="b"/>
            <a:pathLst>
              <a:path w="1191" h="1018">
                <a:moveTo>
                  <a:pt x="14560" y="4043"/>
                </a:moveTo>
                <a:cubicBezTo>
                  <a:pt x="14542" y="4117"/>
                  <a:pt x="14522" y="4191"/>
                  <a:pt x="14511" y="4266"/>
                </a:cubicBezTo>
                <a:cubicBezTo>
                  <a:pt x="14634" y="4266"/>
                  <a:pt x="14790" y="4325"/>
                  <a:pt x="14908" y="4291"/>
                </a:cubicBezTo>
                <a:cubicBezTo>
                  <a:pt x="14924" y="4275"/>
                  <a:pt x="14941" y="4258"/>
                  <a:pt x="14957" y="4242"/>
                </a:cubicBezTo>
              </a:path>
              <a:path w="1191" h="1018">
                <a:moveTo>
                  <a:pt x="14908" y="3870"/>
                </a:moveTo>
                <a:cubicBezTo>
                  <a:pt x="14886" y="4107"/>
                  <a:pt x="14829" y="4433"/>
                  <a:pt x="14908" y="4663"/>
                </a:cubicBezTo>
                <a:cubicBezTo>
                  <a:pt x="14916" y="4655"/>
                  <a:pt x="14924" y="4646"/>
                  <a:pt x="14932" y="4638"/>
                </a:cubicBezTo>
              </a:path>
              <a:path w="1191" h="1018">
                <a:moveTo>
                  <a:pt x="15131" y="3795"/>
                </a:moveTo>
                <a:cubicBezTo>
                  <a:pt x="15150" y="3964"/>
                  <a:pt x="15166" y="4127"/>
                  <a:pt x="15205" y="4291"/>
                </a:cubicBezTo>
              </a:path>
              <a:path w="1191" h="1018">
                <a:moveTo>
                  <a:pt x="14982" y="3969"/>
                </a:moveTo>
                <a:cubicBezTo>
                  <a:pt x="15175" y="4113"/>
                  <a:pt x="15304" y="3997"/>
                  <a:pt x="15404" y="3770"/>
                </a:cubicBezTo>
                <a:cubicBezTo>
                  <a:pt x="15412" y="3729"/>
                  <a:pt x="15421" y="3687"/>
                  <a:pt x="15429" y="3646"/>
                </a:cubicBezTo>
                <a:cubicBezTo>
                  <a:pt x="15429" y="3795"/>
                  <a:pt x="15429" y="3944"/>
                  <a:pt x="15429" y="4093"/>
                </a:cubicBezTo>
                <a:cubicBezTo>
                  <a:pt x="15445" y="4067"/>
                  <a:pt x="15562" y="3754"/>
                  <a:pt x="15627" y="3870"/>
                </a:cubicBezTo>
                <a:cubicBezTo>
                  <a:pt x="15672" y="4026"/>
                  <a:pt x="15685" y="4066"/>
                  <a:pt x="15701" y="41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75200" y="1490760"/>
            <a:ext cx="893880" cy="33948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16495" y="4440"/>
                </a:moveTo>
                <a:cubicBezTo>
                  <a:pt x="16515" y="4655"/>
                  <a:pt x="16536" y="4869"/>
                  <a:pt x="16545" y="5085"/>
                </a:cubicBezTo>
                <a:cubicBezTo>
                  <a:pt x="16382" y="4922"/>
                  <a:pt x="16381" y="4626"/>
                  <a:pt x="16495" y="4415"/>
                </a:cubicBezTo>
                <a:cubicBezTo>
                  <a:pt x="16536" y="4382"/>
                  <a:pt x="16578" y="4349"/>
                  <a:pt x="16619" y="4316"/>
                </a:cubicBezTo>
                <a:cubicBezTo>
                  <a:pt x="16766" y="4481"/>
                  <a:pt x="16861" y="4713"/>
                  <a:pt x="16495" y="4713"/>
                </a:cubicBezTo>
                <a:cubicBezTo>
                  <a:pt x="16346" y="4670"/>
                  <a:pt x="16282" y="4679"/>
                  <a:pt x="16346" y="4564"/>
                </a:cubicBezTo>
              </a:path>
              <a:path w="2482" h="944">
                <a:moveTo>
                  <a:pt x="16917" y="4316"/>
                </a:moveTo>
                <a:cubicBezTo>
                  <a:pt x="16862" y="4449"/>
                  <a:pt x="16850" y="4497"/>
                  <a:pt x="16867" y="4638"/>
                </a:cubicBezTo>
                <a:cubicBezTo>
                  <a:pt x="16921" y="4638"/>
                  <a:pt x="17366" y="4537"/>
                  <a:pt x="17140" y="4390"/>
                </a:cubicBezTo>
                <a:cubicBezTo>
                  <a:pt x="17099" y="4382"/>
                  <a:pt x="17057" y="4374"/>
                  <a:pt x="17016" y="4366"/>
                </a:cubicBezTo>
              </a:path>
              <a:path w="2482" h="944">
                <a:moveTo>
                  <a:pt x="17289" y="4316"/>
                </a:moveTo>
                <a:cubicBezTo>
                  <a:pt x="17280" y="4383"/>
                  <a:pt x="17250" y="4695"/>
                  <a:pt x="17363" y="4713"/>
                </a:cubicBezTo>
                <a:cubicBezTo>
                  <a:pt x="17521" y="4738"/>
                  <a:pt x="17549" y="4511"/>
                  <a:pt x="17587" y="4415"/>
                </a:cubicBezTo>
                <a:cubicBezTo>
                  <a:pt x="17587" y="4407"/>
                  <a:pt x="17587" y="4398"/>
                  <a:pt x="17587" y="4390"/>
                </a:cubicBezTo>
                <a:cubicBezTo>
                  <a:pt x="17587" y="4485"/>
                  <a:pt x="17553" y="4791"/>
                  <a:pt x="17760" y="4688"/>
                </a:cubicBezTo>
                <a:cubicBezTo>
                  <a:pt x="18013" y="4562"/>
                  <a:pt x="17747" y="4341"/>
                  <a:pt x="17636" y="4291"/>
                </a:cubicBezTo>
              </a:path>
              <a:path w="2482" h="944">
                <a:moveTo>
                  <a:pt x="17909" y="4390"/>
                </a:moveTo>
                <a:cubicBezTo>
                  <a:pt x="18029" y="4354"/>
                  <a:pt x="18244" y="4326"/>
                  <a:pt x="18132" y="4192"/>
                </a:cubicBezTo>
                <a:cubicBezTo>
                  <a:pt x="17902" y="4333"/>
                  <a:pt x="17891" y="4414"/>
                  <a:pt x="18033" y="4638"/>
                </a:cubicBezTo>
                <a:cubicBezTo>
                  <a:pt x="18174" y="4581"/>
                  <a:pt x="18405" y="4342"/>
                  <a:pt x="18430" y="4514"/>
                </a:cubicBezTo>
                <a:cubicBezTo>
                  <a:pt x="18430" y="4605"/>
                  <a:pt x="18430" y="4613"/>
                  <a:pt x="18430" y="4663"/>
                </a:cubicBezTo>
                <a:cubicBezTo>
                  <a:pt x="18415" y="4491"/>
                  <a:pt x="18383" y="4312"/>
                  <a:pt x="18554" y="4192"/>
                </a:cubicBezTo>
                <a:cubicBezTo>
                  <a:pt x="18686" y="4148"/>
                  <a:pt x="18717" y="4127"/>
                  <a:pt x="18802" y="41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7920" y="1170000"/>
            <a:ext cx="1446120" cy="322200"/>
          </a:xfrm>
          <a:custGeom>
            <a:avLst/>
            <a:gdLst/>
            <a:ahLst/>
            <a:rect l="l" t="t" r="r" b="b"/>
            <a:pathLst>
              <a:path w="4020" h="894">
                <a:moveTo>
                  <a:pt x="19521" y="3398"/>
                </a:moveTo>
                <a:cubicBezTo>
                  <a:pt x="19744" y="3454"/>
                  <a:pt x="19960" y="3482"/>
                  <a:pt x="20191" y="3497"/>
                </a:cubicBezTo>
                <a:cubicBezTo>
                  <a:pt x="20100" y="3661"/>
                  <a:pt x="19964" y="3777"/>
                  <a:pt x="20067" y="3894"/>
                </a:cubicBezTo>
              </a:path>
              <a:path w="4020" h="894">
                <a:moveTo>
                  <a:pt x="20414" y="3448"/>
                </a:moveTo>
                <a:cubicBezTo>
                  <a:pt x="20465" y="3549"/>
                  <a:pt x="20566" y="3778"/>
                  <a:pt x="20687" y="3572"/>
                </a:cubicBezTo>
                <a:cubicBezTo>
                  <a:pt x="20707" y="3495"/>
                  <a:pt x="20699" y="3477"/>
                  <a:pt x="20737" y="3448"/>
                </a:cubicBezTo>
                <a:cubicBezTo>
                  <a:pt x="20820" y="3521"/>
                  <a:pt x="21016" y="3635"/>
                  <a:pt x="21059" y="3448"/>
                </a:cubicBezTo>
                <a:cubicBezTo>
                  <a:pt x="21107" y="3239"/>
                  <a:pt x="20966" y="3274"/>
                  <a:pt x="20836" y="3274"/>
                </a:cubicBezTo>
              </a:path>
              <a:path w="4020" h="894">
                <a:moveTo>
                  <a:pt x="21828" y="3646"/>
                </a:moveTo>
                <a:cubicBezTo>
                  <a:pt x="21798" y="3539"/>
                  <a:pt x="21673" y="3543"/>
                  <a:pt x="21580" y="3621"/>
                </a:cubicBezTo>
                <a:cubicBezTo>
                  <a:pt x="21398" y="3775"/>
                  <a:pt x="21530" y="3919"/>
                  <a:pt x="21630" y="4068"/>
                </a:cubicBezTo>
                <a:cubicBezTo>
                  <a:pt x="21646" y="4093"/>
                  <a:pt x="21663" y="4117"/>
                  <a:pt x="21679" y="4142"/>
                </a:cubicBezTo>
              </a:path>
              <a:path w="4020" h="894">
                <a:moveTo>
                  <a:pt x="21332" y="3944"/>
                </a:moveTo>
                <a:cubicBezTo>
                  <a:pt x="21525" y="3915"/>
                  <a:pt x="21700" y="3901"/>
                  <a:pt x="21878" y="3820"/>
                </a:cubicBezTo>
                <a:cubicBezTo>
                  <a:pt x="21857" y="3948"/>
                  <a:pt x="21852" y="3999"/>
                  <a:pt x="21903" y="4118"/>
                </a:cubicBezTo>
                <a:cubicBezTo>
                  <a:pt x="22086" y="4074"/>
                  <a:pt x="22324" y="4006"/>
                  <a:pt x="22076" y="3820"/>
                </a:cubicBezTo>
                <a:cubicBezTo>
                  <a:pt x="22043" y="3803"/>
                  <a:pt x="22010" y="3787"/>
                  <a:pt x="21977" y="3770"/>
                </a:cubicBezTo>
              </a:path>
              <a:path w="4020" h="894">
                <a:moveTo>
                  <a:pt x="22225" y="3770"/>
                </a:moveTo>
                <a:cubicBezTo>
                  <a:pt x="22288" y="3896"/>
                  <a:pt x="22298" y="3925"/>
                  <a:pt x="22349" y="3994"/>
                </a:cubicBezTo>
                <a:cubicBezTo>
                  <a:pt x="22328" y="3868"/>
                  <a:pt x="22322" y="3785"/>
                  <a:pt x="22399" y="3671"/>
                </a:cubicBezTo>
                <a:cubicBezTo>
                  <a:pt x="22455" y="3613"/>
                  <a:pt x="22482" y="3594"/>
                  <a:pt x="22547" y="3597"/>
                </a:cubicBezTo>
              </a:path>
              <a:path w="4020" h="894">
                <a:moveTo>
                  <a:pt x="22647" y="3646"/>
                </a:moveTo>
                <a:cubicBezTo>
                  <a:pt x="22669" y="3735"/>
                  <a:pt x="22701" y="3841"/>
                  <a:pt x="22746" y="3919"/>
                </a:cubicBezTo>
                <a:cubicBezTo>
                  <a:pt x="22759" y="3816"/>
                  <a:pt x="22762" y="3669"/>
                  <a:pt x="22870" y="3621"/>
                </a:cubicBezTo>
                <a:cubicBezTo>
                  <a:pt x="22931" y="3594"/>
                  <a:pt x="23023" y="3712"/>
                  <a:pt x="23068" y="3746"/>
                </a:cubicBezTo>
                <a:cubicBezTo>
                  <a:pt x="23068" y="3754"/>
                  <a:pt x="23068" y="3762"/>
                  <a:pt x="23068" y="3770"/>
                </a:cubicBezTo>
                <a:cubicBezTo>
                  <a:pt x="23084" y="3674"/>
                  <a:pt x="23091" y="3566"/>
                  <a:pt x="23192" y="3522"/>
                </a:cubicBezTo>
                <a:cubicBezTo>
                  <a:pt x="23387" y="3438"/>
                  <a:pt x="23484" y="3577"/>
                  <a:pt x="23540" y="3746"/>
                </a:cubicBezTo>
                <a:cubicBezTo>
                  <a:pt x="23560" y="3807"/>
                  <a:pt x="23549" y="3818"/>
                  <a:pt x="23515" y="379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7800" y="2759040"/>
            <a:ext cx="884160" cy="322200"/>
          </a:xfrm>
          <a:custGeom>
            <a:avLst/>
            <a:gdLst/>
            <a:ahLst/>
            <a:rect l="l" t="t" r="r" b="b"/>
            <a:pathLst>
              <a:path w="2457" h="894">
                <a:moveTo>
                  <a:pt x="2902" y="7813"/>
                </a:moveTo>
                <a:cubicBezTo>
                  <a:pt x="2902" y="7732"/>
                  <a:pt x="2855" y="7672"/>
                  <a:pt x="2753" y="7665"/>
                </a:cubicBezTo>
                <a:cubicBezTo>
                  <a:pt x="2510" y="7647"/>
                  <a:pt x="2539" y="7953"/>
                  <a:pt x="2580" y="8086"/>
                </a:cubicBezTo>
                <a:cubicBezTo>
                  <a:pt x="2612" y="8189"/>
                  <a:pt x="2741" y="8349"/>
                  <a:pt x="2654" y="8384"/>
                </a:cubicBezTo>
              </a:path>
              <a:path w="2457" h="894">
                <a:moveTo>
                  <a:pt x="2356" y="8136"/>
                </a:moveTo>
                <a:cubicBezTo>
                  <a:pt x="2566" y="8127"/>
                  <a:pt x="2770" y="8102"/>
                  <a:pt x="2977" y="8062"/>
                </a:cubicBezTo>
                <a:cubicBezTo>
                  <a:pt x="2902" y="8148"/>
                  <a:pt x="2877" y="8207"/>
                  <a:pt x="2828" y="8310"/>
                </a:cubicBezTo>
                <a:cubicBezTo>
                  <a:pt x="2951" y="8383"/>
                  <a:pt x="3068" y="8375"/>
                  <a:pt x="3125" y="8210"/>
                </a:cubicBezTo>
                <a:cubicBezTo>
                  <a:pt x="3125" y="8185"/>
                  <a:pt x="3125" y="8161"/>
                  <a:pt x="3125" y="8136"/>
                </a:cubicBezTo>
                <a:cubicBezTo>
                  <a:pt x="3196" y="8302"/>
                  <a:pt x="3238" y="8278"/>
                  <a:pt x="3398" y="8260"/>
                </a:cubicBezTo>
              </a:path>
              <a:path w="2457" h="894">
                <a:moveTo>
                  <a:pt x="3497" y="8062"/>
                </a:moveTo>
                <a:cubicBezTo>
                  <a:pt x="3469" y="8089"/>
                  <a:pt x="3445" y="7931"/>
                  <a:pt x="3349" y="8111"/>
                </a:cubicBezTo>
                <a:cubicBezTo>
                  <a:pt x="3179" y="8432"/>
                  <a:pt x="3539" y="8314"/>
                  <a:pt x="3671" y="8260"/>
                </a:cubicBezTo>
              </a:path>
              <a:path w="2457" h="894">
                <a:moveTo>
                  <a:pt x="3721" y="7838"/>
                </a:moveTo>
                <a:cubicBezTo>
                  <a:pt x="3781" y="7983"/>
                  <a:pt x="3823" y="8135"/>
                  <a:pt x="3870" y="8285"/>
                </a:cubicBezTo>
              </a:path>
              <a:path w="2457" h="894">
                <a:moveTo>
                  <a:pt x="3547" y="8086"/>
                </a:moveTo>
                <a:cubicBezTo>
                  <a:pt x="3677" y="8080"/>
                  <a:pt x="3861" y="8096"/>
                  <a:pt x="3944" y="8012"/>
                </a:cubicBezTo>
                <a:cubicBezTo>
                  <a:pt x="3944" y="8082"/>
                  <a:pt x="3928" y="8235"/>
                  <a:pt x="4018" y="8260"/>
                </a:cubicBezTo>
                <a:cubicBezTo>
                  <a:pt x="4184" y="8305"/>
                  <a:pt x="4421" y="8127"/>
                  <a:pt x="4192" y="8012"/>
                </a:cubicBezTo>
                <a:cubicBezTo>
                  <a:pt x="4098" y="7993"/>
                  <a:pt x="4078" y="8006"/>
                  <a:pt x="4043" y="7962"/>
                </a:cubicBezTo>
              </a:path>
              <a:path w="2457" h="894">
                <a:moveTo>
                  <a:pt x="4415" y="8136"/>
                </a:moveTo>
                <a:cubicBezTo>
                  <a:pt x="4423" y="8153"/>
                  <a:pt x="4432" y="8169"/>
                  <a:pt x="4440" y="8186"/>
                </a:cubicBezTo>
                <a:cubicBezTo>
                  <a:pt x="4460" y="8050"/>
                  <a:pt x="4485" y="7936"/>
                  <a:pt x="4614" y="7863"/>
                </a:cubicBezTo>
                <a:cubicBezTo>
                  <a:pt x="4713" y="7838"/>
                  <a:pt x="4746" y="7830"/>
                  <a:pt x="4812" y="7863"/>
                </a:cubicBezTo>
              </a:path>
              <a:path w="2457" h="894">
                <a:moveTo>
                  <a:pt x="2828" y="8558"/>
                </a:moveTo>
                <a:cubicBezTo>
                  <a:pt x="3134" y="8492"/>
                  <a:pt x="3478" y="8524"/>
                  <a:pt x="3795" y="8483"/>
                </a:cubicBezTo>
                <a:cubicBezTo>
                  <a:pt x="3938" y="8464"/>
                  <a:pt x="4087" y="8416"/>
                  <a:pt x="4217" y="8384"/>
                </a:cubicBezTo>
              </a:path>
              <a:path w="2457" h="894">
                <a:moveTo>
                  <a:pt x="4068" y="8409"/>
                </a:moveTo>
                <a:cubicBezTo>
                  <a:pt x="4195" y="8409"/>
                  <a:pt x="4296" y="8403"/>
                  <a:pt x="4415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51200" y="2768760"/>
            <a:ext cx="1330560" cy="214200"/>
          </a:xfrm>
          <a:custGeom>
            <a:avLst/>
            <a:gdLst/>
            <a:ahLst/>
            <a:rect l="l" t="t" r="r" b="b"/>
            <a:pathLst>
              <a:path w="3697" h="597">
                <a:moveTo>
                  <a:pt x="10418" y="7913"/>
                </a:moveTo>
                <a:cubicBezTo>
                  <a:pt x="10546" y="8025"/>
                  <a:pt x="10659" y="8100"/>
                  <a:pt x="10815" y="8161"/>
                </a:cubicBezTo>
              </a:path>
              <a:path w="3697" h="597">
                <a:moveTo>
                  <a:pt x="10815" y="8161"/>
                </a:moveTo>
                <a:lnTo>
                  <a:pt x="10815" y="8161"/>
                </a:lnTo>
              </a:path>
              <a:path w="3697" h="597">
                <a:moveTo>
                  <a:pt x="13171" y="7913"/>
                </a:moveTo>
                <a:lnTo>
                  <a:pt x="13171" y="7913"/>
                </a:lnTo>
                <a:lnTo>
                  <a:pt x="13171" y="7913"/>
                </a:lnTo>
              </a:path>
              <a:path w="3697" h="597">
                <a:moveTo>
                  <a:pt x="13171" y="7913"/>
                </a:moveTo>
                <a:lnTo>
                  <a:pt x="13171" y="7913"/>
                </a:lnTo>
              </a:path>
              <a:path w="3697" h="597">
                <a:moveTo>
                  <a:pt x="13965" y="7689"/>
                </a:moveTo>
                <a:cubicBezTo>
                  <a:pt x="13977" y="7845"/>
                  <a:pt x="13975" y="8160"/>
                  <a:pt x="14089" y="8285"/>
                </a:cubicBezTo>
                <a:cubicBezTo>
                  <a:pt x="14097" y="8277"/>
                  <a:pt x="14106" y="8268"/>
                  <a:pt x="14114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44920" y="2776680"/>
            <a:ext cx="1492200" cy="250560"/>
          </a:xfrm>
          <a:custGeom>
            <a:avLst/>
            <a:gdLst/>
            <a:ahLst/>
            <a:rect l="l" t="t" r="r" b="b"/>
            <a:pathLst>
              <a:path w="4144" h="696">
                <a:moveTo>
                  <a:pt x="9872" y="7987"/>
                </a:moveTo>
                <a:cubicBezTo>
                  <a:pt x="10009" y="8001"/>
                  <a:pt x="10129" y="7995"/>
                  <a:pt x="10269" y="7987"/>
                </a:cubicBezTo>
                <a:cubicBezTo>
                  <a:pt x="10168" y="7877"/>
                  <a:pt x="10058" y="7739"/>
                  <a:pt x="9922" y="7888"/>
                </a:cubicBezTo>
                <a:cubicBezTo>
                  <a:pt x="9897" y="7929"/>
                  <a:pt x="9872" y="7971"/>
                  <a:pt x="9847" y="8012"/>
                </a:cubicBezTo>
                <a:cubicBezTo>
                  <a:pt x="9969" y="8204"/>
                  <a:pt x="10183" y="8370"/>
                  <a:pt x="10418" y="8161"/>
                </a:cubicBezTo>
                <a:cubicBezTo>
                  <a:pt x="10443" y="8111"/>
                  <a:pt x="10467" y="8062"/>
                  <a:pt x="10492" y="8012"/>
                </a:cubicBezTo>
              </a:path>
              <a:path w="4144" h="696">
                <a:moveTo>
                  <a:pt x="10641" y="7838"/>
                </a:moveTo>
                <a:cubicBezTo>
                  <a:pt x="10602" y="7988"/>
                  <a:pt x="10489" y="8219"/>
                  <a:pt x="10542" y="8285"/>
                </a:cubicBezTo>
              </a:path>
              <a:path w="4144" h="696">
                <a:moveTo>
                  <a:pt x="10815" y="7962"/>
                </a:moveTo>
                <a:cubicBezTo>
                  <a:pt x="10831" y="8125"/>
                  <a:pt x="10851" y="8269"/>
                  <a:pt x="10939" y="8409"/>
                </a:cubicBezTo>
                <a:cubicBezTo>
                  <a:pt x="10875" y="8282"/>
                  <a:pt x="10772" y="8001"/>
                  <a:pt x="10939" y="7888"/>
                </a:cubicBezTo>
                <a:cubicBezTo>
                  <a:pt x="10980" y="7888"/>
                  <a:pt x="11022" y="7888"/>
                  <a:pt x="11063" y="7888"/>
                </a:cubicBezTo>
                <a:cubicBezTo>
                  <a:pt x="11125" y="8061"/>
                  <a:pt x="11139" y="8315"/>
                  <a:pt x="10840" y="8136"/>
                </a:cubicBezTo>
                <a:cubicBezTo>
                  <a:pt x="10815" y="8103"/>
                  <a:pt x="10790" y="8070"/>
                  <a:pt x="10765" y="8037"/>
                </a:cubicBezTo>
              </a:path>
              <a:path w="4144" h="696">
                <a:moveTo>
                  <a:pt x="11336" y="7913"/>
                </a:moveTo>
                <a:cubicBezTo>
                  <a:pt x="11210" y="7988"/>
                  <a:pt x="11247" y="8093"/>
                  <a:pt x="11286" y="8210"/>
                </a:cubicBezTo>
                <a:cubicBezTo>
                  <a:pt x="11444" y="8191"/>
                  <a:pt x="11601" y="8127"/>
                  <a:pt x="11460" y="7938"/>
                </a:cubicBezTo>
                <a:cubicBezTo>
                  <a:pt x="11403" y="7900"/>
                  <a:pt x="11378" y="7905"/>
                  <a:pt x="11385" y="7863"/>
                </a:cubicBezTo>
              </a:path>
              <a:path w="4144" h="696">
                <a:moveTo>
                  <a:pt x="11658" y="7714"/>
                </a:moveTo>
                <a:cubicBezTo>
                  <a:pt x="11674" y="7791"/>
                  <a:pt x="11690" y="8193"/>
                  <a:pt x="11782" y="8210"/>
                </a:cubicBezTo>
                <a:cubicBezTo>
                  <a:pt x="11815" y="8194"/>
                  <a:pt x="11848" y="8177"/>
                  <a:pt x="11881" y="8161"/>
                </a:cubicBezTo>
              </a:path>
              <a:path w="4144" h="696">
                <a:moveTo>
                  <a:pt x="11534" y="7987"/>
                </a:moveTo>
                <a:cubicBezTo>
                  <a:pt x="11717" y="7981"/>
                  <a:pt x="11897" y="7962"/>
                  <a:pt x="12080" y="7962"/>
                </a:cubicBezTo>
                <a:cubicBezTo>
                  <a:pt x="12096" y="7962"/>
                  <a:pt x="12113" y="7962"/>
                  <a:pt x="12129" y="7962"/>
                </a:cubicBezTo>
                <a:cubicBezTo>
                  <a:pt x="11960" y="7946"/>
                  <a:pt x="11937" y="8019"/>
                  <a:pt x="11981" y="8161"/>
                </a:cubicBezTo>
                <a:cubicBezTo>
                  <a:pt x="12109" y="8147"/>
                  <a:pt x="12266" y="7939"/>
                  <a:pt x="12303" y="8062"/>
                </a:cubicBezTo>
                <a:cubicBezTo>
                  <a:pt x="12303" y="8106"/>
                  <a:pt x="12306" y="8120"/>
                  <a:pt x="12278" y="8136"/>
                </a:cubicBezTo>
                <a:cubicBezTo>
                  <a:pt x="12326" y="8048"/>
                  <a:pt x="12428" y="7827"/>
                  <a:pt x="12551" y="7987"/>
                </a:cubicBezTo>
                <a:cubicBezTo>
                  <a:pt x="12607" y="8060"/>
                  <a:pt x="12601" y="8110"/>
                  <a:pt x="12601" y="8186"/>
                </a:cubicBezTo>
              </a:path>
              <a:path w="4144" h="696">
                <a:moveTo>
                  <a:pt x="12898" y="7863"/>
                </a:moveTo>
                <a:cubicBezTo>
                  <a:pt x="12908" y="7923"/>
                  <a:pt x="12931" y="8363"/>
                  <a:pt x="13047" y="8334"/>
                </a:cubicBezTo>
                <a:cubicBezTo>
                  <a:pt x="13080" y="8309"/>
                  <a:pt x="13113" y="8285"/>
                  <a:pt x="13146" y="8260"/>
                </a:cubicBezTo>
              </a:path>
              <a:path w="4144" h="696">
                <a:moveTo>
                  <a:pt x="12774" y="7938"/>
                </a:moveTo>
                <a:cubicBezTo>
                  <a:pt x="12969" y="7980"/>
                  <a:pt x="13152" y="7981"/>
                  <a:pt x="13246" y="8186"/>
                </a:cubicBezTo>
                <a:cubicBezTo>
                  <a:pt x="13246" y="8211"/>
                  <a:pt x="13246" y="8235"/>
                  <a:pt x="13246" y="8260"/>
                </a:cubicBezTo>
              </a:path>
              <a:path w="4144" h="696">
                <a:moveTo>
                  <a:pt x="13667" y="8012"/>
                </a:moveTo>
                <a:cubicBezTo>
                  <a:pt x="13602" y="8024"/>
                  <a:pt x="13302" y="8149"/>
                  <a:pt x="13469" y="8260"/>
                </a:cubicBezTo>
                <a:cubicBezTo>
                  <a:pt x="13584" y="8337"/>
                  <a:pt x="13655" y="8169"/>
                  <a:pt x="13692" y="8111"/>
                </a:cubicBezTo>
                <a:cubicBezTo>
                  <a:pt x="13692" y="8103"/>
                  <a:pt x="13692" y="8094"/>
                  <a:pt x="13692" y="8086"/>
                </a:cubicBezTo>
                <a:cubicBezTo>
                  <a:pt x="13769" y="8290"/>
                  <a:pt x="13809" y="8258"/>
                  <a:pt x="13990" y="821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60880" y="3714840"/>
            <a:ext cx="465120" cy="42048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12080" y="10914"/>
                </a:moveTo>
                <a:cubicBezTo>
                  <a:pt x="12147" y="10892"/>
                  <a:pt x="12168" y="10766"/>
                  <a:pt x="12129" y="10691"/>
                </a:cubicBezTo>
                <a:cubicBezTo>
                  <a:pt x="12046" y="10530"/>
                  <a:pt x="11804" y="10520"/>
                  <a:pt x="11683" y="10641"/>
                </a:cubicBezTo>
                <a:cubicBezTo>
                  <a:pt x="11459" y="10866"/>
                  <a:pt x="11554" y="11046"/>
                  <a:pt x="11832" y="11013"/>
                </a:cubicBezTo>
                <a:cubicBezTo>
                  <a:pt x="11991" y="10994"/>
                  <a:pt x="12031" y="10860"/>
                  <a:pt x="12105" y="10740"/>
                </a:cubicBezTo>
                <a:cubicBezTo>
                  <a:pt x="12144" y="10822"/>
                  <a:pt x="12092" y="11082"/>
                  <a:pt x="12080" y="11187"/>
                </a:cubicBezTo>
                <a:cubicBezTo>
                  <a:pt x="12067" y="11299"/>
                  <a:pt x="12055" y="11377"/>
                  <a:pt x="12055" y="11485"/>
                </a:cubicBezTo>
              </a:path>
              <a:path w="1291" h="1167">
                <a:moveTo>
                  <a:pt x="12502" y="10368"/>
                </a:moveTo>
                <a:cubicBezTo>
                  <a:pt x="12460" y="10410"/>
                  <a:pt x="12513" y="10355"/>
                  <a:pt x="12551" y="10344"/>
                </a:cubicBezTo>
                <a:cubicBezTo>
                  <a:pt x="12617" y="10325"/>
                  <a:pt x="12659" y="10319"/>
                  <a:pt x="12725" y="10319"/>
                </a:cubicBezTo>
                <a:cubicBezTo>
                  <a:pt x="12743" y="10383"/>
                  <a:pt x="12724" y="10428"/>
                  <a:pt x="12675" y="10492"/>
                </a:cubicBezTo>
                <a:cubicBezTo>
                  <a:pt x="12608" y="10579"/>
                  <a:pt x="12522" y="10655"/>
                  <a:pt x="12452" y="10740"/>
                </a:cubicBezTo>
                <a:cubicBezTo>
                  <a:pt x="12422" y="10770"/>
                  <a:pt x="12411" y="10784"/>
                  <a:pt x="12402" y="10815"/>
                </a:cubicBezTo>
                <a:cubicBezTo>
                  <a:pt x="12412" y="10825"/>
                  <a:pt x="12456" y="10763"/>
                  <a:pt x="12526" y="10740"/>
                </a:cubicBezTo>
                <a:cubicBezTo>
                  <a:pt x="12599" y="10716"/>
                  <a:pt x="12656" y="10699"/>
                  <a:pt x="12700" y="10765"/>
                </a:cubicBezTo>
                <a:cubicBezTo>
                  <a:pt x="12709" y="10779"/>
                  <a:pt x="12758" y="10840"/>
                  <a:pt x="12799" y="10815"/>
                </a:cubicBezTo>
                <a:cubicBezTo>
                  <a:pt x="12816" y="10798"/>
                  <a:pt x="12832" y="10782"/>
                  <a:pt x="12849" y="1076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13320" y="3714840"/>
            <a:ext cx="776520" cy="125280"/>
          </a:xfrm>
          <a:custGeom>
            <a:avLst/>
            <a:gdLst/>
            <a:ahLst/>
            <a:rect l="l" t="t" r="r" b="b"/>
            <a:pathLst>
              <a:path w="2159" h="348">
                <a:moveTo>
                  <a:pt x="17537" y="10492"/>
                </a:moveTo>
                <a:cubicBezTo>
                  <a:pt x="17554" y="10509"/>
                  <a:pt x="17570" y="10525"/>
                  <a:pt x="17587" y="10542"/>
                </a:cubicBezTo>
                <a:cubicBezTo>
                  <a:pt x="17648" y="10458"/>
                  <a:pt x="17579" y="10430"/>
                  <a:pt x="17686" y="10368"/>
                </a:cubicBezTo>
                <a:cubicBezTo>
                  <a:pt x="17853" y="10271"/>
                  <a:pt x="17947" y="10306"/>
                  <a:pt x="17983" y="10492"/>
                </a:cubicBezTo>
                <a:cubicBezTo>
                  <a:pt x="17983" y="10537"/>
                  <a:pt x="17980" y="10550"/>
                  <a:pt x="18008" y="10567"/>
                </a:cubicBezTo>
              </a:path>
              <a:path w="2159" h="348">
                <a:moveTo>
                  <a:pt x="18331" y="10344"/>
                </a:moveTo>
                <a:cubicBezTo>
                  <a:pt x="18386" y="10355"/>
                  <a:pt x="18420" y="10363"/>
                  <a:pt x="18479" y="10368"/>
                </a:cubicBezTo>
                <a:cubicBezTo>
                  <a:pt x="18428" y="10319"/>
                  <a:pt x="18273" y="10346"/>
                  <a:pt x="18231" y="10443"/>
                </a:cubicBezTo>
                <a:cubicBezTo>
                  <a:pt x="18101" y="10741"/>
                  <a:pt x="18551" y="10613"/>
                  <a:pt x="18628" y="10592"/>
                </a:cubicBezTo>
              </a:path>
              <a:path w="2159" h="348">
                <a:moveTo>
                  <a:pt x="18951" y="10344"/>
                </a:moveTo>
                <a:cubicBezTo>
                  <a:pt x="19141" y="10344"/>
                  <a:pt x="19331" y="10344"/>
                  <a:pt x="19521" y="10344"/>
                </a:cubicBezTo>
                <a:cubicBezTo>
                  <a:pt x="19467" y="10420"/>
                  <a:pt x="19368" y="10550"/>
                  <a:pt x="19546" y="10567"/>
                </a:cubicBezTo>
                <a:cubicBezTo>
                  <a:pt x="19784" y="10589"/>
                  <a:pt x="19670" y="10379"/>
                  <a:pt x="19521" y="103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96120" y="3625920"/>
            <a:ext cx="27000" cy="133200"/>
          </a:xfrm>
          <a:custGeom>
            <a:avLst/>
            <a:gdLst/>
            <a:ahLst/>
            <a:rect l="l" t="t" r="r" b="b"/>
            <a:pathLst>
              <a:path w="76" h="373">
                <a:moveTo>
                  <a:pt x="20265" y="10071"/>
                </a:moveTo>
                <a:cubicBezTo>
                  <a:pt x="20278" y="10196"/>
                  <a:pt x="20303" y="10324"/>
                  <a:pt x="20340" y="1044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92920" y="3660840"/>
            <a:ext cx="1484280" cy="268200"/>
          </a:xfrm>
          <a:custGeom>
            <a:avLst/>
            <a:gdLst/>
            <a:ahLst/>
            <a:rect l="l" t="t" r="r" b="b"/>
            <a:pathLst>
              <a:path w="4119" h="745">
                <a:moveTo>
                  <a:pt x="19149" y="10170"/>
                </a:moveTo>
                <a:cubicBezTo>
                  <a:pt x="19157" y="10308"/>
                  <a:pt x="19163" y="10446"/>
                  <a:pt x="19224" y="10567"/>
                </a:cubicBezTo>
              </a:path>
              <a:path w="4119" h="745">
                <a:moveTo>
                  <a:pt x="20117" y="10244"/>
                </a:moveTo>
                <a:cubicBezTo>
                  <a:pt x="20335" y="10295"/>
                  <a:pt x="20439" y="10286"/>
                  <a:pt x="20662" y="10244"/>
                </a:cubicBezTo>
              </a:path>
              <a:path w="4119" h="745">
                <a:moveTo>
                  <a:pt x="22671" y="10592"/>
                </a:moveTo>
                <a:cubicBezTo>
                  <a:pt x="22700" y="10699"/>
                  <a:pt x="22722" y="10806"/>
                  <a:pt x="22746" y="10914"/>
                </a:cubicBezTo>
              </a:path>
              <a:path w="4119" h="745">
                <a:moveTo>
                  <a:pt x="23118" y="10542"/>
                </a:moveTo>
                <a:cubicBezTo>
                  <a:pt x="23002" y="10641"/>
                  <a:pt x="22979" y="10623"/>
                  <a:pt x="23044" y="10765"/>
                </a:cubicBezTo>
                <a:cubicBezTo>
                  <a:pt x="23171" y="10775"/>
                  <a:pt x="23315" y="10747"/>
                  <a:pt x="23217" y="10592"/>
                </a:cubicBezTo>
                <a:cubicBezTo>
                  <a:pt x="23201" y="10575"/>
                  <a:pt x="23184" y="10559"/>
                  <a:pt x="23168" y="1054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73920" y="3946680"/>
            <a:ext cx="312840" cy="169560"/>
          </a:xfrm>
          <a:custGeom>
            <a:avLst/>
            <a:gdLst/>
            <a:ahLst/>
            <a:rect l="l" t="t" r="r" b="b"/>
            <a:pathLst>
              <a:path w="870" h="472">
                <a:moveTo>
                  <a:pt x="19621" y="10964"/>
                </a:moveTo>
                <a:cubicBezTo>
                  <a:pt x="19494" y="10984"/>
                  <a:pt x="19388" y="11047"/>
                  <a:pt x="19372" y="11187"/>
                </a:cubicBezTo>
                <a:cubicBezTo>
                  <a:pt x="19380" y="11204"/>
                  <a:pt x="19389" y="11220"/>
                  <a:pt x="19397" y="11237"/>
                </a:cubicBezTo>
                <a:cubicBezTo>
                  <a:pt x="19501" y="11242"/>
                  <a:pt x="19810" y="11244"/>
                  <a:pt x="19695" y="11038"/>
                </a:cubicBezTo>
                <a:cubicBezTo>
                  <a:pt x="19678" y="11030"/>
                  <a:pt x="19662" y="11021"/>
                  <a:pt x="19645" y="11013"/>
                </a:cubicBezTo>
              </a:path>
              <a:path w="870" h="472">
                <a:moveTo>
                  <a:pt x="19893" y="11212"/>
                </a:moveTo>
                <a:cubicBezTo>
                  <a:pt x="19893" y="11131"/>
                  <a:pt x="19914" y="11058"/>
                  <a:pt x="19993" y="11013"/>
                </a:cubicBezTo>
                <a:cubicBezTo>
                  <a:pt x="20072" y="10968"/>
                  <a:pt x="20164" y="10973"/>
                  <a:pt x="20241" y="10988"/>
                </a:cubicBezTo>
              </a:path>
              <a:path w="870" h="472">
                <a:moveTo>
                  <a:pt x="19447" y="11361"/>
                </a:moveTo>
                <a:cubicBezTo>
                  <a:pt x="19672" y="11373"/>
                  <a:pt x="19893" y="11407"/>
                  <a:pt x="20117" y="11435"/>
                </a:cubicBezTo>
                <a:cubicBezTo>
                  <a:pt x="20125" y="11435"/>
                  <a:pt x="20133" y="11435"/>
                  <a:pt x="20141" y="114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9040" y="3625920"/>
            <a:ext cx="21420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20662" y="10071"/>
                </a:moveTo>
                <a:cubicBezTo>
                  <a:pt x="20669" y="10117"/>
                  <a:pt x="20712" y="10455"/>
                  <a:pt x="20712" y="10418"/>
                </a:cubicBezTo>
                <a:cubicBezTo>
                  <a:pt x="20728" y="10391"/>
                  <a:pt x="20789" y="10164"/>
                  <a:pt x="20861" y="10269"/>
                </a:cubicBezTo>
                <a:cubicBezTo>
                  <a:pt x="20942" y="10387"/>
                  <a:pt x="20884" y="10411"/>
                  <a:pt x="21010" y="10443"/>
                </a:cubicBezTo>
              </a:path>
              <a:path w="597" h="422">
                <a:moveTo>
                  <a:pt x="21084" y="10344"/>
                </a:moveTo>
                <a:cubicBezTo>
                  <a:pt x="21120" y="10322"/>
                  <a:pt x="21150" y="10284"/>
                  <a:pt x="21183" y="10244"/>
                </a:cubicBezTo>
                <a:cubicBezTo>
                  <a:pt x="21144" y="10264"/>
                  <a:pt x="20961" y="10450"/>
                  <a:pt x="21109" y="10492"/>
                </a:cubicBezTo>
                <a:cubicBezTo>
                  <a:pt x="21159" y="10492"/>
                  <a:pt x="21208" y="10492"/>
                  <a:pt x="21258" y="104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3616200"/>
            <a:ext cx="438120" cy="25884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22101" y="10096"/>
                </a:moveTo>
                <a:cubicBezTo>
                  <a:pt x="22182" y="10096"/>
                  <a:pt x="22255" y="10091"/>
                  <a:pt x="22324" y="10120"/>
                </a:cubicBezTo>
                <a:cubicBezTo>
                  <a:pt x="22225" y="10274"/>
                  <a:pt x="22140" y="10354"/>
                  <a:pt x="21977" y="10443"/>
                </a:cubicBezTo>
                <a:cubicBezTo>
                  <a:pt x="22162" y="10458"/>
                  <a:pt x="22231" y="10447"/>
                  <a:pt x="22399" y="10368"/>
                </a:cubicBezTo>
              </a:path>
              <a:path w="1216" h="720">
                <a:moveTo>
                  <a:pt x="22473" y="10269"/>
                </a:moveTo>
                <a:cubicBezTo>
                  <a:pt x="22513" y="10309"/>
                  <a:pt x="22521" y="10339"/>
                  <a:pt x="22498" y="10393"/>
                </a:cubicBezTo>
                <a:cubicBezTo>
                  <a:pt x="22545" y="10330"/>
                  <a:pt x="22586" y="10255"/>
                  <a:pt x="22671" y="10220"/>
                </a:cubicBezTo>
                <a:cubicBezTo>
                  <a:pt x="22761" y="10183"/>
                  <a:pt x="22794" y="10367"/>
                  <a:pt x="22820" y="10393"/>
                </a:cubicBezTo>
              </a:path>
              <a:path w="1216" h="720">
                <a:moveTo>
                  <a:pt x="23019" y="10195"/>
                </a:moveTo>
                <a:cubicBezTo>
                  <a:pt x="22948" y="10288"/>
                  <a:pt x="22925" y="10314"/>
                  <a:pt x="22920" y="10393"/>
                </a:cubicBezTo>
                <a:cubicBezTo>
                  <a:pt x="23077" y="10453"/>
                  <a:pt x="23182" y="10375"/>
                  <a:pt x="23192" y="10195"/>
                </a:cubicBezTo>
                <a:cubicBezTo>
                  <a:pt x="23184" y="10162"/>
                  <a:pt x="23176" y="10129"/>
                  <a:pt x="23168" y="10096"/>
                </a:cubicBezTo>
                <a:cubicBezTo>
                  <a:pt x="23088" y="9962"/>
                  <a:pt x="23191" y="10309"/>
                  <a:pt x="23192" y="10319"/>
                </a:cubicBezTo>
                <a:cubicBezTo>
                  <a:pt x="23192" y="10344"/>
                  <a:pt x="23192" y="10368"/>
                  <a:pt x="23192" y="10393"/>
                </a:cubicBezTo>
              </a:path>
              <a:path w="1216" h="720">
                <a:moveTo>
                  <a:pt x="22622" y="10517"/>
                </a:moveTo>
                <a:cubicBezTo>
                  <a:pt x="22779" y="10540"/>
                  <a:pt x="22861" y="10568"/>
                  <a:pt x="22920" y="10716"/>
                </a:cubicBezTo>
                <a:cubicBezTo>
                  <a:pt x="22819" y="10751"/>
                  <a:pt x="22785" y="10750"/>
                  <a:pt x="22671" y="1074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19120" y="3679920"/>
            <a:ext cx="4859280" cy="2214360"/>
          </a:xfrm>
          <a:custGeom>
            <a:avLst/>
            <a:gdLst/>
            <a:ahLst/>
            <a:rect l="l" t="t" r="r" b="b"/>
            <a:pathLst>
              <a:path w="13495" h="6152">
                <a:moveTo>
                  <a:pt x="17413" y="10418"/>
                </a:moveTo>
                <a:cubicBezTo>
                  <a:pt x="17419" y="10495"/>
                  <a:pt x="17425" y="10525"/>
                  <a:pt x="17438" y="10592"/>
                </a:cubicBezTo>
              </a:path>
              <a:path w="13495" h="6152">
                <a:moveTo>
                  <a:pt x="17289" y="10220"/>
                </a:moveTo>
                <a:lnTo>
                  <a:pt x="17289" y="10220"/>
                </a:lnTo>
              </a:path>
              <a:path w="13495" h="6152">
                <a:moveTo>
                  <a:pt x="3944" y="13965"/>
                </a:moveTo>
                <a:lnTo>
                  <a:pt x="3944" y="13965"/>
                </a:lnTo>
              </a:path>
              <a:path w="13495" h="6152">
                <a:moveTo>
                  <a:pt x="4986" y="13940"/>
                </a:moveTo>
                <a:lnTo>
                  <a:pt x="4986" y="13940"/>
                </a:lnTo>
              </a:path>
              <a:path w="13495" h="6152">
                <a:moveTo>
                  <a:pt x="5953" y="14089"/>
                </a:moveTo>
                <a:cubicBezTo>
                  <a:pt x="5953" y="14081"/>
                  <a:pt x="5953" y="14072"/>
                  <a:pt x="5953" y="14064"/>
                </a:cubicBezTo>
              </a:path>
              <a:path w="13495" h="6152">
                <a:moveTo>
                  <a:pt x="6276" y="13891"/>
                </a:moveTo>
                <a:cubicBezTo>
                  <a:pt x="6284" y="13891"/>
                  <a:pt x="6292" y="13891"/>
                  <a:pt x="6300" y="13891"/>
                </a:cubicBezTo>
              </a:path>
              <a:path w="13495" h="6152">
                <a:moveTo>
                  <a:pt x="4142" y="16073"/>
                </a:moveTo>
                <a:cubicBezTo>
                  <a:pt x="4250" y="16132"/>
                  <a:pt x="4323" y="16169"/>
                  <a:pt x="4415" y="16247"/>
                </a:cubicBezTo>
              </a:path>
              <a:path w="13495" h="6152">
                <a:moveTo>
                  <a:pt x="4316" y="16024"/>
                </a:moveTo>
                <a:cubicBezTo>
                  <a:pt x="4253" y="16144"/>
                  <a:pt x="4191" y="16257"/>
                  <a:pt x="4118" y="163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13160" y="5653080"/>
            <a:ext cx="196920" cy="268200"/>
          </a:xfrm>
          <a:custGeom>
            <a:avLst/>
            <a:gdLst/>
            <a:ahLst/>
            <a:rect l="l" t="t" r="r" b="b"/>
            <a:pathLst>
              <a:path w="546" h="746">
                <a:moveTo>
                  <a:pt x="12427" y="15701"/>
                </a:moveTo>
                <a:cubicBezTo>
                  <a:pt x="12313" y="15734"/>
                  <a:pt x="12164" y="15739"/>
                  <a:pt x="12055" y="15776"/>
                </a:cubicBezTo>
                <a:cubicBezTo>
                  <a:pt x="11960" y="15808"/>
                  <a:pt x="12076" y="15973"/>
                  <a:pt x="12080" y="16073"/>
                </a:cubicBezTo>
                <a:cubicBezTo>
                  <a:pt x="12080" y="16098"/>
                  <a:pt x="12080" y="16123"/>
                  <a:pt x="12080" y="16148"/>
                </a:cubicBezTo>
                <a:cubicBezTo>
                  <a:pt x="12174" y="16034"/>
                  <a:pt x="12270" y="15984"/>
                  <a:pt x="12427" y="16049"/>
                </a:cubicBezTo>
                <a:cubicBezTo>
                  <a:pt x="12682" y="16154"/>
                  <a:pt x="12456" y="16377"/>
                  <a:pt x="12303" y="16421"/>
                </a:cubicBezTo>
                <a:cubicBezTo>
                  <a:pt x="12193" y="16453"/>
                  <a:pt x="12077" y="16458"/>
                  <a:pt x="11981" y="164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0200" y="3687840"/>
            <a:ext cx="16056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16718" y="10319"/>
                </a:moveTo>
                <a:cubicBezTo>
                  <a:pt x="16718" y="10252"/>
                  <a:pt x="16700" y="10508"/>
                  <a:pt x="16694" y="10542"/>
                </a:cubicBezTo>
                <a:cubicBezTo>
                  <a:pt x="16694" y="10467"/>
                  <a:pt x="16679" y="10388"/>
                  <a:pt x="16718" y="10319"/>
                </a:cubicBezTo>
                <a:cubicBezTo>
                  <a:pt x="16784" y="10201"/>
                  <a:pt x="17020" y="10211"/>
                  <a:pt x="17090" y="10319"/>
                </a:cubicBezTo>
                <a:cubicBezTo>
                  <a:pt x="17126" y="10375"/>
                  <a:pt x="17140" y="10520"/>
                  <a:pt x="17140" y="105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0760" y="4241880"/>
            <a:ext cx="2349360" cy="98280"/>
          </a:xfrm>
          <a:custGeom>
            <a:avLst/>
            <a:gdLst/>
            <a:ahLst/>
            <a:rect l="l" t="t" r="r" b="b"/>
            <a:pathLst>
              <a:path w="6525" h="274">
                <a:moveTo>
                  <a:pt x="17140" y="11832"/>
                </a:moveTo>
                <a:lnTo>
                  <a:pt x="17140" y="11832"/>
                </a:lnTo>
                <a:lnTo>
                  <a:pt x="17140" y="11832"/>
                </a:lnTo>
              </a:path>
              <a:path w="6525" h="274">
                <a:moveTo>
                  <a:pt x="17140" y="11832"/>
                </a:moveTo>
                <a:lnTo>
                  <a:pt x="17140" y="11832"/>
                </a:lnTo>
              </a:path>
              <a:path w="6525" h="274">
                <a:moveTo>
                  <a:pt x="23664" y="11782"/>
                </a:moveTo>
                <a:cubicBezTo>
                  <a:pt x="23553" y="11869"/>
                  <a:pt x="23448" y="11963"/>
                  <a:pt x="23341" y="12055"/>
                </a:cubicBezTo>
              </a:path>
              <a:path w="6525" h="274">
                <a:moveTo>
                  <a:pt x="23316" y="11807"/>
                </a:moveTo>
                <a:cubicBezTo>
                  <a:pt x="23355" y="11903"/>
                  <a:pt x="23468" y="11962"/>
                  <a:pt x="23564" y="12005"/>
                </a:cubicBezTo>
                <a:cubicBezTo>
                  <a:pt x="23589" y="12013"/>
                  <a:pt x="23614" y="12022"/>
                  <a:pt x="23639" y="1203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4249800"/>
            <a:ext cx="849240" cy="171360"/>
          </a:xfrm>
          <a:custGeom>
            <a:avLst/>
            <a:gdLst/>
            <a:ahLst/>
            <a:rect l="l" t="t" r="r" b="b"/>
            <a:pathLst>
              <a:path w="2357" h="472">
                <a:moveTo>
                  <a:pt x="16495" y="11881"/>
                </a:moveTo>
                <a:cubicBezTo>
                  <a:pt x="16517" y="12031"/>
                  <a:pt x="16519" y="12065"/>
                  <a:pt x="16545" y="12154"/>
                </a:cubicBezTo>
                <a:cubicBezTo>
                  <a:pt x="16545" y="12055"/>
                  <a:pt x="16527" y="11967"/>
                  <a:pt x="16594" y="11881"/>
                </a:cubicBezTo>
                <a:cubicBezTo>
                  <a:pt x="16725" y="11714"/>
                  <a:pt x="16840" y="11855"/>
                  <a:pt x="16892" y="11981"/>
                </a:cubicBezTo>
                <a:cubicBezTo>
                  <a:pt x="16929" y="12071"/>
                  <a:pt x="16953" y="12159"/>
                  <a:pt x="16966" y="12254"/>
                </a:cubicBezTo>
              </a:path>
              <a:path w="2357" h="472">
                <a:moveTo>
                  <a:pt x="17140" y="12005"/>
                </a:moveTo>
                <a:cubicBezTo>
                  <a:pt x="17148" y="12067"/>
                  <a:pt x="17166" y="12222"/>
                  <a:pt x="17190" y="12254"/>
                </a:cubicBezTo>
              </a:path>
              <a:path w="2357" h="472">
                <a:moveTo>
                  <a:pt x="17438" y="12154"/>
                </a:moveTo>
                <a:cubicBezTo>
                  <a:pt x="17446" y="12179"/>
                  <a:pt x="17454" y="12204"/>
                  <a:pt x="17462" y="12229"/>
                </a:cubicBezTo>
                <a:cubicBezTo>
                  <a:pt x="17407" y="12153"/>
                  <a:pt x="17397" y="12065"/>
                  <a:pt x="17462" y="11981"/>
                </a:cubicBezTo>
                <a:cubicBezTo>
                  <a:pt x="17600" y="11802"/>
                  <a:pt x="17713" y="12110"/>
                  <a:pt x="17735" y="12204"/>
                </a:cubicBezTo>
                <a:cubicBezTo>
                  <a:pt x="17735" y="12221"/>
                  <a:pt x="17735" y="12237"/>
                  <a:pt x="17735" y="12254"/>
                </a:cubicBezTo>
              </a:path>
              <a:path w="2357" h="472">
                <a:moveTo>
                  <a:pt x="17884" y="12055"/>
                </a:moveTo>
                <a:cubicBezTo>
                  <a:pt x="17962" y="12016"/>
                  <a:pt x="18097" y="11977"/>
                  <a:pt x="18132" y="11906"/>
                </a:cubicBezTo>
                <a:cubicBezTo>
                  <a:pt x="17989" y="11924"/>
                  <a:pt x="17750" y="12006"/>
                  <a:pt x="17909" y="12204"/>
                </a:cubicBezTo>
                <a:cubicBezTo>
                  <a:pt x="18049" y="12287"/>
                  <a:pt x="18108" y="12310"/>
                  <a:pt x="18231" y="12254"/>
                </a:cubicBezTo>
              </a:path>
              <a:path w="2357" h="472">
                <a:moveTo>
                  <a:pt x="16098" y="11832"/>
                </a:moveTo>
                <a:cubicBezTo>
                  <a:pt x="16115" y="11953"/>
                  <a:pt x="16117" y="12034"/>
                  <a:pt x="16098" y="12154"/>
                </a:cubicBezTo>
                <a:cubicBezTo>
                  <a:pt x="16098" y="12162"/>
                  <a:pt x="16098" y="12171"/>
                  <a:pt x="16098" y="12179"/>
                </a:cubicBezTo>
              </a:path>
              <a:path w="2357" h="472">
                <a:moveTo>
                  <a:pt x="15900" y="12055"/>
                </a:moveTo>
                <a:cubicBezTo>
                  <a:pt x="16036" y="12040"/>
                  <a:pt x="16160" y="12030"/>
                  <a:pt x="16297" y="12030"/>
                </a:cubicBezTo>
              </a:path>
              <a:path w="2357" h="472">
                <a:moveTo>
                  <a:pt x="16297" y="11832"/>
                </a:moveTo>
                <a:cubicBezTo>
                  <a:pt x="16198" y="11904"/>
                  <a:pt x="16169" y="12067"/>
                  <a:pt x="16049" y="12129"/>
                </a:cubicBezTo>
                <a:cubicBezTo>
                  <a:pt x="16032" y="12129"/>
                  <a:pt x="16016" y="12129"/>
                  <a:pt x="15999" y="12129"/>
                </a:cubicBezTo>
              </a:path>
              <a:path w="2357" h="472">
                <a:moveTo>
                  <a:pt x="15875" y="11956"/>
                </a:moveTo>
                <a:cubicBezTo>
                  <a:pt x="16038" y="12011"/>
                  <a:pt x="16163" y="12124"/>
                  <a:pt x="16321" y="12179"/>
                </a:cubicBezTo>
                <a:cubicBezTo>
                  <a:pt x="16338" y="12179"/>
                  <a:pt x="16354" y="12179"/>
                  <a:pt x="16371" y="1217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4187880"/>
            <a:ext cx="1214280" cy="366480"/>
          </a:xfrm>
          <a:custGeom>
            <a:avLst/>
            <a:gdLst/>
            <a:ahLst/>
            <a:rect l="l" t="t" r="r" b="b"/>
            <a:pathLst>
              <a:path w="3375" h="1018">
                <a:moveTo>
                  <a:pt x="19496" y="11931"/>
                </a:moveTo>
                <a:cubicBezTo>
                  <a:pt x="19409" y="11917"/>
                  <a:pt x="19317" y="11894"/>
                  <a:pt x="19273" y="11981"/>
                </a:cubicBezTo>
                <a:cubicBezTo>
                  <a:pt x="19384" y="12063"/>
                  <a:pt x="19494" y="12119"/>
                  <a:pt x="19621" y="12179"/>
                </a:cubicBezTo>
                <a:cubicBezTo>
                  <a:pt x="19485" y="12276"/>
                  <a:pt x="19437" y="12249"/>
                  <a:pt x="19298" y="12179"/>
                </a:cubicBezTo>
              </a:path>
              <a:path w="3375" h="1018">
                <a:moveTo>
                  <a:pt x="20042" y="11931"/>
                </a:moveTo>
                <a:cubicBezTo>
                  <a:pt x="19926" y="11957"/>
                  <a:pt x="19935" y="11977"/>
                  <a:pt x="19869" y="12080"/>
                </a:cubicBezTo>
                <a:cubicBezTo>
                  <a:pt x="19908" y="12196"/>
                  <a:pt x="20035" y="12089"/>
                  <a:pt x="20117" y="12030"/>
                </a:cubicBezTo>
                <a:cubicBezTo>
                  <a:pt x="20139" y="12007"/>
                  <a:pt x="20147" y="11996"/>
                  <a:pt x="20141" y="12030"/>
                </a:cubicBezTo>
                <a:cubicBezTo>
                  <a:pt x="20166" y="12262"/>
                  <a:pt x="20084" y="12405"/>
                  <a:pt x="20017" y="12626"/>
                </a:cubicBezTo>
                <a:cubicBezTo>
                  <a:pt x="20017" y="12634"/>
                  <a:pt x="20017" y="12642"/>
                  <a:pt x="20017" y="12650"/>
                </a:cubicBezTo>
                <a:cubicBezTo>
                  <a:pt x="20233" y="12579"/>
                  <a:pt x="20199" y="12432"/>
                  <a:pt x="20166" y="12229"/>
                </a:cubicBezTo>
              </a:path>
              <a:path w="3375" h="1018">
                <a:moveTo>
                  <a:pt x="20365" y="11931"/>
                </a:moveTo>
                <a:cubicBezTo>
                  <a:pt x="20370" y="12029"/>
                  <a:pt x="20351" y="12200"/>
                  <a:pt x="20513" y="12154"/>
                </a:cubicBezTo>
                <a:cubicBezTo>
                  <a:pt x="20608" y="12127"/>
                  <a:pt x="20662" y="11882"/>
                  <a:pt x="20662" y="11981"/>
                </a:cubicBezTo>
                <a:cubicBezTo>
                  <a:pt x="20662" y="12064"/>
                  <a:pt x="20693" y="12149"/>
                  <a:pt x="20712" y="12229"/>
                </a:cubicBezTo>
              </a:path>
              <a:path w="3375" h="1018">
                <a:moveTo>
                  <a:pt x="21109" y="11931"/>
                </a:moveTo>
                <a:cubicBezTo>
                  <a:pt x="21018" y="11900"/>
                  <a:pt x="20861" y="12006"/>
                  <a:pt x="20861" y="12129"/>
                </a:cubicBezTo>
                <a:cubicBezTo>
                  <a:pt x="20877" y="12154"/>
                  <a:pt x="20894" y="12179"/>
                  <a:pt x="20910" y="12204"/>
                </a:cubicBezTo>
                <a:cubicBezTo>
                  <a:pt x="21087" y="12171"/>
                  <a:pt x="21068" y="12173"/>
                  <a:pt x="21134" y="12005"/>
                </a:cubicBezTo>
                <a:cubicBezTo>
                  <a:pt x="21149" y="12084"/>
                  <a:pt x="21202" y="12175"/>
                  <a:pt x="21307" y="12129"/>
                </a:cubicBezTo>
                <a:cubicBezTo>
                  <a:pt x="21438" y="12071"/>
                  <a:pt x="21450" y="11817"/>
                  <a:pt x="21406" y="12055"/>
                </a:cubicBezTo>
                <a:cubicBezTo>
                  <a:pt x="21406" y="12072"/>
                  <a:pt x="21406" y="12088"/>
                  <a:pt x="21406" y="12105"/>
                </a:cubicBezTo>
                <a:cubicBezTo>
                  <a:pt x="21406" y="12031"/>
                  <a:pt x="21423" y="11982"/>
                  <a:pt x="21481" y="11931"/>
                </a:cubicBezTo>
                <a:cubicBezTo>
                  <a:pt x="21571" y="11852"/>
                  <a:pt x="21644" y="11846"/>
                  <a:pt x="21754" y="11832"/>
                </a:cubicBezTo>
              </a:path>
              <a:path w="3375" h="1018">
                <a:moveTo>
                  <a:pt x="21828" y="12005"/>
                </a:moveTo>
                <a:cubicBezTo>
                  <a:pt x="21902" y="11983"/>
                  <a:pt x="22007" y="11986"/>
                  <a:pt x="22027" y="11906"/>
                </a:cubicBezTo>
                <a:cubicBezTo>
                  <a:pt x="21941" y="11892"/>
                  <a:pt x="21759" y="11892"/>
                  <a:pt x="21828" y="12055"/>
                </a:cubicBezTo>
                <a:cubicBezTo>
                  <a:pt x="21901" y="12092"/>
                  <a:pt x="21942" y="12109"/>
                  <a:pt x="22002" y="12129"/>
                </a:cubicBezTo>
              </a:path>
              <a:path w="3375" h="1018">
                <a:moveTo>
                  <a:pt x="22523" y="11981"/>
                </a:moveTo>
                <a:cubicBezTo>
                  <a:pt x="22461" y="11898"/>
                  <a:pt x="22309" y="11923"/>
                  <a:pt x="22250" y="12030"/>
                </a:cubicBezTo>
                <a:cubicBezTo>
                  <a:pt x="22250" y="12103"/>
                  <a:pt x="22249" y="12127"/>
                  <a:pt x="22299" y="12154"/>
                </a:cubicBezTo>
                <a:cubicBezTo>
                  <a:pt x="22568" y="12129"/>
                  <a:pt x="22653" y="12020"/>
                  <a:pt x="22622" y="11733"/>
                </a:cubicBezTo>
                <a:cubicBezTo>
                  <a:pt x="22614" y="11700"/>
                  <a:pt x="22605" y="11666"/>
                  <a:pt x="22597" y="11633"/>
                </a:cubicBezTo>
                <a:cubicBezTo>
                  <a:pt x="22597" y="11808"/>
                  <a:pt x="22579" y="11980"/>
                  <a:pt x="22572" y="1215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96200" y="4241880"/>
            <a:ext cx="196920" cy="115920"/>
          </a:xfrm>
          <a:custGeom>
            <a:avLst/>
            <a:gdLst/>
            <a:ahLst/>
            <a:rect l="l" t="t" r="r" b="b"/>
            <a:pathLst>
              <a:path w="546" h="324">
                <a:moveTo>
                  <a:pt x="23242" y="11782"/>
                </a:moveTo>
                <a:cubicBezTo>
                  <a:pt x="23258" y="11894"/>
                  <a:pt x="23286" y="12008"/>
                  <a:pt x="23341" y="12105"/>
                </a:cubicBezTo>
              </a:path>
              <a:path w="546" h="324">
                <a:moveTo>
                  <a:pt x="23044" y="11881"/>
                </a:moveTo>
                <a:cubicBezTo>
                  <a:pt x="23200" y="11906"/>
                  <a:pt x="23407" y="11944"/>
                  <a:pt x="23564" y="11906"/>
                </a:cubicBezTo>
                <a:cubicBezTo>
                  <a:pt x="23572" y="11898"/>
                  <a:pt x="23581" y="11889"/>
                  <a:pt x="23589" y="118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0240" y="4606920"/>
            <a:ext cx="1187640" cy="171360"/>
          </a:xfrm>
          <a:custGeom>
            <a:avLst/>
            <a:gdLst/>
            <a:ahLst/>
            <a:rect l="l" t="t" r="r" b="b"/>
            <a:pathLst>
              <a:path w="3300" h="473">
                <a:moveTo>
                  <a:pt x="18083" y="12898"/>
                </a:moveTo>
                <a:cubicBezTo>
                  <a:pt x="18093" y="12980"/>
                  <a:pt x="18144" y="13263"/>
                  <a:pt x="18306" y="13122"/>
                </a:cubicBezTo>
                <a:cubicBezTo>
                  <a:pt x="18427" y="13017"/>
                  <a:pt x="18416" y="12902"/>
                  <a:pt x="18331" y="12799"/>
                </a:cubicBezTo>
              </a:path>
              <a:path w="3300" h="473">
                <a:moveTo>
                  <a:pt x="19993" y="12849"/>
                </a:moveTo>
                <a:cubicBezTo>
                  <a:pt x="20033" y="13006"/>
                  <a:pt x="20060" y="13138"/>
                  <a:pt x="20141" y="13271"/>
                </a:cubicBezTo>
              </a:path>
              <a:path w="3300" h="473">
                <a:moveTo>
                  <a:pt x="21307" y="12998"/>
                </a:moveTo>
                <a:cubicBezTo>
                  <a:pt x="21354" y="13137"/>
                  <a:pt x="21369" y="13177"/>
                  <a:pt x="21382" y="132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05160" y="5081760"/>
            <a:ext cx="358920" cy="34920"/>
          </a:xfrm>
          <a:custGeom>
            <a:avLst/>
            <a:gdLst/>
            <a:ahLst/>
            <a:rect l="l" t="t" r="r" b="b"/>
            <a:pathLst>
              <a:path w="993" h="100">
                <a:moveTo>
                  <a:pt x="11683" y="14114"/>
                </a:moveTo>
                <a:cubicBezTo>
                  <a:pt x="11834" y="14114"/>
                  <a:pt x="11978" y="14155"/>
                  <a:pt x="12129" y="14163"/>
                </a:cubicBezTo>
                <a:cubicBezTo>
                  <a:pt x="12289" y="14171"/>
                  <a:pt x="12611" y="14168"/>
                  <a:pt x="12452" y="14188"/>
                </a:cubicBezTo>
                <a:cubicBezTo>
                  <a:pt x="12218" y="14188"/>
                  <a:pt x="11989" y="14179"/>
                  <a:pt x="11757" y="14163"/>
                </a:cubicBezTo>
                <a:cubicBezTo>
                  <a:pt x="11591" y="14152"/>
                  <a:pt x="12087" y="14159"/>
                  <a:pt x="12254" y="14163"/>
                </a:cubicBezTo>
                <a:cubicBezTo>
                  <a:pt x="12411" y="14166"/>
                  <a:pt x="12634" y="14151"/>
                  <a:pt x="12477" y="14163"/>
                </a:cubicBezTo>
                <a:cubicBezTo>
                  <a:pt x="12253" y="14180"/>
                  <a:pt x="12031" y="14204"/>
                  <a:pt x="11807" y="14213"/>
                </a:cubicBezTo>
                <a:cubicBezTo>
                  <a:pt x="11899" y="14204"/>
                  <a:pt x="12646" y="14084"/>
                  <a:pt x="12675" y="14139"/>
                </a:cubicBezTo>
                <a:cubicBezTo>
                  <a:pt x="12726" y="14236"/>
                  <a:pt x="12461" y="14172"/>
                  <a:pt x="12353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91120" y="4545000"/>
            <a:ext cx="2125800" cy="241200"/>
          </a:xfrm>
          <a:custGeom>
            <a:avLst/>
            <a:gdLst/>
            <a:ahLst/>
            <a:rect l="l" t="t" r="r" b="b"/>
            <a:pathLst>
              <a:path w="5904" h="670">
                <a:moveTo>
                  <a:pt x="16669" y="12923"/>
                </a:moveTo>
                <a:cubicBezTo>
                  <a:pt x="16799" y="12923"/>
                  <a:pt x="16914" y="12919"/>
                  <a:pt x="17041" y="12898"/>
                </a:cubicBezTo>
                <a:cubicBezTo>
                  <a:pt x="16936" y="12818"/>
                  <a:pt x="16771" y="12728"/>
                  <a:pt x="16669" y="12898"/>
                </a:cubicBezTo>
                <a:cubicBezTo>
                  <a:pt x="16661" y="12939"/>
                  <a:pt x="16652" y="12981"/>
                  <a:pt x="16644" y="13022"/>
                </a:cubicBezTo>
                <a:cubicBezTo>
                  <a:pt x="16837" y="13228"/>
                  <a:pt x="16930" y="13215"/>
                  <a:pt x="17190" y="13097"/>
                </a:cubicBezTo>
              </a:path>
              <a:path w="5904" h="670">
                <a:moveTo>
                  <a:pt x="17214" y="12626"/>
                </a:moveTo>
                <a:cubicBezTo>
                  <a:pt x="17251" y="12767"/>
                  <a:pt x="17269" y="13010"/>
                  <a:pt x="17363" y="13122"/>
                </a:cubicBezTo>
                <a:cubicBezTo>
                  <a:pt x="17380" y="13130"/>
                  <a:pt x="17396" y="13138"/>
                  <a:pt x="17413" y="13146"/>
                </a:cubicBezTo>
              </a:path>
              <a:path w="5904" h="670">
                <a:moveTo>
                  <a:pt x="17487" y="12973"/>
                </a:moveTo>
                <a:cubicBezTo>
                  <a:pt x="17603" y="12954"/>
                  <a:pt x="17790" y="12984"/>
                  <a:pt x="17810" y="12849"/>
                </a:cubicBezTo>
                <a:cubicBezTo>
                  <a:pt x="17681" y="12817"/>
                  <a:pt x="17512" y="12830"/>
                  <a:pt x="17512" y="13022"/>
                </a:cubicBezTo>
                <a:cubicBezTo>
                  <a:pt x="17512" y="13248"/>
                  <a:pt x="17815" y="13134"/>
                  <a:pt x="17909" y="13122"/>
                </a:cubicBezTo>
              </a:path>
              <a:path w="5904" h="670">
                <a:moveTo>
                  <a:pt x="18579" y="12898"/>
                </a:moveTo>
                <a:cubicBezTo>
                  <a:pt x="18634" y="12887"/>
                  <a:pt x="18703" y="12898"/>
                  <a:pt x="18653" y="12849"/>
                </a:cubicBezTo>
                <a:cubicBezTo>
                  <a:pt x="18522" y="12902"/>
                  <a:pt x="18504" y="13097"/>
                  <a:pt x="18728" y="13097"/>
                </a:cubicBezTo>
                <a:cubicBezTo>
                  <a:pt x="18777" y="13080"/>
                  <a:pt x="18827" y="13064"/>
                  <a:pt x="18876" y="13047"/>
                </a:cubicBezTo>
              </a:path>
              <a:path w="5904" h="670">
                <a:moveTo>
                  <a:pt x="18976" y="12923"/>
                </a:moveTo>
                <a:cubicBezTo>
                  <a:pt x="18955" y="12976"/>
                  <a:pt x="18926" y="13186"/>
                  <a:pt x="18926" y="13072"/>
                </a:cubicBezTo>
                <a:cubicBezTo>
                  <a:pt x="18926" y="12966"/>
                  <a:pt x="18980" y="12815"/>
                  <a:pt x="19124" y="12874"/>
                </a:cubicBezTo>
                <a:cubicBezTo>
                  <a:pt x="19262" y="12930"/>
                  <a:pt x="19239" y="13050"/>
                  <a:pt x="19298" y="13146"/>
                </a:cubicBezTo>
              </a:path>
              <a:path w="5904" h="670">
                <a:moveTo>
                  <a:pt x="19844" y="12923"/>
                </a:moveTo>
                <a:cubicBezTo>
                  <a:pt x="20009" y="12923"/>
                  <a:pt x="20175" y="12923"/>
                  <a:pt x="20340" y="12923"/>
                </a:cubicBezTo>
                <a:cubicBezTo>
                  <a:pt x="20321" y="13030"/>
                  <a:pt x="20198" y="13220"/>
                  <a:pt x="20389" y="13246"/>
                </a:cubicBezTo>
                <a:cubicBezTo>
                  <a:pt x="20678" y="13285"/>
                  <a:pt x="20552" y="13037"/>
                  <a:pt x="20439" y="12948"/>
                </a:cubicBezTo>
              </a:path>
              <a:path w="5904" h="670">
                <a:moveTo>
                  <a:pt x="21109" y="13022"/>
                </a:moveTo>
                <a:cubicBezTo>
                  <a:pt x="21431" y="13109"/>
                  <a:pt x="21557" y="13115"/>
                  <a:pt x="21729" y="12824"/>
                </a:cubicBezTo>
                <a:cubicBezTo>
                  <a:pt x="21729" y="12911"/>
                  <a:pt x="21716" y="13133"/>
                  <a:pt x="21754" y="13271"/>
                </a:cubicBezTo>
                <a:cubicBezTo>
                  <a:pt x="21784" y="13379"/>
                  <a:pt x="21855" y="13123"/>
                  <a:pt x="21903" y="13022"/>
                </a:cubicBezTo>
                <a:cubicBezTo>
                  <a:pt x="21998" y="13184"/>
                  <a:pt x="22099" y="13300"/>
                  <a:pt x="22299" y="13196"/>
                </a:cubicBezTo>
                <a:cubicBezTo>
                  <a:pt x="22390" y="13106"/>
                  <a:pt x="22420" y="13086"/>
                  <a:pt x="22423" y="12998"/>
                </a:cubicBezTo>
                <a:cubicBezTo>
                  <a:pt x="22252" y="13203"/>
                  <a:pt x="22311" y="13260"/>
                  <a:pt x="22547" y="1327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38960" y="5010120"/>
            <a:ext cx="17280" cy="8892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7884" y="13915"/>
                </a:moveTo>
                <a:cubicBezTo>
                  <a:pt x="17895" y="13975"/>
                  <a:pt x="17885" y="14208"/>
                  <a:pt x="17934" y="1411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27720" y="548316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2576" y="15304"/>
                </a:moveTo>
                <a:cubicBezTo>
                  <a:pt x="12647" y="15284"/>
                  <a:pt x="12735" y="15207"/>
                  <a:pt x="12799" y="15255"/>
                </a:cubicBezTo>
                <a:cubicBezTo>
                  <a:pt x="12926" y="15349"/>
                  <a:pt x="12802" y="15439"/>
                  <a:pt x="12725" y="15503"/>
                </a:cubicBezTo>
                <a:cubicBezTo>
                  <a:pt x="12682" y="15503"/>
                  <a:pt x="12797" y="15483"/>
                  <a:pt x="12849" y="15503"/>
                </a:cubicBezTo>
                <a:cubicBezTo>
                  <a:pt x="12965" y="15548"/>
                  <a:pt x="12907" y="15663"/>
                  <a:pt x="12824" y="15701"/>
                </a:cubicBezTo>
                <a:cubicBezTo>
                  <a:pt x="12791" y="15709"/>
                  <a:pt x="12758" y="15718"/>
                  <a:pt x="12725" y="1572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24760" y="4973760"/>
            <a:ext cx="446040" cy="260280"/>
          </a:xfrm>
          <a:custGeom>
            <a:avLst/>
            <a:gdLst/>
            <a:ahLst/>
            <a:rect l="l" t="t" r="r" b="b"/>
            <a:pathLst>
              <a:path w="1241" h="721">
                <a:moveTo>
                  <a:pt x="17438" y="13841"/>
                </a:moveTo>
                <a:cubicBezTo>
                  <a:pt x="17368" y="14021"/>
                  <a:pt x="17232" y="14289"/>
                  <a:pt x="17289" y="14486"/>
                </a:cubicBezTo>
                <a:cubicBezTo>
                  <a:pt x="17314" y="14503"/>
                  <a:pt x="17338" y="14519"/>
                  <a:pt x="17363" y="14536"/>
                </a:cubicBezTo>
                <a:cubicBezTo>
                  <a:pt x="17590" y="14445"/>
                  <a:pt x="17665" y="14381"/>
                  <a:pt x="17611" y="14139"/>
                </a:cubicBezTo>
                <a:cubicBezTo>
                  <a:pt x="17466" y="14266"/>
                  <a:pt x="17438" y="14250"/>
                  <a:pt x="17487" y="14436"/>
                </a:cubicBezTo>
              </a:path>
              <a:path w="1241" h="721">
                <a:moveTo>
                  <a:pt x="17711" y="13990"/>
                </a:moveTo>
                <a:cubicBezTo>
                  <a:pt x="17909" y="14052"/>
                  <a:pt x="18081" y="14075"/>
                  <a:pt x="18207" y="13866"/>
                </a:cubicBezTo>
                <a:cubicBezTo>
                  <a:pt x="18207" y="13849"/>
                  <a:pt x="18207" y="13833"/>
                  <a:pt x="18207" y="13816"/>
                </a:cubicBezTo>
                <a:cubicBezTo>
                  <a:pt x="18197" y="13933"/>
                  <a:pt x="18187" y="14045"/>
                  <a:pt x="18182" y="14163"/>
                </a:cubicBezTo>
                <a:cubicBezTo>
                  <a:pt x="18239" y="14121"/>
                  <a:pt x="18268" y="13879"/>
                  <a:pt x="18380" y="13891"/>
                </a:cubicBezTo>
                <a:cubicBezTo>
                  <a:pt x="18474" y="13901"/>
                  <a:pt x="18497" y="14119"/>
                  <a:pt x="18529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73920" y="5010120"/>
            <a:ext cx="992160" cy="276120"/>
          </a:xfrm>
          <a:custGeom>
            <a:avLst/>
            <a:gdLst/>
            <a:ahLst/>
            <a:rect l="l" t="t" r="r" b="b"/>
            <a:pathLst>
              <a:path w="2755" h="770">
                <a:moveTo>
                  <a:pt x="19422" y="14337"/>
                </a:moveTo>
                <a:cubicBezTo>
                  <a:pt x="19462" y="14536"/>
                  <a:pt x="19467" y="14569"/>
                  <a:pt x="19496" y="14684"/>
                </a:cubicBezTo>
                <a:cubicBezTo>
                  <a:pt x="19405" y="14503"/>
                  <a:pt x="19331" y="14337"/>
                  <a:pt x="19496" y="14139"/>
                </a:cubicBezTo>
                <a:cubicBezTo>
                  <a:pt x="19653" y="14060"/>
                  <a:pt x="19710" y="14041"/>
                  <a:pt x="19794" y="14188"/>
                </a:cubicBezTo>
                <a:cubicBezTo>
                  <a:pt x="19685" y="14474"/>
                  <a:pt x="19579" y="14444"/>
                  <a:pt x="19372" y="14238"/>
                </a:cubicBezTo>
              </a:path>
              <a:path w="2755" h="770">
                <a:moveTo>
                  <a:pt x="20017" y="14064"/>
                </a:moveTo>
                <a:cubicBezTo>
                  <a:pt x="19908" y="14101"/>
                  <a:pt x="19766" y="14220"/>
                  <a:pt x="19844" y="14362"/>
                </a:cubicBezTo>
                <a:cubicBezTo>
                  <a:pt x="19932" y="14521"/>
                  <a:pt x="20205" y="14271"/>
                  <a:pt x="20117" y="14163"/>
                </a:cubicBezTo>
                <a:cubicBezTo>
                  <a:pt x="20043" y="14145"/>
                  <a:pt x="20036" y="14137"/>
                  <a:pt x="19993" y="14139"/>
                </a:cubicBezTo>
              </a:path>
              <a:path w="2755" h="770">
                <a:moveTo>
                  <a:pt x="20265" y="14139"/>
                </a:moveTo>
                <a:cubicBezTo>
                  <a:pt x="20249" y="14234"/>
                  <a:pt x="20184" y="14508"/>
                  <a:pt x="20389" y="14436"/>
                </a:cubicBezTo>
                <a:cubicBezTo>
                  <a:pt x="20491" y="14360"/>
                  <a:pt x="20526" y="14333"/>
                  <a:pt x="20538" y="14238"/>
                </a:cubicBezTo>
                <a:cubicBezTo>
                  <a:pt x="20546" y="14213"/>
                  <a:pt x="20555" y="14188"/>
                  <a:pt x="20563" y="14163"/>
                </a:cubicBezTo>
                <a:cubicBezTo>
                  <a:pt x="20563" y="14299"/>
                  <a:pt x="20568" y="14386"/>
                  <a:pt x="20737" y="14362"/>
                </a:cubicBezTo>
                <a:cubicBezTo>
                  <a:pt x="20934" y="14333"/>
                  <a:pt x="20933" y="14119"/>
                  <a:pt x="20762" y="14064"/>
                </a:cubicBezTo>
                <a:cubicBezTo>
                  <a:pt x="20737" y="14064"/>
                  <a:pt x="20712" y="14064"/>
                  <a:pt x="20687" y="14064"/>
                </a:cubicBezTo>
              </a:path>
              <a:path w="2755" h="770">
                <a:moveTo>
                  <a:pt x="21034" y="14188"/>
                </a:moveTo>
                <a:cubicBezTo>
                  <a:pt x="21143" y="14143"/>
                  <a:pt x="21222" y="14127"/>
                  <a:pt x="21208" y="14015"/>
                </a:cubicBezTo>
                <a:cubicBezTo>
                  <a:pt x="21134" y="14015"/>
                  <a:pt x="20911" y="14105"/>
                  <a:pt x="21034" y="14238"/>
                </a:cubicBezTo>
                <a:cubicBezTo>
                  <a:pt x="21167" y="14317"/>
                  <a:pt x="21219" y="14341"/>
                  <a:pt x="21332" y="14288"/>
                </a:cubicBezTo>
              </a:path>
              <a:path w="2755" h="770">
                <a:moveTo>
                  <a:pt x="21530" y="14163"/>
                </a:moveTo>
                <a:cubicBezTo>
                  <a:pt x="21511" y="14262"/>
                  <a:pt x="21503" y="14278"/>
                  <a:pt x="21506" y="14337"/>
                </a:cubicBezTo>
                <a:cubicBezTo>
                  <a:pt x="21586" y="14227"/>
                  <a:pt x="21604" y="14109"/>
                  <a:pt x="21729" y="14015"/>
                </a:cubicBezTo>
                <a:cubicBezTo>
                  <a:pt x="21865" y="13913"/>
                  <a:pt x="21974" y="13923"/>
                  <a:pt x="22126" y="1394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12120" y="3776760"/>
            <a:ext cx="401760" cy="108000"/>
          </a:xfrm>
          <a:custGeom>
            <a:avLst/>
            <a:gdLst/>
            <a:ahLst/>
            <a:rect l="l" t="t" r="r" b="b"/>
            <a:pathLst>
              <a:path w="1117" h="299">
                <a:moveTo>
                  <a:pt x="23366" y="10616"/>
                </a:moveTo>
                <a:cubicBezTo>
                  <a:pt x="23390" y="10716"/>
                  <a:pt x="23428" y="10900"/>
                  <a:pt x="23564" y="10740"/>
                </a:cubicBezTo>
                <a:cubicBezTo>
                  <a:pt x="23581" y="10707"/>
                  <a:pt x="23597" y="10674"/>
                  <a:pt x="23614" y="10641"/>
                </a:cubicBezTo>
                <a:cubicBezTo>
                  <a:pt x="23614" y="10730"/>
                  <a:pt x="23678" y="10863"/>
                  <a:pt x="23788" y="10765"/>
                </a:cubicBezTo>
                <a:cubicBezTo>
                  <a:pt x="23884" y="10680"/>
                  <a:pt x="23759" y="10588"/>
                  <a:pt x="23713" y="10542"/>
                </a:cubicBezTo>
              </a:path>
              <a:path w="1117" h="299">
                <a:moveTo>
                  <a:pt x="23961" y="10641"/>
                </a:moveTo>
                <a:cubicBezTo>
                  <a:pt x="23985" y="10593"/>
                  <a:pt x="23994" y="10579"/>
                  <a:pt x="23986" y="10542"/>
                </a:cubicBezTo>
                <a:cubicBezTo>
                  <a:pt x="23895" y="10572"/>
                  <a:pt x="23756" y="10712"/>
                  <a:pt x="23937" y="10765"/>
                </a:cubicBezTo>
                <a:cubicBezTo>
                  <a:pt x="24054" y="10799"/>
                  <a:pt x="24234" y="10641"/>
                  <a:pt x="24185" y="10666"/>
                </a:cubicBezTo>
                <a:cubicBezTo>
                  <a:pt x="24185" y="10794"/>
                  <a:pt x="24178" y="10776"/>
                  <a:pt x="24234" y="10691"/>
                </a:cubicBezTo>
                <a:cubicBezTo>
                  <a:pt x="24303" y="10587"/>
                  <a:pt x="24376" y="10551"/>
                  <a:pt x="24482" y="1049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4991040"/>
            <a:ext cx="419040" cy="27000"/>
          </a:xfrm>
          <a:custGeom>
            <a:avLst/>
            <a:gdLst/>
            <a:ahLst/>
            <a:rect l="l" t="t" r="r" b="b"/>
            <a:pathLst>
              <a:path w="1167" h="75">
                <a:moveTo>
                  <a:pt x="1612" y="13940"/>
                </a:moveTo>
                <a:cubicBezTo>
                  <a:pt x="1637" y="13940"/>
                  <a:pt x="1662" y="13940"/>
                  <a:pt x="1687" y="13940"/>
                </a:cubicBezTo>
              </a:path>
              <a:path w="1167" h="75">
                <a:moveTo>
                  <a:pt x="2753" y="13866"/>
                </a:moveTo>
                <a:cubicBezTo>
                  <a:pt x="2761" y="13874"/>
                  <a:pt x="2770" y="13883"/>
                  <a:pt x="2778" y="138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1760" y="4867200"/>
            <a:ext cx="90360" cy="268200"/>
          </a:xfrm>
          <a:custGeom>
            <a:avLst/>
            <a:gdLst/>
            <a:ahLst/>
            <a:rect l="l" t="t" r="r" b="b"/>
            <a:pathLst>
              <a:path w="249" h="745">
                <a:moveTo>
                  <a:pt x="1141" y="13519"/>
                </a:moveTo>
                <a:cubicBezTo>
                  <a:pt x="1107" y="13541"/>
                  <a:pt x="1117" y="13938"/>
                  <a:pt x="1116" y="13990"/>
                </a:cubicBezTo>
                <a:cubicBezTo>
                  <a:pt x="1113" y="14089"/>
                  <a:pt x="1116" y="14337"/>
                  <a:pt x="1116" y="14238"/>
                </a:cubicBezTo>
              </a:path>
              <a:path w="249" h="745">
                <a:moveTo>
                  <a:pt x="1315" y="13519"/>
                </a:moveTo>
                <a:cubicBezTo>
                  <a:pt x="1338" y="13711"/>
                  <a:pt x="1361" y="13895"/>
                  <a:pt x="1364" y="14089"/>
                </a:cubicBezTo>
                <a:cubicBezTo>
                  <a:pt x="1364" y="14188"/>
                  <a:pt x="1364" y="14205"/>
                  <a:pt x="1364" y="142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0960" y="4875120"/>
            <a:ext cx="792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2084" y="13543"/>
                </a:moveTo>
                <a:cubicBezTo>
                  <a:pt x="2104" y="13734"/>
                  <a:pt x="2108" y="13921"/>
                  <a:pt x="2108" y="14114"/>
                </a:cubicBezTo>
                <a:cubicBezTo>
                  <a:pt x="2108" y="14130"/>
                  <a:pt x="2108" y="14147"/>
                  <a:pt x="2108" y="141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57160" y="4875120"/>
            <a:ext cx="36720" cy="250920"/>
          </a:xfrm>
          <a:custGeom>
            <a:avLst/>
            <a:gdLst/>
            <a:ahLst/>
            <a:rect l="l" t="t" r="r" b="b"/>
            <a:pathLst>
              <a:path w="100" h="696">
                <a:moveTo>
                  <a:pt x="2381" y="13543"/>
                </a:moveTo>
                <a:cubicBezTo>
                  <a:pt x="2406" y="13756"/>
                  <a:pt x="2429" y="13982"/>
                  <a:pt x="2456" y="14188"/>
                </a:cubicBezTo>
                <a:cubicBezTo>
                  <a:pt x="2456" y="14240"/>
                  <a:pt x="2457" y="14255"/>
                  <a:pt x="2480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92912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3299" y="13692"/>
                </a:moveTo>
                <a:cubicBezTo>
                  <a:pt x="3299" y="13860"/>
                  <a:pt x="3292" y="14028"/>
                  <a:pt x="3324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85920" y="4884840"/>
            <a:ext cx="27000" cy="258840"/>
          </a:xfrm>
          <a:custGeom>
            <a:avLst/>
            <a:gdLst/>
            <a:ahLst/>
            <a:rect l="l" t="t" r="r" b="b"/>
            <a:pathLst>
              <a:path w="75" h="721">
                <a:moveTo>
                  <a:pt x="3572" y="13568"/>
                </a:moveTo>
                <a:cubicBezTo>
                  <a:pt x="3602" y="13794"/>
                  <a:pt x="3580" y="14043"/>
                  <a:pt x="3621" y="14263"/>
                </a:cubicBezTo>
                <a:cubicBezTo>
                  <a:pt x="3629" y="14271"/>
                  <a:pt x="3638" y="14280"/>
                  <a:pt x="3646" y="142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62040" y="4919760"/>
            <a:ext cx="9720" cy="223920"/>
          </a:xfrm>
          <a:custGeom>
            <a:avLst/>
            <a:gdLst/>
            <a:ahLst/>
            <a:rect l="l" t="t" r="r" b="b"/>
            <a:pathLst>
              <a:path w="26" h="622">
                <a:moveTo>
                  <a:pt x="4366" y="13667"/>
                </a:moveTo>
                <a:cubicBezTo>
                  <a:pt x="4351" y="13858"/>
                  <a:pt x="4341" y="14045"/>
                  <a:pt x="4341" y="14238"/>
                </a:cubicBezTo>
                <a:cubicBezTo>
                  <a:pt x="4341" y="14290"/>
                  <a:pt x="4342" y="14305"/>
                  <a:pt x="4366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7960" y="4911840"/>
            <a:ext cx="97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4663" y="13643"/>
                </a:moveTo>
                <a:cubicBezTo>
                  <a:pt x="4684" y="13850"/>
                  <a:pt x="4680" y="14033"/>
                  <a:pt x="4663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9160" y="489420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5358" y="13593"/>
                </a:moveTo>
                <a:cubicBezTo>
                  <a:pt x="5351" y="13821"/>
                  <a:pt x="5322" y="14038"/>
                  <a:pt x="5358" y="142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5080" y="4902120"/>
            <a:ext cx="28800" cy="250920"/>
          </a:xfrm>
          <a:custGeom>
            <a:avLst/>
            <a:gdLst/>
            <a:ahLst/>
            <a:rect l="l" t="t" r="r" b="b"/>
            <a:pathLst>
              <a:path w="76" h="695">
                <a:moveTo>
                  <a:pt x="5655" y="13618"/>
                </a:moveTo>
                <a:cubicBezTo>
                  <a:pt x="5667" y="13826"/>
                  <a:pt x="5680" y="14029"/>
                  <a:pt x="5680" y="14238"/>
                </a:cubicBezTo>
                <a:cubicBezTo>
                  <a:pt x="5680" y="14317"/>
                  <a:pt x="5683" y="14338"/>
                  <a:pt x="5730" y="1423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32000" y="4929120"/>
            <a:ext cx="27000" cy="214560"/>
          </a:xfrm>
          <a:custGeom>
            <a:avLst/>
            <a:gdLst/>
            <a:ahLst/>
            <a:rect l="l" t="t" r="r" b="b"/>
            <a:pathLst>
              <a:path w="76" h="597">
                <a:moveTo>
                  <a:pt x="6201" y="13717"/>
                </a:moveTo>
                <a:cubicBezTo>
                  <a:pt x="6302" y="13649"/>
                  <a:pt x="6230" y="14058"/>
                  <a:pt x="6226" y="14089"/>
                </a:cubicBezTo>
                <a:cubicBezTo>
                  <a:pt x="6208" y="14233"/>
                  <a:pt x="6133" y="14346"/>
                  <a:pt x="6276" y="1418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84280" y="4938840"/>
            <a:ext cx="9720" cy="2314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6623" y="13717"/>
                </a:moveTo>
                <a:cubicBezTo>
                  <a:pt x="6623" y="13921"/>
                  <a:pt x="6605" y="14151"/>
                  <a:pt x="6648" y="14337"/>
                </a:cubicBezTo>
                <a:cubicBezTo>
                  <a:pt x="6648" y="14345"/>
                  <a:pt x="6648" y="14354"/>
                  <a:pt x="6648" y="1436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9960" y="5732640"/>
            <a:ext cx="679320" cy="223560"/>
          </a:xfrm>
          <a:custGeom>
            <a:avLst/>
            <a:gdLst/>
            <a:ahLst/>
            <a:rect l="l" t="t" r="r" b="b"/>
            <a:pathLst>
              <a:path w="1887" h="621">
                <a:moveTo>
                  <a:pt x="2183" y="15949"/>
                </a:moveTo>
                <a:cubicBezTo>
                  <a:pt x="2094" y="16005"/>
                  <a:pt x="1964" y="16003"/>
                  <a:pt x="1885" y="16049"/>
                </a:cubicBezTo>
                <a:cubicBezTo>
                  <a:pt x="1856" y="16066"/>
                  <a:pt x="1907" y="16241"/>
                  <a:pt x="1910" y="16272"/>
                </a:cubicBezTo>
                <a:cubicBezTo>
                  <a:pt x="1964" y="16164"/>
                  <a:pt x="2124" y="16076"/>
                  <a:pt x="2257" y="16123"/>
                </a:cubicBezTo>
                <a:cubicBezTo>
                  <a:pt x="2282" y="16148"/>
                  <a:pt x="2307" y="16172"/>
                  <a:pt x="2332" y="16197"/>
                </a:cubicBezTo>
                <a:cubicBezTo>
                  <a:pt x="2247" y="16410"/>
                  <a:pt x="2144" y="16538"/>
                  <a:pt x="1885" y="16520"/>
                </a:cubicBezTo>
                <a:cubicBezTo>
                  <a:pt x="1847" y="16482"/>
                  <a:pt x="1849" y="16459"/>
                  <a:pt x="1910" y="16421"/>
                </a:cubicBezTo>
              </a:path>
              <a:path w="1887" h="621">
                <a:moveTo>
                  <a:pt x="2654" y="16049"/>
                </a:moveTo>
                <a:cubicBezTo>
                  <a:pt x="2728" y="16152"/>
                  <a:pt x="2856" y="16269"/>
                  <a:pt x="2952" y="16371"/>
                </a:cubicBezTo>
              </a:path>
              <a:path w="1887" h="621">
                <a:moveTo>
                  <a:pt x="2927" y="16049"/>
                </a:moveTo>
                <a:cubicBezTo>
                  <a:pt x="2896" y="16108"/>
                  <a:pt x="2629" y="16491"/>
                  <a:pt x="2753" y="16396"/>
                </a:cubicBezTo>
              </a:path>
              <a:path w="1887" h="621">
                <a:moveTo>
                  <a:pt x="3572" y="15925"/>
                </a:moveTo>
                <a:cubicBezTo>
                  <a:pt x="3497" y="15982"/>
                  <a:pt x="3418" y="16006"/>
                  <a:pt x="3373" y="16073"/>
                </a:cubicBezTo>
                <a:cubicBezTo>
                  <a:pt x="3334" y="16133"/>
                  <a:pt x="3330" y="16145"/>
                  <a:pt x="3299" y="16173"/>
                </a:cubicBezTo>
                <a:cubicBezTo>
                  <a:pt x="3407" y="16137"/>
                  <a:pt x="3576" y="16067"/>
                  <a:pt x="3696" y="16148"/>
                </a:cubicBezTo>
                <a:cubicBezTo>
                  <a:pt x="3903" y="16288"/>
                  <a:pt x="3526" y="16530"/>
                  <a:pt x="3423" y="16545"/>
                </a:cubicBezTo>
                <a:cubicBezTo>
                  <a:pt x="3282" y="16521"/>
                  <a:pt x="3234" y="16521"/>
                  <a:pt x="3249" y="1639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7960" y="571500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5035" y="15875"/>
                </a:moveTo>
                <a:cubicBezTo>
                  <a:pt x="4986" y="15891"/>
                  <a:pt x="4868" y="15886"/>
                  <a:pt x="4862" y="15925"/>
                </a:cubicBezTo>
                <a:cubicBezTo>
                  <a:pt x="4852" y="15990"/>
                  <a:pt x="4867" y="16039"/>
                  <a:pt x="4887" y="16098"/>
                </a:cubicBezTo>
                <a:cubicBezTo>
                  <a:pt x="5012" y="16035"/>
                  <a:pt x="5155" y="15948"/>
                  <a:pt x="5259" y="16098"/>
                </a:cubicBezTo>
                <a:cubicBezTo>
                  <a:pt x="5422" y="16335"/>
                  <a:pt x="4997" y="16460"/>
                  <a:pt x="4862" y="16495"/>
                </a:cubicBezTo>
                <a:cubicBezTo>
                  <a:pt x="4733" y="16517"/>
                  <a:pt x="4695" y="16542"/>
                  <a:pt x="4663" y="1644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Example 1 – Writing Powers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re were 4 x 4 x 4 baby chickens born last spring at a local farm.  What is another way to write the number of chicks born at the farm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Use a base and exponent to form a power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Example 2 – Evaluating Powers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Use your knowledge of powers to evaluate 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ep 1 – Write the repeated factor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tep 2 – Multipl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746280" y="3366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Arial"/>
              </a:rPr>
              <a:t>Objective :  Students will understand and be able to </a:t>
            </a:r>
            <a:r>
              <a:rPr b="0" i="1" lang="en-US" sz="1800" spc="-1" strike="noStrike">
                <a:solidFill>
                  <a:srgbClr val="006699"/>
                </a:solidFill>
                <a:latin typeface="Verdana"/>
                <a:ea typeface="Arial"/>
              </a:rPr>
              <a:t>use exponents to represent repeated multiplicatio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812960"/>
            <a:ext cx="115920" cy="384120"/>
          </a:xfrm>
          <a:custGeom>
            <a:avLst/>
            <a:gdLst/>
            <a:ahLst/>
            <a:rect l="l" t="t" r="r" b="b"/>
            <a:pathLst>
              <a:path w="324" h="1068">
                <a:moveTo>
                  <a:pt x="6722" y="5035"/>
                </a:moveTo>
                <a:cubicBezTo>
                  <a:pt x="6699" y="5128"/>
                  <a:pt x="6689" y="5223"/>
                  <a:pt x="6697" y="5333"/>
                </a:cubicBezTo>
                <a:cubicBezTo>
                  <a:pt x="6716" y="5581"/>
                  <a:pt x="6716" y="5858"/>
                  <a:pt x="6896" y="6052"/>
                </a:cubicBezTo>
                <a:cubicBezTo>
                  <a:pt x="6948" y="6108"/>
                  <a:pt x="6964" y="6102"/>
                  <a:pt x="7020" y="610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75040" y="1812960"/>
            <a:ext cx="196920" cy="411120"/>
          </a:xfrm>
          <a:custGeom>
            <a:avLst/>
            <a:gdLst/>
            <a:ahLst/>
            <a:rect l="l" t="t" r="r" b="b"/>
            <a:pathLst>
              <a:path w="547" h="1142">
                <a:moveTo>
                  <a:pt x="10765" y="5035"/>
                </a:moveTo>
                <a:cubicBezTo>
                  <a:pt x="10883" y="5080"/>
                  <a:pt x="10998" y="5130"/>
                  <a:pt x="11088" y="5234"/>
                </a:cubicBezTo>
                <a:cubicBezTo>
                  <a:pt x="11225" y="5392"/>
                  <a:pt x="11325" y="5619"/>
                  <a:pt x="11311" y="5829"/>
                </a:cubicBezTo>
                <a:cubicBezTo>
                  <a:pt x="11307" y="5887"/>
                  <a:pt x="11280" y="5992"/>
                  <a:pt x="11261" y="6052"/>
                </a:cubicBezTo>
                <a:cubicBezTo>
                  <a:pt x="11248" y="6092"/>
                  <a:pt x="11226" y="6138"/>
                  <a:pt x="11212" y="617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42160" y="298296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21506" y="8334"/>
                </a:moveTo>
                <a:cubicBezTo>
                  <a:pt x="21588" y="8324"/>
                  <a:pt x="21748" y="8256"/>
                  <a:pt x="21828" y="8285"/>
                </a:cubicBezTo>
                <a:cubicBezTo>
                  <a:pt x="21828" y="8293"/>
                  <a:pt x="21828" y="8302"/>
                  <a:pt x="21828" y="831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59680" y="2867040"/>
            <a:ext cx="2411280" cy="276120"/>
          </a:xfrm>
          <a:custGeom>
            <a:avLst/>
            <a:gdLst/>
            <a:ahLst/>
            <a:rect l="l" t="t" r="r" b="b"/>
            <a:pathLst>
              <a:path w="6698" h="770">
                <a:moveTo>
                  <a:pt x="17760" y="8210"/>
                </a:moveTo>
                <a:cubicBezTo>
                  <a:pt x="17804" y="8168"/>
                  <a:pt x="17564" y="8163"/>
                  <a:pt x="17512" y="8186"/>
                </a:cubicBezTo>
                <a:cubicBezTo>
                  <a:pt x="17352" y="8256"/>
                  <a:pt x="17396" y="8429"/>
                  <a:pt x="17562" y="8434"/>
                </a:cubicBezTo>
                <a:cubicBezTo>
                  <a:pt x="17636" y="8415"/>
                  <a:pt x="17669" y="8433"/>
                  <a:pt x="17661" y="8384"/>
                </a:cubicBezTo>
                <a:cubicBezTo>
                  <a:pt x="17556" y="8419"/>
                  <a:pt x="17412" y="8509"/>
                  <a:pt x="17388" y="8632"/>
                </a:cubicBezTo>
                <a:cubicBezTo>
                  <a:pt x="17350" y="8827"/>
                  <a:pt x="17705" y="8675"/>
                  <a:pt x="17760" y="8657"/>
                </a:cubicBezTo>
              </a:path>
              <a:path w="6698" h="770">
                <a:moveTo>
                  <a:pt x="17859" y="8458"/>
                </a:moveTo>
                <a:cubicBezTo>
                  <a:pt x="17931" y="8549"/>
                  <a:pt x="17999" y="8633"/>
                  <a:pt x="18058" y="8731"/>
                </a:cubicBezTo>
                <a:cubicBezTo>
                  <a:pt x="18076" y="8625"/>
                  <a:pt x="18122" y="8503"/>
                  <a:pt x="18231" y="8458"/>
                </a:cubicBezTo>
                <a:cubicBezTo>
                  <a:pt x="18256" y="8458"/>
                  <a:pt x="18281" y="8458"/>
                  <a:pt x="18306" y="8458"/>
                </a:cubicBezTo>
              </a:path>
              <a:path w="6698" h="770">
                <a:moveTo>
                  <a:pt x="18579" y="8558"/>
                </a:moveTo>
                <a:cubicBezTo>
                  <a:pt x="18579" y="8505"/>
                  <a:pt x="18578" y="8482"/>
                  <a:pt x="18554" y="8458"/>
                </a:cubicBezTo>
                <a:cubicBezTo>
                  <a:pt x="18400" y="8472"/>
                  <a:pt x="18380" y="8544"/>
                  <a:pt x="18405" y="8706"/>
                </a:cubicBezTo>
                <a:cubicBezTo>
                  <a:pt x="18516" y="8651"/>
                  <a:pt x="18504" y="8662"/>
                  <a:pt x="18579" y="8558"/>
                </a:cubicBezTo>
                <a:cubicBezTo>
                  <a:pt x="18607" y="8628"/>
                  <a:pt x="18730" y="8766"/>
                  <a:pt x="18827" y="8706"/>
                </a:cubicBezTo>
                <a:cubicBezTo>
                  <a:pt x="18860" y="8665"/>
                  <a:pt x="18893" y="8623"/>
                  <a:pt x="18926" y="8582"/>
                </a:cubicBezTo>
              </a:path>
              <a:path w="6698" h="770">
                <a:moveTo>
                  <a:pt x="18852" y="8235"/>
                </a:moveTo>
                <a:cubicBezTo>
                  <a:pt x="18886" y="8392"/>
                  <a:pt x="18946" y="8546"/>
                  <a:pt x="18976" y="8706"/>
                </a:cubicBezTo>
                <a:cubicBezTo>
                  <a:pt x="18976" y="8714"/>
                  <a:pt x="18976" y="8723"/>
                  <a:pt x="18976" y="8731"/>
                </a:cubicBezTo>
              </a:path>
              <a:path w="6698" h="770">
                <a:moveTo>
                  <a:pt x="19323" y="8483"/>
                </a:moveTo>
                <a:cubicBezTo>
                  <a:pt x="19317" y="8527"/>
                  <a:pt x="19254" y="8697"/>
                  <a:pt x="19323" y="8731"/>
                </a:cubicBezTo>
                <a:cubicBezTo>
                  <a:pt x="19456" y="8798"/>
                  <a:pt x="19497" y="8565"/>
                  <a:pt x="19521" y="8508"/>
                </a:cubicBezTo>
                <a:cubicBezTo>
                  <a:pt x="19521" y="8491"/>
                  <a:pt x="19521" y="8475"/>
                  <a:pt x="19521" y="8458"/>
                </a:cubicBezTo>
                <a:cubicBezTo>
                  <a:pt x="19545" y="8651"/>
                  <a:pt x="19530" y="8645"/>
                  <a:pt x="19695" y="8706"/>
                </a:cubicBezTo>
              </a:path>
              <a:path w="6698" h="770">
                <a:moveTo>
                  <a:pt x="19943" y="8458"/>
                </a:moveTo>
                <a:cubicBezTo>
                  <a:pt x="19772" y="8485"/>
                  <a:pt x="19744" y="8511"/>
                  <a:pt x="19769" y="8682"/>
                </a:cubicBezTo>
                <a:cubicBezTo>
                  <a:pt x="19906" y="8645"/>
                  <a:pt x="19904" y="8646"/>
                  <a:pt x="19968" y="8508"/>
                </a:cubicBezTo>
                <a:cubicBezTo>
                  <a:pt x="20010" y="8657"/>
                  <a:pt x="19994" y="8597"/>
                  <a:pt x="20117" y="8632"/>
                </a:cubicBezTo>
              </a:path>
              <a:path w="6698" h="770">
                <a:moveTo>
                  <a:pt x="20315" y="8161"/>
                </a:moveTo>
                <a:cubicBezTo>
                  <a:pt x="20315" y="8327"/>
                  <a:pt x="20322" y="8471"/>
                  <a:pt x="20365" y="8632"/>
                </a:cubicBezTo>
              </a:path>
              <a:path w="6698" h="770">
                <a:moveTo>
                  <a:pt x="20191" y="8359"/>
                </a:moveTo>
                <a:cubicBezTo>
                  <a:pt x="20340" y="8359"/>
                  <a:pt x="20489" y="8359"/>
                  <a:pt x="20638" y="8359"/>
                </a:cubicBezTo>
              </a:path>
              <a:path w="6698" h="770">
                <a:moveTo>
                  <a:pt x="20737" y="8359"/>
                </a:moveTo>
                <a:cubicBezTo>
                  <a:pt x="20845" y="8359"/>
                  <a:pt x="20934" y="8355"/>
                  <a:pt x="21034" y="8334"/>
                </a:cubicBezTo>
                <a:cubicBezTo>
                  <a:pt x="21008" y="8282"/>
                  <a:pt x="20968" y="8181"/>
                  <a:pt x="20886" y="8235"/>
                </a:cubicBezTo>
                <a:cubicBezTo>
                  <a:pt x="20796" y="8294"/>
                  <a:pt x="20623" y="8544"/>
                  <a:pt x="20811" y="8607"/>
                </a:cubicBezTo>
                <a:cubicBezTo>
                  <a:pt x="20931" y="8647"/>
                  <a:pt x="21088" y="8572"/>
                  <a:pt x="21183" y="8508"/>
                </a:cubicBezTo>
              </a:path>
              <a:path w="6698" h="770">
                <a:moveTo>
                  <a:pt x="21481" y="8483"/>
                </a:moveTo>
                <a:cubicBezTo>
                  <a:pt x="21588" y="8483"/>
                  <a:pt x="21696" y="8483"/>
                  <a:pt x="21803" y="8483"/>
                </a:cubicBezTo>
              </a:path>
              <a:path w="6698" h="770">
                <a:moveTo>
                  <a:pt x="22399" y="8111"/>
                </a:moveTo>
                <a:cubicBezTo>
                  <a:pt x="22495" y="8078"/>
                  <a:pt x="22296" y="8082"/>
                  <a:pt x="22275" y="8086"/>
                </a:cubicBezTo>
                <a:cubicBezTo>
                  <a:pt x="22197" y="8112"/>
                  <a:pt x="22169" y="8122"/>
                  <a:pt x="22126" y="8161"/>
                </a:cubicBezTo>
                <a:cubicBezTo>
                  <a:pt x="22146" y="8297"/>
                  <a:pt x="22312" y="8283"/>
                  <a:pt x="22423" y="8334"/>
                </a:cubicBezTo>
                <a:cubicBezTo>
                  <a:pt x="22451" y="8362"/>
                  <a:pt x="22460" y="8376"/>
                  <a:pt x="22448" y="8409"/>
                </a:cubicBezTo>
                <a:cubicBezTo>
                  <a:pt x="22370" y="8486"/>
                  <a:pt x="22094" y="8577"/>
                  <a:pt x="22151" y="8483"/>
                </a:cubicBezTo>
                <a:cubicBezTo>
                  <a:pt x="22184" y="8458"/>
                  <a:pt x="22217" y="8434"/>
                  <a:pt x="22250" y="8409"/>
                </a:cubicBezTo>
              </a:path>
              <a:path w="6698" h="770">
                <a:moveTo>
                  <a:pt x="22696" y="8235"/>
                </a:moveTo>
                <a:cubicBezTo>
                  <a:pt x="22617" y="8235"/>
                  <a:pt x="22608" y="8295"/>
                  <a:pt x="22572" y="8359"/>
                </a:cubicBezTo>
                <a:cubicBezTo>
                  <a:pt x="22665" y="8412"/>
                  <a:pt x="22815" y="8515"/>
                  <a:pt x="22845" y="8334"/>
                </a:cubicBezTo>
                <a:cubicBezTo>
                  <a:pt x="22863" y="8224"/>
                  <a:pt x="22846" y="8228"/>
                  <a:pt x="22771" y="8186"/>
                </a:cubicBezTo>
              </a:path>
              <a:path w="6698" h="770">
                <a:moveTo>
                  <a:pt x="22969" y="7962"/>
                </a:moveTo>
                <a:cubicBezTo>
                  <a:pt x="22998" y="8079"/>
                  <a:pt x="23068" y="8190"/>
                  <a:pt x="23093" y="8310"/>
                </a:cubicBezTo>
                <a:cubicBezTo>
                  <a:pt x="23093" y="8326"/>
                  <a:pt x="23093" y="8343"/>
                  <a:pt x="23093" y="8359"/>
                </a:cubicBezTo>
              </a:path>
              <a:path w="6698" h="770">
                <a:moveTo>
                  <a:pt x="23168" y="8111"/>
                </a:moveTo>
                <a:cubicBezTo>
                  <a:pt x="23248" y="8132"/>
                  <a:pt x="23332" y="8273"/>
                  <a:pt x="23391" y="8334"/>
                </a:cubicBezTo>
                <a:cubicBezTo>
                  <a:pt x="23399" y="8342"/>
                  <a:pt x="23408" y="8351"/>
                  <a:pt x="23416" y="8359"/>
                </a:cubicBezTo>
                <a:cubicBezTo>
                  <a:pt x="23441" y="8282"/>
                  <a:pt x="23483" y="8225"/>
                  <a:pt x="23490" y="8136"/>
                </a:cubicBezTo>
                <a:cubicBezTo>
                  <a:pt x="23490" y="8108"/>
                  <a:pt x="23492" y="8097"/>
                  <a:pt x="23515" y="8086"/>
                </a:cubicBezTo>
              </a:path>
              <a:path w="6698" h="770">
                <a:moveTo>
                  <a:pt x="23664" y="8161"/>
                </a:moveTo>
                <a:cubicBezTo>
                  <a:pt x="23737" y="8161"/>
                  <a:pt x="23825" y="8150"/>
                  <a:pt x="23862" y="8136"/>
                </a:cubicBezTo>
                <a:cubicBezTo>
                  <a:pt x="23874" y="8131"/>
                  <a:pt x="23916" y="8088"/>
                  <a:pt x="23887" y="8062"/>
                </a:cubicBezTo>
                <a:cubicBezTo>
                  <a:pt x="23847" y="8026"/>
                  <a:pt x="23786" y="7987"/>
                  <a:pt x="23738" y="8037"/>
                </a:cubicBezTo>
                <a:cubicBezTo>
                  <a:pt x="23694" y="8083"/>
                  <a:pt x="23609" y="8296"/>
                  <a:pt x="23664" y="8359"/>
                </a:cubicBezTo>
                <a:cubicBezTo>
                  <a:pt x="23755" y="8463"/>
                  <a:pt x="23957" y="8379"/>
                  <a:pt x="24061" y="8359"/>
                </a:cubicBezTo>
                <a:cubicBezTo>
                  <a:pt x="24069" y="8359"/>
                  <a:pt x="24077" y="8359"/>
                  <a:pt x="24085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39040" y="3251160"/>
            <a:ext cx="54000" cy="142920"/>
          </a:xfrm>
          <a:custGeom>
            <a:avLst/>
            <a:gdLst/>
            <a:ahLst/>
            <a:rect l="l" t="t" r="r" b="b"/>
            <a:pathLst>
              <a:path w="150" h="398">
                <a:moveTo>
                  <a:pt x="20811" y="9029"/>
                </a:moveTo>
                <a:cubicBezTo>
                  <a:pt x="20770" y="9167"/>
                  <a:pt x="20713" y="9293"/>
                  <a:pt x="20662" y="942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34080" y="3197160"/>
            <a:ext cx="1992240" cy="642960"/>
          </a:xfrm>
          <a:custGeom>
            <a:avLst/>
            <a:gdLst/>
            <a:ahLst/>
            <a:rect l="l" t="t" r="r" b="b"/>
            <a:pathLst>
              <a:path w="5532" h="1787">
                <a:moveTo>
                  <a:pt x="18529" y="9103"/>
                </a:moveTo>
                <a:cubicBezTo>
                  <a:pt x="18529" y="9065"/>
                  <a:pt x="18488" y="9168"/>
                  <a:pt x="18455" y="9203"/>
                </a:cubicBezTo>
                <a:cubicBezTo>
                  <a:pt x="18447" y="9211"/>
                  <a:pt x="18438" y="9219"/>
                  <a:pt x="18430" y="9227"/>
                </a:cubicBezTo>
                <a:cubicBezTo>
                  <a:pt x="18558" y="9227"/>
                  <a:pt x="18681" y="9228"/>
                  <a:pt x="18802" y="9252"/>
                </a:cubicBezTo>
                <a:cubicBezTo>
                  <a:pt x="18810" y="9252"/>
                  <a:pt x="18819" y="9252"/>
                  <a:pt x="18827" y="9252"/>
                </a:cubicBezTo>
              </a:path>
              <a:path w="5532" h="1787">
                <a:moveTo>
                  <a:pt x="18752" y="8905"/>
                </a:moveTo>
                <a:cubicBezTo>
                  <a:pt x="18752" y="9106"/>
                  <a:pt x="18742" y="9301"/>
                  <a:pt x="18728" y="9500"/>
                </a:cubicBezTo>
                <a:cubicBezTo>
                  <a:pt x="18728" y="9558"/>
                  <a:pt x="18728" y="9566"/>
                  <a:pt x="18728" y="9599"/>
                </a:cubicBezTo>
              </a:path>
              <a:path w="5532" h="1787">
                <a:moveTo>
                  <a:pt x="19199" y="9103"/>
                </a:moveTo>
                <a:cubicBezTo>
                  <a:pt x="19199" y="9062"/>
                  <a:pt x="19359" y="9264"/>
                  <a:pt x="19397" y="9302"/>
                </a:cubicBezTo>
                <a:cubicBezTo>
                  <a:pt x="19449" y="9354"/>
                  <a:pt x="19482" y="9367"/>
                  <a:pt x="19496" y="9426"/>
                </a:cubicBezTo>
              </a:path>
              <a:path w="5532" h="1787">
                <a:moveTo>
                  <a:pt x="19472" y="9054"/>
                </a:moveTo>
                <a:cubicBezTo>
                  <a:pt x="19453" y="9086"/>
                  <a:pt x="19234" y="9412"/>
                  <a:pt x="19248" y="9426"/>
                </a:cubicBezTo>
                <a:cubicBezTo>
                  <a:pt x="19256" y="9418"/>
                  <a:pt x="19265" y="9409"/>
                  <a:pt x="19273" y="9401"/>
                </a:cubicBezTo>
              </a:path>
              <a:path w="5532" h="1787">
                <a:moveTo>
                  <a:pt x="19819" y="9054"/>
                </a:moveTo>
                <a:cubicBezTo>
                  <a:pt x="19819" y="9127"/>
                  <a:pt x="19791" y="9162"/>
                  <a:pt x="19769" y="9227"/>
                </a:cubicBezTo>
                <a:cubicBezTo>
                  <a:pt x="19898" y="9227"/>
                  <a:pt x="20018" y="9239"/>
                  <a:pt x="20141" y="9203"/>
                </a:cubicBezTo>
              </a:path>
              <a:path w="5532" h="1787">
                <a:moveTo>
                  <a:pt x="20141" y="8930"/>
                </a:moveTo>
                <a:cubicBezTo>
                  <a:pt x="20141" y="9071"/>
                  <a:pt x="20120" y="9209"/>
                  <a:pt x="20117" y="9351"/>
                </a:cubicBezTo>
                <a:cubicBezTo>
                  <a:pt x="20116" y="9405"/>
                  <a:pt x="20073" y="9560"/>
                  <a:pt x="20117" y="9575"/>
                </a:cubicBezTo>
              </a:path>
              <a:path w="5532" h="1787">
                <a:moveTo>
                  <a:pt x="20513" y="9103"/>
                </a:moveTo>
                <a:cubicBezTo>
                  <a:pt x="20610" y="9127"/>
                  <a:pt x="20684" y="9240"/>
                  <a:pt x="20762" y="9302"/>
                </a:cubicBezTo>
                <a:cubicBezTo>
                  <a:pt x="20816" y="9345"/>
                  <a:pt x="20846" y="9381"/>
                  <a:pt x="20861" y="9351"/>
                </a:cubicBezTo>
              </a:path>
              <a:path w="5532" h="1787">
                <a:moveTo>
                  <a:pt x="21208" y="8954"/>
                </a:moveTo>
                <a:cubicBezTo>
                  <a:pt x="21208" y="9037"/>
                  <a:pt x="21206" y="9101"/>
                  <a:pt x="21183" y="9178"/>
                </a:cubicBezTo>
                <a:cubicBezTo>
                  <a:pt x="21258" y="9193"/>
                  <a:pt x="21325" y="9203"/>
                  <a:pt x="21406" y="9203"/>
                </a:cubicBezTo>
                <a:cubicBezTo>
                  <a:pt x="21431" y="9203"/>
                  <a:pt x="21439" y="9203"/>
                  <a:pt x="21456" y="9203"/>
                </a:cubicBezTo>
              </a:path>
              <a:path w="5532" h="1787">
                <a:moveTo>
                  <a:pt x="21530" y="8880"/>
                </a:moveTo>
                <a:cubicBezTo>
                  <a:pt x="21506" y="9006"/>
                  <a:pt x="21454" y="9144"/>
                  <a:pt x="21456" y="9277"/>
                </a:cubicBezTo>
                <a:cubicBezTo>
                  <a:pt x="21458" y="9368"/>
                  <a:pt x="21487" y="9493"/>
                  <a:pt x="21506" y="9550"/>
                </a:cubicBezTo>
              </a:path>
              <a:path w="5532" h="1787">
                <a:moveTo>
                  <a:pt x="18802" y="9674"/>
                </a:moveTo>
                <a:cubicBezTo>
                  <a:pt x="18813" y="9751"/>
                  <a:pt x="18827" y="9818"/>
                  <a:pt x="18827" y="9897"/>
                </a:cubicBezTo>
                <a:cubicBezTo>
                  <a:pt x="18971" y="9873"/>
                  <a:pt x="19099" y="9861"/>
                  <a:pt x="19248" y="9847"/>
                </a:cubicBezTo>
                <a:cubicBezTo>
                  <a:pt x="19447" y="9829"/>
                  <a:pt x="19644" y="9804"/>
                  <a:pt x="19844" y="9798"/>
                </a:cubicBezTo>
                <a:cubicBezTo>
                  <a:pt x="19894" y="9797"/>
                  <a:pt x="19943" y="9798"/>
                  <a:pt x="19993" y="9798"/>
                </a:cubicBezTo>
                <a:cubicBezTo>
                  <a:pt x="19993" y="9707"/>
                  <a:pt x="19993" y="9616"/>
                  <a:pt x="19993" y="9525"/>
                </a:cubicBezTo>
              </a:path>
              <a:path w="5532" h="1787">
                <a:moveTo>
                  <a:pt x="19149" y="10244"/>
                </a:moveTo>
                <a:cubicBezTo>
                  <a:pt x="19149" y="10236"/>
                  <a:pt x="19149" y="10228"/>
                  <a:pt x="19149" y="10220"/>
                </a:cubicBezTo>
                <a:cubicBezTo>
                  <a:pt x="19118" y="10272"/>
                  <a:pt x="19124" y="10401"/>
                  <a:pt x="19124" y="10492"/>
                </a:cubicBezTo>
                <a:cubicBezTo>
                  <a:pt x="19124" y="10520"/>
                  <a:pt x="19122" y="10531"/>
                  <a:pt x="19100" y="10542"/>
                </a:cubicBezTo>
              </a:path>
              <a:path w="5532" h="1787">
                <a:moveTo>
                  <a:pt x="19472" y="10145"/>
                </a:moveTo>
                <a:cubicBezTo>
                  <a:pt x="19483" y="10222"/>
                  <a:pt x="19496" y="10290"/>
                  <a:pt x="19496" y="10368"/>
                </a:cubicBezTo>
                <a:cubicBezTo>
                  <a:pt x="19496" y="10393"/>
                  <a:pt x="19496" y="10401"/>
                  <a:pt x="19496" y="10418"/>
                </a:cubicBezTo>
                <a:cubicBezTo>
                  <a:pt x="19585" y="10431"/>
                  <a:pt x="19676" y="10458"/>
                  <a:pt x="19769" y="10443"/>
                </a:cubicBezTo>
                <a:cubicBezTo>
                  <a:pt x="19849" y="10430"/>
                  <a:pt x="19913" y="10418"/>
                  <a:pt x="19993" y="10418"/>
                </a:cubicBezTo>
                <a:cubicBezTo>
                  <a:pt x="20062" y="10418"/>
                  <a:pt x="20084" y="10423"/>
                  <a:pt x="20092" y="10344"/>
                </a:cubicBezTo>
                <a:cubicBezTo>
                  <a:pt x="20092" y="10336"/>
                  <a:pt x="20092" y="10327"/>
                  <a:pt x="20092" y="10319"/>
                </a:cubicBezTo>
                <a:cubicBezTo>
                  <a:pt x="20031" y="10319"/>
                  <a:pt x="20027" y="10289"/>
                  <a:pt x="19968" y="10269"/>
                </a:cubicBezTo>
                <a:cubicBezTo>
                  <a:pt x="19916" y="10251"/>
                  <a:pt x="19837" y="10270"/>
                  <a:pt x="19819" y="10294"/>
                </a:cubicBezTo>
                <a:cubicBezTo>
                  <a:pt x="19796" y="10325"/>
                  <a:pt x="19773" y="10354"/>
                  <a:pt x="19769" y="10393"/>
                </a:cubicBezTo>
                <a:cubicBezTo>
                  <a:pt x="19769" y="10401"/>
                  <a:pt x="19769" y="10410"/>
                  <a:pt x="19769" y="10418"/>
                </a:cubicBezTo>
              </a:path>
              <a:path w="5532" h="1787">
                <a:moveTo>
                  <a:pt x="20538" y="10195"/>
                </a:moveTo>
                <a:cubicBezTo>
                  <a:pt x="20663" y="10195"/>
                  <a:pt x="20784" y="10172"/>
                  <a:pt x="20910" y="10170"/>
                </a:cubicBezTo>
                <a:cubicBezTo>
                  <a:pt x="21051" y="10168"/>
                  <a:pt x="21191" y="10170"/>
                  <a:pt x="21332" y="10170"/>
                </a:cubicBezTo>
                <a:cubicBezTo>
                  <a:pt x="21346" y="10072"/>
                  <a:pt x="21369" y="9966"/>
                  <a:pt x="21406" y="9872"/>
                </a:cubicBezTo>
                <a:cubicBezTo>
                  <a:pt x="21435" y="9798"/>
                  <a:pt x="21481" y="9718"/>
                  <a:pt x="21506" y="9649"/>
                </a:cubicBezTo>
                <a:cubicBezTo>
                  <a:pt x="21521" y="9608"/>
                  <a:pt x="21509" y="9604"/>
                  <a:pt x="21530" y="9575"/>
                </a:cubicBezTo>
              </a:path>
              <a:path w="5532" h="1787">
                <a:moveTo>
                  <a:pt x="22473" y="10046"/>
                </a:moveTo>
                <a:cubicBezTo>
                  <a:pt x="22473" y="10038"/>
                  <a:pt x="22473" y="10029"/>
                  <a:pt x="22473" y="10021"/>
                </a:cubicBezTo>
                <a:cubicBezTo>
                  <a:pt x="22541" y="9976"/>
                  <a:pt x="22459" y="10130"/>
                  <a:pt x="22448" y="10170"/>
                </a:cubicBezTo>
                <a:cubicBezTo>
                  <a:pt x="22437" y="10210"/>
                  <a:pt x="22360" y="10361"/>
                  <a:pt x="22423" y="10393"/>
                </a:cubicBezTo>
                <a:cubicBezTo>
                  <a:pt x="22569" y="10466"/>
                  <a:pt x="22619" y="10429"/>
                  <a:pt x="22746" y="10344"/>
                </a:cubicBezTo>
                <a:cubicBezTo>
                  <a:pt x="22805" y="10304"/>
                  <a:pt x="22817" y="10300"/>
                  <a:pt x="22845" y="10269"/>
                </a:cubicBezTo>
                <a:cubicBezTo>
                  <a:pt x="22809" y="10215"/>
                  <a:pt x="22753" y="10156"/>
                  <a:pt x="22696" y="10244"/>
                </a:cubicBezTo>
                <a:cubicBezTo>
                  <a:pt x="22668" y="10287"/>
                  <a:pt x="22630" y="10354"/>
                  <a:pt x="22671" y="10368"/>
                </a:cubicBezTo>
              </a:path>
              <a:path w="5532" h="1787">
                <a:moveTo>
                  <a:pt x="23044" y="10021"/>
                </a:moveTo>
                <a:cubicBezTo>
                  <a:pt x="23037" y="10055"/>
                  <a:pt x="23026" y="10086"/>
                  <a:pt x="23019" y="10120"/>
                </a:cubicBezTo>
                <a:cubicBezTo>
                  <a:pt x="23074" y="10176"/>
                  <a:pt x="23269" y="10167"/>
                  <a:pt x="23366" y="10170"/>
                </a:cubicBezTo>
                <a:cubicBezTo>
                  <a:pt x="23383" y="10170"/>
                  <a:pt x="23399" y="10170"/>
                  <a:pt x="23416" y="10170"/>
                </a:cubicBezTo>
              </a:path>
              <a:path w="5532" h="1787">
                <a:moveTo>
                  <a:pt x="23391" y="9847"/>
                </a:moveTo>
                <a:cubicBezTo>
                  <a:pt x="23391" y="9981"/>
                  <a:pt x="23369" y="10110"/>
                  <a:pt x="23366" y="10244"/>
                </a:cubicBezTo>
                <a:cubicBezTo>
                  <a:pt x="23365" y="10302"/>
                  <a:pt x="23366" y="10426"/>
                  <a:pt x="23366" y="10368"/>
                </a:cubicBezTo>
              </a:path>
              <a:path w="5532" h="1787">
                <a:moveTo>
                  <a:pt x="22324" y="10592"/>
                </a:moveTo>
                <a:cubicBezTo>
                  <a:pt x="22392" y="10578"/>
                  <a:pt x="22345" y="10581"/>
                  <a:pt x="22523" y="10592"/>
                </a:cubicBezTo>
                <a:cubicBezTo>
                  <a:pt x="22711" y="10603"/>
                  <a:pt x="22930" y="10586"/>
                  <a:pt x="23118" y="10567"/>
                </a:cubicBezTo>
                <a:cubicBezTo>
                  <a:pt x="23287" y="10550"/>
                  <a:pt x="23459" y="10546"/>
                  <a:pt x="23614" y="10468"/>
                </a:cubicBezTo>
                <a:cubicBezTo>
                  <a:pt x="23764" y="10393"/>
                  <a:pt x="23848" y="10307"/>
                  <a:pt x="23912" y="10170"/>
                </a:cubicBezTo>
                <a:cubicBezTo>
                  <a:pt x="23956" y="10076"/>
                  <a:pt x="23995" y="9942"/>
                  <a:pt x="23912" y="9847"/>
                </a:cubicBezTo>
                <a:cubicBezTo>
                  <a:pt x="23831" y="9754"/>
                  <a:pt x="23677" y="9698"/>
                  <a:pt x="23564" y="9674"/>
                </a:cubicBezTo>
                <a:cubicBezTo>
                  <a:pt x="23356" y="9630"/>
                  <a:pt x="23132" y="9603"/>
                  <a:pt x="22920" y="9624"/>
                </a:cubicBezTo>
                <a:cubicBezTo>
                  <a:pt x="22732" y="9642"/>
                  <a:pt x="22533" y="9726"/>
                  <a:pt x="22374" y="9823"/>
                </a:cubicBezTo>
                <a:cubicBezTo>
                  <a:pt x="22224" y="9914"/>
                  <a:pt x="22093" y="10002"/>
                  <a:pt x="22027" y="10170"/>
                </a:cubicBezTo>
                <a:cubicBezTo>
                  <a:pt x="21988" y="10270"/>
                  <a:pt x="21954" y="10318"/>
                  <a:pt x="21977" y="10418"/>
                </a:cubicBezTo>
                <a:cubicBezTo>
                  <a:pt x="22006" y="10545"/>
                  <a:pt x="22081" y="10615"/>
                  <a:pt x="22200" y="10666"/>
                </a:cubicBezTo>
                <a:cubicBezTo>
                  <a:pt x="22217" y="10666"/>
                  <a:pt x="22233" y="10666"/>
                  <a:pt x="22250" y="1066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2680" y="4813200"/>
            <a:ext cx="107640" cy="15264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17314" y="13370"/>
                </a:moveTo>
                <a:cubicBezTo>
                  <a:pt x="17385" y="13499"/>
                  <a:pt x="17470" y="13696"/>
                  <a:pt x="17611" y="13767"/>
                </a:cubicBezTo>
                <a:cubicBezTo>
                  <a:pt x="17611" y="13759"/>
                  <a:pt x="17611" y="13750"/>
                  <a:pt x="17611" y="13742"/>
                </a:cubicBezTo>
              </a:path>
              <a:path w="298" h="422">
                <a:moveTo>
                  <a:pt x="17512" y="13494"/>
                </a:moveTo>
                <a:cubicBezTo>
                  <a:pt x="17460" y="13568"/>
                  <a:pt x="17339" y="13740"/>
                  <a:pt x="17338" y="137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22960" y="4732200"/>
            <a:ext cx="776160" cy="268560"/>
          </a:xfrm>
          <a:custGeom>
            <a:avLst/>
            <a:gdLst/>
            <a:ahLst/>
            <a:rect l="l" t="t" r="r" b="b"/>
            <a:pathLst>
              <a:path w="2159" h="746">
                <a:moveTo>
                  <a:pt x="14883" y="13320"/>
                </a:moveTo>
                <a:cubicBezTo>
                  <a:pt x="14972" y="13276"/>
                  <a:pt x="15081" y="13173"/>
                  <a:pt x="15205" y="13146"/>
                </a:cubicBezTo>
                <a:cubicBezTo>
                  <a:pt x="15238" y="13146"/>
                  <a:pt x="15271" y="13146"/>
                  <a:pt x="15304" y="13146"/>
                </a:cubicBezTo>
                <a:cubicBezTo>
                  <a:pt x="15270" y="13420"/>
                  <a:pt x="15157" y="13575"/>
                  <a:pt x="14957" y="13767"/>
                </a:cubicBezTo>
                <a:cubicBezTo>
                  <a:pt x="14860" y="13844"/>
                  <a:pt x="14849" y="13862"/>
                  <a:pt x="14784" y="13891"/>
                </a:cubicBezTo>
                <a:cubicBezTo>
                  <a:pt x="14975" y="13873"/>
                  <a:pt x="15161" y="13846"/>
                  <a:pt x="15354" y="13841"/>
                </a:cubicBezTo>
                <a:cubicBezTo>
                  <a:pt x="15404" y="13841"/>
                  <a:pt x="15420" y="13841"/>
                  <a:pt x="15453" y="13841"/>
                </a:cubicBezTo>
              </a:path>
              <a:path w="2159" h="746">
                <a:moveTo>
                  <a:pt x="15776" y="13320"/>
                </a:moveTo>
                <a:cubicBezTo>
                  <a:pt x="15867" y="13474"/>
                  <a:pt x="15971" y="13589"/>
                  <a:pt x="16098" y="13717"/>
                </a:cubicBezTo>
              </a:path>
              <a:path w="2159" h="746">
                <a:moveTo>
                  <a:pt x="16446" y="13196"/>
                </a:moveTo>
                <a:cubicBezTo>
                  <a:pt x="16594" y="13163"/>
                  <a:pt x="16653" y="13157"/>
                  <a:pt x="16793" y="13196"/>
                </a:cubicBezTo>
                <a:cubicBezTo>
                  <a:pt x="16735" y="13485"/>
                  <a:pt x="16579" y="13564"/>
                  <a:pt x="16396" y="13791"/>
                </a:cubicBezTo>
                <a:cubicBezTo>
                  <a:pt x="16396" y="13799"/>
                  <a:pt x="16396" y="13808"/>
                  <a:pt x="16396" y="13816"/>
                </a:cubicBezTo>
                <a:cubicBezTo>
                  <a:pt x="16573" y="13835"/>
                  <a:pt x="16737" y="13799"/>
                  <a:pt x="16917" y="13791"/>
                </a:cubicBezTo>
                <a:cubicBezTo>
                  <a:pt x="16925" y="13791"/>
                  <a:pt x="16934" y="13791"/>
                  <a:pt x="16942" y="1379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3240" y="4697280"/>
            <a:ext cx="1401840" cy="276480"/>
          </a:xfrm>
          <a:custGeom>
            <a:avLst/>
            <a:gdLst/>
            <a:ahLst/>
            <a:rect l="l" t="t" r="r" b="b"/>
            <a:pathLst>
              <a:path w="3896" h="770">
                <a:moveTo>
                  <a:pt x="18008" y="13146"/>
                </a:moveTo>
                <a:cubicBezTo>
                  <a:pt x="18089" y="13133"/>
                  <a:pt x="18304" y="13029"/>
                  <a:pt x="18355" y="13146"/>
                </a:cubicBezTo>
                <a:cubicBezTo>
                  <a:pt x="18439" y="13338"/>
                  <a:pt x="18096" y="13570"/>
                  <a:pt x="18033" y="13717"/>
                </a:cubicBezTo>
                <a:cubicBezTo>
                  <a:pt x="18033" y="13734"/>
                  <a:pt x="18033" y="13750"/>
                  <a:pt x="18033" y="13767"/>
                </a:cubicBezTo>
                <a:cubicBezTo>
                  <a:pt x="18206" y="13782"/>
                  <a:pt x="18357" y="13749"/>
                  <a:pt x="18529" y="13742"/>
                </a:cubicBezTo>
                <a:cubicBezTo>
                  <a:pt x="18546" y="13742"/>
                  <a:pt x="18562" y="13742"/>
                  <a:pt x="18579" y="13742"/>
                </a:cubicBezTo>
              </a:path>
              <a:path w="3896" h="770">
                <a:moveTo>
                  <a:pt x="18876" y="13271"/>
                </a:moveTo>
                <a:cubicBezTo>
                  <a:pt x="18945" y="13427"/>
                  <a:pt x="19026" y="13615"/>
                  <a:pt x="19199" y="13692"/>
                </a:cubicBezTo>
                <a:cubicBezTo>
                  <a:pt x="19199" y="13684"/>
                  <a:pt x="19199" y="13675"/>
                  <a:pt x="19199" y="13667"/>
                </a:cubicBezTo>
              </a:path>
              <a:path w="3896" h="770">
                <a:moveTo>
                  <a:pt x="19124" y="13370"/>
                </a:moveTo>
                <a:cubicBezTo>
                  <a:pt x="19068" y="13467"/>
                  <a:pt x="18989" y="13589"/>
                  <a:pt x="18951" y="13692"/>
                </a:cubicBezTo>
              </a:path>
              <a:path w="3896" h="770">
                <a:moveTo>
                  <a:pt x="19621" y="13171"/>
                </a:moveTo>
                <a:cubicBezTo>
                  <a:pt x="19754" y="13171"/>
                  <a:pt x="19924" y="13158"/>
                  <a:pt x="19943" y="13345"/>
                </a:cubicBezTo>
                <a:cubicBezTo>
                  <a:pt x="19964" y="13556"/>
                  <a:pt x="19713" y="13672"/>
                  <a:pt x="19571" y="13767"/>
                </a:cubicBezTo>
                <a:cubicBezTo>
                  <a:pt x="19768" y="13826"/>
                  <a:pt x="19962" y="13803"/>
                  <a:pt x="20166" y="13816"/>
                </a:cubicBezTo>
                <a:cubicBezTo>
                  <a:pt x="20201" y="13816"/>
                  <a:pt x="20219" y="13811"/>
                  <a:pt x="20241" y="13791"/>
                </a:cubicBezTo>
              </a:path>
              <a:path w="3896" h="770">
                <a:moveTo>
                  <a:pt x="20464" y="13320"/>
                </a:moveTo>
                <a:cubicBezTo>
                  <a:pt x="20536" y="13437"/>
                  <a:pt x="20687" y="13606"/>
                  <a:pt x="20836" y="13643"/>
                </a:cubicBezTo>
                <a:cubicBezTo>
                  <a:pt x="20844" y="13635"/>
                  <a:pt x="20853" y="13626"/>
                  <a:pt x="20861" y="13618"/>
                </a:cubicBezTo>
              </a:path>
              <a:path w="3896" h="770">
                <a:moveTo>
                  <a:pt x="21158" y="13196"/>
                </a:moveTo>
                <a:cubicBezTo>
                  <a:pt x="21262" y="13170"/>
                  <a:pt x="21365" y="13102"/>
                  <a:pt x="21481" y="13072"/>
                </a:cubicBezTo>
                <a:cubicBezTo>
                  <a:pt x="21514" y="13064"/>
                  <a:pt x="21547" y="13055"/>
                  <a:pt x="21580" y="13047"/>
                </a:cubicBezTo>
                <a:cubicBezTo>
                  <a:pt x="21580" y="13284"/>
                  <a:pt x="21393" y="13483"/>
                  <a:pt x="21233" y="13667"/>
                </a:cubicBezTo>
                <a:cubicBezTo>
                  <a:pt x="21177" y="13723"/>
                  <a:pt x="21152" y="13721"/>
                  <a:pt x="21158" y="13767"/>
                </a:cubicBezTo>
                <a:cubicBezTo>
                  <a:pt x="21287" y="13730"/>
                  <a:pt x="21386" y="13680"/>
                  <a:pt x="21530" y="13692"/>
                </a:cubicBezTo>
                <a:cubicBezTo>
                  <a:pt x="21654" y="13702"/>
                  <a:pt x="21782" y="13741"/>
                  <a:pt x="21903" y="1376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59840" y="4303800"/>
            <a:ext cx="260280" cy="839880"/>
          </a:xfrm>
          <a:custGeom>
            <a:avLst/>
            <a:gdLst/>
            <a:ahLst/>
            <a:rect l="l" t="t" r="r" b="b"/>
            <a:pathLst>
              <a:path w="721" h="2333">
                <a:moveTo>
                  <a:pt x="22944" y="11956"/>
                </a:moveTo>
                <a:cubicBezTo>
                  <a:pt x="23023" y="12002"/>
                  <a:pt x="23107" y="12039"/>
                  <a:pt x="23192" y="12080"/>
                </a:cubicBezTo>
                <a:cubicBezTo>
                  <a:pt x="23251" y="12109"/>
                  <a:pt x="23326" y="12151"/>
                  <a:pt x="23366" y="12204"/>
                </a:cubicBezTo>
                <a:cubicBezTo>
                  <a:pt x="23446" y="12309"/>
                  <a:pt x="23512" y="12456"/>
                  <a:pt x="23564" y="12576"/>
                </a:cubicBezTo>
                <a:cubicBezTo>
                  <a:pt x="23612" y="12687"/>
                  <a:pt x="23650" y="12804"/>
                  <a:pt x="23664" y="12923"/>
                </a:cubicBezTo>
                <a:cubicBezTo>
                  <a:pt x="23676" y="13020"/>
                  <a:pt x="23647" y="13061"/>
                  <a:pt x="23614" y="13146"/>
                </a:cubicBezTo>
                <a:cubicBezTo>
                  <a:pt x="23584" y="13223"/>
                  <a:pt x="23562" y="13296"/>
                  <a:pt x="23515" y="13370"/>
                </a:cubicBezTo>
                <a:cubicBezTo>
                  <a:pt x="23440" y="13489"/>
                  <a:pt x="23379" y="13615"/>
                  <a:pt x="23316" y="13742"/>
                </a:cubicBezTo>
                <a:cubicBezTo>
                  <a:pt x="23288" y="13797"/>
                  <a:pt x="23244" y="13843"/>
                  <a:pt x="23217" y="13891"/>
                </a:cubicBezTo>
                <a:cubicBezTo>
                  <a:pt x="23169" y="13976"/>
                  <a:pt x="23121" y="14055"/>
                  <a:pt x="23068" y="14139"/>
                </a:cubicBezTo>
                <a:cubicBezTo>
                  <a:pt x="23057" y="14156"/>
                  <a:pt x="22986" y="14274"/>
                  <a:pt x="22969" y="14288"/>
                </a:cubicBezTo>
                <a:cubicBezTo>
                  <a:pt x="22969" y="14280"/>
                  <a:pt x="22969" y="14271"/>
                  <a:pt x="22969" y="14263"/>
                </a:cubicBezTo>
              </a:path>
              <a:path w="721" h="2333">
                <a:moveTo>
                  <a:pt x="22969" y="13965"/>
                </a:moveTo>
                <a:cubicBezTo>
                  <a:pt x="23012" y="14069"/>
                  <a:pt x="23044" y="14149"/>
                  <a:pt x="23044" y="14263"/>
                </a:cubicBezTo>
                <a:cubicBezTo>
                  <a:pt x="23044" y="14271"/>
                  <a:pt x="23044" y="14280"/>
                  <a:pt x="23044" y="14288"/>
                </a:cubicBezTo>
                <a:cubicBezTo>
                  <a:pt x="23158" y="14265"/>
                  <a:pt x="23244" y="14187"/>
                  <a:pt x="23366" y="14163"/>
                </a:cubicBezTo>
                <a:cubicBezTo>
                  <a:pt x="23383" y="14163"/>
                  <a:pt x="23399" y="14163"/>
                  <a:pt x="23416" y="1416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86800" y="4483080"/>
            <a:ext cx="438120" cy="61920"/>
          </a:xfrm>
          <a:custGeom>
            <a:avLst/>
            <a:gdLst/>
            <a:ahLst/>
            <a:rect l="l" t="t" r="r" b="b"/>
            <a:pathLst>
              <a:path w="1216" h="175">
                <a:moveTo>
                  <a:pt x="21630" y="12576"/>
                </a:moveTo>
                <a:cubicBezTo>
                  <a:pt x="21830" y="12576"/>
                  <a:pt x="22033" y="12571"/>
                  <a:pt x="22225" y="12601"/>
                </a:cubicBezTo>
                <a:cubicBezTo>
                  <a:pt x="22324" y="12617"/>
                  <a:pt x="22503" y="12635"/>
                  <a:pt x="22597" y="12626"/>
                </a:cubicBezTo>
                <a:cubicBezTo>
                  <a:pt x="22646" y="12622"/>
                  <a:pt x="22691" y="12601"/>
                  <a:pt x="22746" y="12601"/>
                </a:cubicBezTo>
                <a:cubicBezTo>
                  <a:pt x="22787" y="12601"/>
                  <a:pt x="22861" y="12601"/>
                  <a:pt x="22820" y="12601"/>
                </a:cubicBezTo>
                <a:cubicBezTo>
                  <a:pt x="22627" y="12601"/>
                  <a:pt x="22440" y="12606"/>
                  <a:pt x="22250" y="12576"/>
                </a:cubicBezTo>
                <a:cubicBezTo>
                  <a:pt x="22083" y="12550"/>
                  <a:pt x="21966" y="12560"/>
                  <a:pt x="21803" y="12576"/>
                </a:cubicBezTo>
                <a:cubicBezTo>
                  <a:pt x="21745" y="12576"/>
                  <a:pt x="21737" y="12576"/>
                  <a:pt x="21704" y="12576"/>
                </a:cubicBezTo>
                <a:cubicBezTo>
                  <a:pt x="21867" y="12576"/>
                  <a:pt x="22014" y="12550"/>
                  <a:pt x="22175" y="12526"/>
                </a:cubicBezTo>
                <a:cubicBezTo>
                  <a:pt x="22347" y="12500"/>
                  <a:pt x="22524" y="12484"/>
                  <a:pt x="22696" y="12477"/>
                </a:cubicBezTo>
                <a:cubicBezTo>
                  <a:pt x="22737" y="12475"/>
                  <a:pt x="22779" y="12477"/>
                  <a:pt x="22820" y="12477"/>
                </a:cubicBezTo>
                <a:cubicBezTo>
                  <a:pt x="22637" y="12450"/>
                  <a:pt x="22463" y="12452"/>
                  <a:pt x="22275" y="12452"/>
                </a:cubicBezTo>
                <a:cubicBezTo>
                  <a:pt x="22098" y="12452"/>
                  <a:pt x="21930" y="12477"/>
                  <a:pt x="21754" y="1247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8000" y="4776840"/>
            <a:ext cx="1785960" cy="189000"/>
          </a:xfrm>
          <a:custGeom>
            <a:avLst/>
            <a:gdLst/>
            <a:ahLst/>
            <a:rect l="l" t="t" r="r" b="b"/>
            <a:pathLst>
              <a:path w="4962" h="521">
                <a:moveTo>
                  <a:pt x="16148" y="13295"/>
                </a:moveTo>
                <a:cubicBezTo>
                  <a:pt x="16027" y="13460"/>
                  <a:pt x="15936" y="13637"/>
                  <a:pt x="15801" y="13791"/>
                </a:cubicBezTo>
              </a:path>
              <a:path w="4962" h="521">
                <a:moveTo>
                  <a:pt x="20762" y="13271"/>
                </a:moveTo>
                <a:cubicBezTo>
                  <a:pt x="20753" y="13288"/>
                  <a:pt x="20498" y="13727"/>
                  <a:pt x="20538" y="13742"/>
                </a:cubicBezTo>
                <a:cubicBezTo>
                  <a:pt x="20555" y="13734"/>
                  <a:pt x="20571" y="13725"/>
                  <a:pt x="20588" y="1371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46800" y="4991040"/>
            <a:ext cx="3000240" cy="696960"/>
          </a:xfrm>
          <a:custGeom>
            <a:avLst/>
            <a:gdLst/>
            <a:ahLst/>
            <a:rect l="l" t="t" r="r" b="b"/>
            <a:pathLst>
              <a:path w="8335" h="1936">
                <a:moveTo>
                  <a:pt x="15131" y="14114"/>
                </a:moveTo>
                <a:cubicBezTo>
                  <a:pt x="15131" y="14188"/>
                  <a:pt x="15131" y="14263"/>
                  <a:pt x="15131" y="14337"/>
                </a:cubicBezTo>
                <a:cubicBezTo>
                  <a:pt x="15270" y="14362"/>
                  <a:pt x="15423" y="14317"/>
                  <a:pt x="15577" y="14288"/>
                </a:cubicBezTo>
                <a:cubicBezTo>
                  <a:pt x="15787" y="14248"/>
                  <a:pt x="16081" y="14169"/>
                  <a:pt x="16297" y="14188"/>
                </a:cubicBezTo>
                <a:cubicBezTo>
                  <a:pt x="16325" y="14190"/>
                  <a:pt x="16306" y="14236"/>
                  <a:pt x="16346" y="14139"/>
                </a:cubicBezTo>
                <a:cubicBezTo>
                  <a:pt x="16367" y="14087"/>
                  <a:pt x="16374" y="14012"/>
                  <a:pt x="16396" y="13965"/>
                </a:cubicBezTo>
                <a:cubicBezTo>
                  <a:pt x="16421" y="13965"/>
                  <a:pt x="16429" y="13965"/>
                  <a:pt x="16421" y="13940"/>
                </a:cubicBezTo>
              </a:path>
              <a:path w="8335" h="1936">
                <a:moveTo>
                  <a:pt x="15825" y="14461"/>
                </a:moveTo>
                <a:cubicBezTo>
                  <a:pt x="15843" y="14587"/>
                  <a:pt x="15830" y="14661"/>
                  <a:pt x="15801" y="14784"/>
                </a:cubicBezTo>
                <a:cubicBezTo>
                  <a:pt x="15801" y="14792"/>
                  <a:pt x="15801" y="14800"/>
                  <a:pt x="15801" y="14808"/>
                </a:cubicBezTo>
                <a:cubicBezTo>
                  <a:pt x="15909" y="14790"/>
                  <a:pt x="16011" y="14784"/>
                  <a:pt x="16123" y="14784"/>
                </a:cubicBezTo>
              </a:path>
              <a:path w="8335" h="1936">
                <a:moveTo>
                  <a:pt x="16123" y="14486"/>
                </a:moveTo>
                <a:cubicBezTo>
                  <a:pt x="16147" y="14653"/>
                  <a:pt x="16170" y="14811"/>
                  <a:pt x="16173" y="14982"/>
                </a:cubicBezTo>
                <a:cubicBezTo>
                  <a:pt x="16173" y="15081"/>
                  <a:pt x="16173" y="15098"/>
                  <a:pt x="16173" y="15156"/>
                </a:cubicBezTo>
              </a:path>
              <a:path w="8335" h="1936">
                <a:moveTo>
                  <a:pt x="16619" y="14684"/>
                </a:moveTo>
                <a:cubicBezTo>
                  <a:pt x="16985" y="14612"/>
                  <a:pt x="17342" y="14603"/>
                  <a:pt x="17711" y="14560"/>
                </a:cubicBezTo>
                <a:cubicBezTo>
                  <a:pt x="17929" y="14535"/>
                  <a:pt x="18113" y="14511"/>
                  <a:pt x="18331" y="14511"/>
                </a:cubicBezTo>
                <a:cubicBezTo>
                  <a:pt x="18331" y="14377"/>
                  <a:pt x="18331" y="14030"/>
                  <a:pt x="18331" y="13990"/>
                </a:cubicBezTo>
              </a:path>
              <a:path w="8335" h="1936">
                <a:moveTo>
                  <a:pt x="18703" y="14684"/>
                </a:moveTo>
                <a:cubicBezTo>
                  <a:pt x="18599" y="14672"/>
                  <a:pt x="18377" y="14739"/>
                  <a:pt x="18306" y="14858"/>
                </a:cubicBezTo>
                <a:cubicBezTo>
                  <a:pt x="18306" y="14883"/>
                  <a:pt x="18306" y="14907"/>
                  <a:pt x="18306" y="14932"/>
                </a:cubicBezTo>
                <a:cubicBezTo>
                  <a:pt x="18454" y="15043"/>
                  <a:pt x="18623" y="15100"/>
                  <a:pt x="18752" y="15230"/>
                </a:cubicBezTo>
                <a:cubicBezTo>
                  <a:pt x="18691" y="15312"/>
                  <a:pt x="18578" y="15391"/>
                  <a:pt x="18529" y="15230"/>
                </a:cubicBezTo>
                <a:cubicBezTo>
                  <a:pt x="18487" y="15092"/>
                  <a:pt x="18634" y="14949"/>
                  <a:pt x="18678" y="14833"/>
                </a:cubicBezTo>
                <a:cubicBezTo>
                  <a:pt x="18678" y="14825"/>
                  <a:pt x="18678" y="14816"/>
                  <a:pt x="18678" y="14808"/>
                </a:cubicBezTo>
              </a:path>
              <a:path w="8335" h="1936">
                <a:moveTo>
                  <a:pt x="18951" y="14982"/>
                </a:moveTo>
                <a:cubicBezTo>
                  <a:pt x="19118" y="14982"/>
                  <a:pt x="19281" y="14962"/>
                  <a:pt x="19447" y="14957"/>
                </a:cubicBezTo>
                <a:cubicBezTo>
                  <a:pt x="19463" y="14957"/>
                  <a:pt x="19480" y="14957"/>
                  <a:pt x="19496" y="14957"/>
                </a:cubicBezTo>
                <a:cubicBezTo>
                  <a:pt x="19496" y="14796"/>
                  <a:pt x="19484" y="14620"/>
                  <a:pt x="19472" y="14461"/>
                </a:cubicBezTo>
                <a:cubicBezTo>
                  <a:pt x="19462" y="14318"/>
                  <a:pt x="19427" y="14159"/>
                  <a:pt x="19447" y="14039"/>
                </a:cubicBezTo>
                <a:cubicBezTo>
                  <a:pt x="19447" y="14031"/>
                  <a:pt x="19447" y="14023"/>
                  <a:pt x="19447" y="14015"/>
                </a:cubicBezTo>
              </a:path>
              <a:path w="8335" h="1936">
                <a:moveTo>
                  <a:pt x="19769" y="14957"/>
                </a:moveTo>
                <a:cubicBezTo>
                  <a:pt x="19769" y="15098"/>
                  <a:pt x="19788" y="15241"/>
                  <a:pt x="19819" y="15379"/>
                </a:cubicBezTo>
                <a:cubicBezTo>
                  <a:pt x="19828" y="15421"/>
                  <a:pt x="19844" y="15496"/>
                  <a:pt x="19844" y="15453"/>
                </a:cubicBezTo>
              </a:path>
              <a:path w="8335" h="1936">
                <a:moveTo>
                  <a:pt x="20042" y="15007"/>
                </a:moveTo>
                <a:cubicBezTo>
                  <a:pt x="20069" y="15158"/>
                  <a:pt x="20055" y="15294"/>
                  <a:pt x="20117" y="15429"/>
                </a:cubicBezTo>
                <a:cubicBezTo>
                  <a:pt x="20184" y="15577"/>
                  <a:pt x="20380" y="15484"/>
                  <a:pt x="20464" y="15404"/>
                </a:cubicBezTo>
                <a:cubicBezTo>
                  <a:pt x="20488" y="15356"/>
                  <a:pt x="20496" y="15341"/>
                  <a:pt x="20489" y="15304"/>
                </a:cubicBezTo>
                <a:cubicBezTo>
                  <a:pt x="20357" y="15272"/>
                  <a:pt x="20290" y="15271"/>
                  <a:pt x="20216" y="15404"/>
                </a:cubicBezTo>
                <a:cubicBezTo>
                  <a:pt x="20216" y="15454"/>
                  <a:pt x="20241" y="15462"/>
                  <a:pt x="20315" y="15429"/>
                </a:cubicBezTo>
              </a:path>
              <a:path w="8335" h="1936">
                <a:moveTo>
                  <a:pt x="20638" y="15131"/>
                </a:moveTo>
                <a:cubicBezTo>
                  <a:pt x="20823" y="15056"/>
                  <a:pt x="21075" y="15024"/>
                  <a:pt x="21282" y="15007"/>
                </a:cubicBezTo>
                <a:cubicBezTo>
                  <a:pt x="21373" y="15007"/>
                  <a:pt x="21381" y="15007"/>
                  <a:pt x="21431" y="15007"/>
                </a:cubicBezTo>
                <a:cubicBezTo>
                  <a:pt x="21412" y="14743"/>
                  <a:pt x="21390" y="14479"/>
                  <a:pt x="21406" y="14213"/>
                </a:cubicBezTo>
                <a:cubicBezTo>
                  <a:pt x="21413" y="14097"/>
                  <a:pt x="21435" y="13943"/>
                  <a:pt x="21406" y="13866"/>
                </a:cubicBezTo>
              </a:path>
              <a:path w="8335" h="1936">
                <a:moveTo>
                  <a:pt x="21952" y="15007"/>
                </a:moveTo>
                <a:cubicBezTo>
                  <a:pt x="21902" y="15057"/>
                  <a:pt x="22070" y="14943"/>
                  <a:pt x="22126" y="14932"/>
                </a:cubicBezTo>
                <a:cubicBezTo>
                  <a:pt x="22291" y="14899"/>
                  <a:pt x="22137" y="15117"/>
                  <a:pt x="22101" y="15156"/>
                </a:cubicBezTo>
                <a:cubicBezTo>
                  <a:pt x="22093" y="15164"/>
                  <a:pt x="22084" y="15172"/>
                  <a:pt x="22076" y="15180"/>
                </a:cubicBezTo>
                <a:cubicBezTo>
                  <a:pt x="22068" y="15180"/>
                  <a:pt x="22059" y="15180"/>
                  <a:pt x="22051" y="15180"/>
                </a:cubicBezTo>
                <a:cubicBezTo>
                  <a:pt x="22136" y="15166"/>
                  <a:pt x="22280" y="15154"/>
                  <a:pt x="22275" y="15304"/>
                </a:cubicBezTo>
                <a:cubicBezTo>
                  <a:pt x="22271" y="15419"/>
                  <a:pt x="21960" y="15525"/>
                  <a:pt x="21903" y="15429"/>
                </a:cubicBezTo>
                <a:cubicBezTo>
                  <a:pt x="21919" y="15404"/>
                  <a:pt x="21936" y="15379"/>
                  <a:pt x="21952" y="15354"/>
                </a:cubicBezTo>
              </a:path>
              <a:path w="8335" h="1936">
                <a:moveTo>
                  <a:pt x="22572" y="14932"/>
                </a:moveTo>
                <a:cubicBezTo>
                  <a:pt x="22589" y="14882"/>
                  <a:pt x="22687" y="14858"/>
                  <a:pt x="22746" y="14833"/>
                </a:cubicBezTo>
                <a:cubicBezTo>
                  <a:pt x="22857" y="14960"/>
                  <a:pt x="22836" y="15080"/>
                  <a:pt x="22746" y="15230"/>
                </a:cubicBezTo>
                <a:cubicBezTo>
                  <a:pt x="22727" y="15262"/>
                  <a:pt x="22647" y="15396"/>
                  <a:pt x="22647" y="15354"/>
                </a:cubicBezTo>
                <a:cubicBezTo>
                  <a:pt x="22717" y="15303"/>
                  <a:pt x="22740" y="15239"/>
                  <a:pt x="22845" y="15255"/>
                </a:cubicBezTo>
                <a:cubicBezTo>
                  <a:pt x="22943" y="15270"/>
                  <a:pt x="22998" y="15274"/>
                  <a:pt x="23093" y="15255"/>
                </a:cubicBezTo>
              </a:path>
              <a:path w="8335" h="1936">
                <a:moveTo>
                  <a:pt x="21431" y="15776"/>
                </a:moveTo>
                <a:cubicBezTo>
                  <a:pt x="21682" y="15776"/>
                  <a:pt x="21927" y="15783"/>
                  <a:pt x="22175" y="15776"/>
                </a:cubicBezTo>
                <a:cubicBezTo>
                  <a:pt x="22437" y="15769"/>
                  <a:pt x="22690" y="15747"/>
                  <a:pt x="22944" y="15677"/>
                </a:cubicBezTo>
                <a:cubicBezTo>
                  <a:pt x="23112" y="15631"/>
                  <a:pt x="23313" y="15528"/>
                  <a:pt x="23416" y="15379"/>
                </a:cubicBezTo>
                <a:cubicBezTo>
                  <a:pt x="23484" y="15281"/>
                  <a:pt x="23478" y="15112"/>
                  <a:pt x="23440" y="15007"/>
                </a:cubicBezTo>
                <a:cubicBezTo>
                  <a:pt x="23381" y="14841"/>
                  <a:pt x="23185" y="14705"/>
                  <a:pt x="23019" y="14660"/>
                </a:cubicBezTo>
                <a:cubicBezTo>
                  <a:pt x="22838" y="14611"/>
                  <a:pt x="22587" y="14616"/>
                  <a:pt x="22399" y="14635"/>
                </a:cubicBezTo>
                <a:cubicBezTo>
                  <a:pt x="22222" y="14653"/>
                  <a:pt x="22025" y="14659"/>
                  <a:pt x="21853" y="14709"/>
                </a:cubicBezTo>
                <a:cubicBezTo>
                  <a:pt x="21647" y="14769"/>
                  <a:pt x="21527" y="14858"/>
                  <a:pt x="21382" y="15007"/>
                </a:cubicBezTo>
                <a:cubicBezTo>
                  <a:pt x="21233" y="15159"/>
                  <a:pt x="21085" y="15328"/>
                  <a:pt x="21258" y="15528"/>
                </a:cubicBezTo>
                <a:cubicBezTo>
                  <a:pt x="21384" y="15674"/>
                  <a:pt x="21549" y="15693"/>
                  <a:pt x="21729" y="15701"/>
                </a:cubicBezTo>
                <a:cubicBezTo>
                  <a:pt x="21754" y="15701"/>
                  <a:pt x="21762" y="15701"/>
                  <a:pt x="21779" y="157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7960" y="5018040"/>
            <a:ext cx="3162240" cy="81000"/>
          </a:xfrm>
          <a:custGeom>
            <a:avLst/>
            <a:gdLst/>
            <a:ahLst/>
            <a:rect l="l" t="t" r="r" b="b"/>
            <a:pathLst>
              <a:path w="8782" h="224">
                <a:moveTo>
                  <a:pt x="4663" y="14163"/>
                </a:moveTo>
                <a:cubicBezTo>
                  <a:pt x="4794" y="14138"/>
                  <a:pt x="4923" y="14111"/>
                  <a:pt x="5060" y="14089"/>
                </a:cubicBezTo>
                <a:cubicBezTo>
                  <a:pt x="5304" y="14050"/>
                  <a:pt x="5532" y="14039"/>
                  <a:pt x="5779" y="14039"/>
                </a:cubicBezTo>
                <a:cubicBezTo>
                  <a:pt x="6251" y="14039"/>
                  <a:pt x="6723" y="14032"/>
                  <a:pt x="7193" y="14015"/>
                </a:cubicBezTo>
                <a:cubicBezTo>
                  <a:pt x="7410" y="14007"/>
                  <a:pt x="7623" y="14012"/>
                  <a:pt x="7838" y="13990"/>
                </a:cubicBezTo>
                <a:cubicBezTo>
                  <a:pt x="8109" y="13962"/>
                  <a:pt x="8385" y="13944"/>
                  <a:pt x="8657" y="13940"/>
                </a:cubicBezTo>
                <a:cubicBezTo>
                  <a:pt x="9043" y="13934"/>
                  <a:pt x="9442" y="13979"/>
                  <a:pt x="9823" y="13965"/>
                </a:cubicBezTo>
                <a:cubicBezTo>
                  <a:pt x="10038" y="13957"/>
                  <a:pt x="10251" y="13940"/>
                  <a:pt x="10468" y="13940"/>
                </a:cubicBezTo>
                <a:cubicBezTo>
                  <a:pt x="10750" y="13940"/>
                  <a:pt x="11031" y="13939"/>
                  <a:pt x="11311" y="13965"/>
                </a:cubicBezTo>
                <a:cubicBezTo>
                  <a:pt x="11600" y="13992"/>
                  <a:pt x="11865" y="13975"/>
                  <a:pt x="12154" y="13965"/>
                </a:cubicBezTo>
                <a:cubicBezTo>
                  <a:pt x="12435" y="13955"/>
                  <a:pt x="12742" y="13966"/>
                  <a:pt x="13022" y="13990"/>
                </a:cubicBezTo>
                <a:cubicBezTo>
                  <a:pt x="13148" y="14001"/>
                  <a:pt x="13306" y="14028"/>
                  <a:pt x="13419" y="14039"/>
                </a:cubicBezTo>
                <a:cubicBezTo>
                  <a:pt x="13427" y="14039"/>
                  <a:pt x="13436" y="14039"/>
                  <a:pt x="13444" y="1403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33680" y="5670720"/>
            <a:ext cx="750600" cy="17280"/>
          </a:xfrm>
          <a:custGeom>
            <a:avLst/>
            <a:gdLst/>
            <a:ahLst/>
            <a:rect l="l" t="t" r="r" b="b"/>
            <a:pathLst>
              <a:path w="2085" h="51">
                <a:moveTo>
                  <a:pt x="4539" y="15801"/>
                </a:moveTo>
                <a:cubicBezTo>
                  <a:pt x="4772" y="15775"/>
                  <a:pt x="4998" y="15787"/>
                  <a:pt x="5234" y="15776"/>
                </a:cubicBezTo>
                <a:cubicBezTo>
                  <a:pt x="5657" y="15757"/>
                  <a:pt x="6053" y="15774"/>
                  <a:pt x="6474" y="15801"/>
                </a:cubicBezTo>
                <a:cubicBezTo>
                  <a:pt x="6522" y="15804"/>
                  <a:pt x="6574" y="15801"/>
                  <a:pt x="6623" y="158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2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r>
              <a:rPr b="1" lang="en-US" sz="2000" spc="-1" strike="noStrike">
                <a:solidFill>
                  <a:srgbClr val="3399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Verdana"/>
              </a:rPr>
              <a:t>Skill Practice:  Complete the exercises below using what you have learne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) Write 3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as a product of facto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)  Write 7 x 7 x 7 using a pow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)  Write 8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two other way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)  Evaluate 5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.)  Evaluate 10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dffd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2320920"/>
            <a:ext cx="295200" cy="28440"/>
          </a:xfrm>
          <a:custGeom>
            <a:avLst/>
            <a:gdLst/>
            <a:ahLst/>
            <a:rect l="l" t="t" r="r" b="b"/>
            <a:pathLst>
              <a:path w="820" h="76">
                <a:moveTo>
                  <a:pt x="5209" y="6524"/>
                </a:moveTo>
                <a:cubicBezTo>
                  <a:pt x="5225" y="6476"/>
                  <a:pt x="5255" y="6511"/>
                  <a:pt x="5308" y="6499"/>
                </a:cubicBezTo>
                <a:cubicBezTo>
                  <a:pt x="5383" y="6482"/>
                  <a:pt x="5431" y="6474"/>
                  <a:pt x="5507" y="6474"/>
                </a:cubicBezTo>
                <a:cubicBezTo>
                  <a:pt x="5586" y="6474"/>
                  <a:pt x="5634" y="6462"/>
                  <a:pt x="5705" y="6449"/>
                </a:cubicBezTo>
                <a:cubicBezTo>
                  <a:pt x="5785" y="6435"/>
                  <a:pt x="5772" y="6468"/>
                  <a:pt x="5854" y="6474"/>
                </a:cubicBezTo>
                <a:cubicBezTo>
                  <a:pt x="5921" y="6479"/>
                  <a:pt x="5968" y="6481"/>
                  <a:pt x="6003" y="6499"/>
                </a:cubicBezTo>
                <a:cubicBezTo>
                  <a:pt x="6011" y="6499"/>
                  <a:pt x="6020" y="6499"/>
                  <a:pt x="6028" y="649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92920" y="2000160"/>
            <a:ext cx="992160" cy="135000"/>
          </a:xfrm>
          <a:custGeom>
            <a:avLst/>
            <a:gdLst/>
            <a:ahLst/>
            <a:rect l="l" t="t" r="r" b="b"/>
            <a:pathLst>
              <a:path w="2755" h="373">
                <a:moveTo>
                  <a:pt x="19149" y="5556"/>
                </a:moveTo>
                <a:cubicBezTo>
                  <a:pt x="19222" y="5702"/>
                  <a:pt x="19305" y="5813"/>
                  <a:pt x="19422" y="5928"/>
                </a:cubicBezTo>
              </a:path>
              <a:path w="2755" h="373">
                <a:moveTo>
                  <a:pt x="21704" y="5556"/>
                </a:moveTo>
                <a:cubicBezTo>
                  <a:pt x="21771" y="5672"/>
                  <a:pt x="21834" y="5789"/>
                  <a:pt x="21903" y="590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97760" y="1919160"/>
            <a:ext cx="1946160" cy="322560"/>
          </a:xfrm>
          <a:custGeom>
            <a:avLst/>
            <a:gdLst/>
            <a:ahLst/>
            <a:rect l="l" t="t" r="r" b="b"/>
            <a:pathLst>
              <a:path w="5409" h="894">
                <a:moveTo>
                  <a:pt x="17314" y="5581"/>
                </a:moveTo>
                <a:cubicBezTo>
                  <a:pt x="17405" y="5526"/>
                  <a:pt x="17466" y="5470"/>
                  <a:pt x="17587" y="5432"/>
                </a:cubicBezTo>
                <a:cubicBezTo>
                  <a:pt x="17599" y="5626"/>
                  <a:pt x="17537" y="5702"/>
                  <a:pt x="17388" y="5829"/>
                </a:cubicBezTo>
                <a:cubicBezTo>
                  <a:pt x="17504" y="5829"/>
                  <a:pt x="17622" y="5788"/>
                  <a:pt x="17686" y="5928"/>
                </a:cubicBezTo>
                <a:cubicBezTo>
                  <a:pt x="17793" y="6161"/>
                  <a:pt x="17408" y="6240"/>
                  <a:pt x="17264" y="6226"/>
                </a:cubicBezTo>
                <a:cubicBezTo>
                  <a:pt x="17247" y="6218"/>
                  <a:pt x="17231" y="6209"/>
                  <a:pt x="17214" y="6201"/>
                </a:cubicBezTo>
              </a:path>
              <a:path w="5409" h="894">
                <a:moveTo>
                  <a:pt x="17884" y="5606"/>
                </a:moveTo>
                <a:cubicBezTo>
                  <a:pt x="17956" y="5722"/>
                  <a:pt x="18121" y="6084"/>
                  <a:pt x="18132" y="6052"/>
                </a:cubicBezTo>
              </a:path>
              <a:path w="5409" h="894">
                <a:moveTo>
                  <a:pt x="18231" y="5606"/>
                </a:moveTo>
                <a:cubicBezTo>
                  <a:pt x="18142" y="5785"/>
                  <a:pt x="18062" y="5984"/>
                  <a:pt x="17959" y="6152"/>
                </a:cubicBezTo>
              </a:path>
              <a:path w="5409" h="894">
                <a:moveTo>
                  <a:pt x="18529" y="5531"/>
                </a:moveTo>
                <a:cubicBezTo>
                  <a:pt x="18626" y="5468"/>
                  <a:pt x="18718" y="5464"/>
                  <a:pt x="18827" y="5482"/>
                </a:cubicBezTo>
                <a:cubicBezTo>
                  <a:pt x="18791" y="5664"/>
                  <a:pt x="18727" y="5681"/>
                  <a:pt x="18628" y="5804"/>
                </a:cubicBezTo>
                <a:cubicBezTo>
                  <a:pt x="18809" y="5743"/>
                  <a:pt x="18972" y="5839"/>
                  <a:pt x="18852" y="6052"/>
                </a:cubicBezTo>
                <a:cubicBezTo>
                  <a:pt x="18731" y="6268"/>
                  <a:pt x="18614" y="6210"/>
                  <a:pt x="18479" y="6127"/>
                </a:cubicBezTo>
              </a:path>
              <a:path w="5409" h="894">
                <a:moveTo>
                  <a:pt x="19372" y="5531"/>
                </a:moveTo>
                <a:cubicBezTo>
                  <a:pt x="19310" y="5696"/>
                  <a:pt x="19249" y="5859"/>
                  <a:pt x="19199" y="6028"/>
                </a:cubicBezTo>
              </a:path>
              <a:path w="5409" h="894">
                <a:moveTo>
                  <a:pt x="19670" y="5457"/>
                </a:moveTo>
                <a:cubicBezTo>
                  <a:pt x="19789" y="5457"/>
                  <a:pt x="19869" y="5457"/>
                  <a:pt x="19968" y="5507"/>
                </a:cubicBezTo>
                <a:cubicBezTo>
                  <a:pt x="19921" y="5615"/>
                  <a:pt x="19881" y="5668"/>
                  <a:pt x="19794" y="5755"/>
                </a:cubicBezTo>
                <a:cubicBezTo>
                  <a:pt x="19884" y="5777"/>
                  <a:pt x="20028" y="5821"/>
                  <a:pt x="20017" y="5953"/>
                </a:cubicBezTo>
                <a:cubicBezTo>
                  <a:pt x="19989" y="6281"/>
                  <a:pt x="19669" y="6167"/>
                  <a:pt x="19546" y="6052"/>
                </a:cubicBezTo>
              </a:path>
              <a:path w="5409" h="894">
                <a:moveTo>
                  <a:pt x="20265" y="5556"/>
                </a:moveTo>
                <a:cubicBezTo>
                  <a:pt x="20371" y="5683"/>
                  <a:pt x="20475" y="5808"/>
                  <a:pt x="20588" y="5928"/>
                </a:cubicBezTo>
              </a:path>
              <a:path w="5409" h="894">
                <a:moveTo>
                  <a:pt x="20588" y="5556"/>
                </a:moveTo>
                <a:cubicBezTo>
                  <a:pt x="20464" y="5687"/>
                  <a:pt x="20288" y="5865"/>
                  <a:pt x="20340" y="6003"/>
                </a:cubicBezTo>
              </a:path>
              <a:path w="5409" h="894">
                <a:moveTo>
                  <a:pt x="20886" y="5482"/>
                </a:moveTo>
                <a:cubicBezTo>
                  <a:pt x="20948" y="5475"/>
                  <a:pt x="21153" y="5400"/>
                  <a:pt x="21158" y="5482"/>
                </a:cubicBezTo>
                <a:cubicBezTo>
                  <a:pt x="21163" y="5565"/>
                  <a:pt x="21074" y="5665"/>
                  <a:pt x="21034" y="5730"/>
                </a:cubicBezTo>
                <a:cubicBezTo>
                  <a:pt x="21158" y="5730"/>
                  <a:pt x="21345" y="5761"/>
                  <a:pt x="21258" y="5953"/>
                </a:cubicBezTo>
                <a:cubicBezTo>
                  <a:pt x="21150" y="6190"/>
                  <a:pt x="20949" y="6193"/>
                  <a:pt x="20861" y="6028"/>
                </a:cubicBezTo>
              </a:path>
              <a:path w="5409" h="894">
                <a:moveTo>
                  <a:pt x="21952" y="5507"/>
                </a:moveTo>
                <a:cubicBezTo>
                  <a:pt x="21878" y="5610"/>
                  <a:pt x="21674" y="5873"/>
                  <a:pt x="21654" y="6003"/>
                </a:cubicBezTo>
                <a:cubicBezTo>
                  <a:pt x="21671" y="5995"/>
                  <a:pt x="21687" y="5986"/>
                  <a:pt x="21704" y="5978"/>
                </a:cubicBezTo>
              </a:path>
              <a:path w="5409" h="894">
                <a:moveTo>
                  <a:pt x="22275" y="5383"/>
                </a:moveTo>
                <a:cubicBezTo>
                  <a:pt x="22387" y="5367"/>
                  <a:pt x="22468" y="5312"/>
                  <a:pt x="22597" y="5358"/>
                </a:cubicBezTo>
                <a:cubicBezTo>
                  <a:pt x="22708" y="5397"/>
                  <a:pt x="22482" y="5548"/>
                  <a:pt x="22399" y="5631"/>
                </a:cubicBezTo>
                <a:cubicBezTo>
                  <a:pt x="22382" y="5647"/>
                  <a:pt x="22366" y="5664"/>
                  <a:pt x="22349" y="5680"/>
                </a:cubicBezTo>
                <a:cubicBezTo>
                  <a:pt x="22388" y="5628"/>
                  <a:pt x="22588" y="5536"/>
                  <a:pt x="22622" y="5680"/>
                </a:cubicBezTo>
                <a:cubicBezTo>
                  <a:pt x="22679" y="5921"/>
                  <a:pt x="22308" y="6161"/>
                  <a:pt x="22101" y="6102"/>
                </a:cubicBezTo>
                <a:cubicBezTo>
                  <a:pt x="22084" y="6077"/>
                  <a:pt x="22068" y="6053"/>
                  <a:pt x="22051" y="602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9040" y="2571840"/>
            <a:ext cx="446040" cy="465120"/>
          </a:xfrm>
          <a:custGeom>
            <a:avLst/>
            <a:gdLst/>
            <a:ahLst/>
            <a:rect l="l" t="t" r="r" b="b"/>
            <a:pathLst>
              <a:path w="1241" h="1291">
                <a:moveTo>
                  <a:pt x="17413" y="7541"/>
                </a:moveTo>
                <a:cubicBezTo>
                  <a:pt x="17413" y="7607"/>
                  <a:pt x="17413" y="7673"/>
                  <a:pt x="17413" y="7739"/>
                </a:cubicBezTo>
                <a:cubicBezTo>
                  <a:pt x="17413" y="7792"/>
                  <a:pt x="17457" y="7607"/>
                  <a:pt x="17462" y="7590"/>
                </a:cubicBezTo>
                <a:cubicBezTo>
                  <a:pt x="17475" y="7549"/>
                  <a:pt x="17745" y="7552"/>
                  <a:pt x="17810" y="7541"/>
                </a:cubicBezTo>
                <a:cubicBezTo>
                  <a:pt x="17912" y="7523"/>
                  <a:pt x="17929" y="7488"/>
                  <a:pt x="17983" y="7516"/>
                </a:cubicBezTo>
                <a:cubicBezTo>
                  <a:pt x="17915" y="7779"/>
                  <a:pt x="17853" y="8046"/>
                  <a:pt x="17785" y="8310"/>
                </a:cubicBezTo>
                <a:cubicBezTo>
                  <a:pt x="17766" y="8384"/>
                  <a:pt x="17758" y="8391"/>
                  <a:pt x="17760" y="8434"/>
                </a:cubicBezTo>
              </a:path>
              <a:path w="1241" h="1291">
                <a:moveTo>
                  <a:pt x="18380" y="7243"/>
                </a:moveTo>
                <a:cubicBezTo>
                  <a:pt x="18438" y="7204"/>
                  <a:pt x="18514" y="7165"/>
                  <a:pt x="18579" y="7144"/>
                </a:cubicBezTo>
                <a:cubicBezTo>
                  <a:pt x="18625" y="7280"/>
                  <a:pt x="18574" y="7271"/>
                  <a:pt x="18504" y="7367"/>
                </a:cubicBezTo>
                <a:cubicBezTo>
                  <a:pt x="18504" y="7375"/>
                  <a:pt x="18504" y="7384"/>
                  <a:pt x="18504" y="7392"/>
                </a:cubicBezTo>
                <a:cubicBezTo>
                  <a:pt x="18623" y="7352"/>
                  <a:pt x="18703" y="7493"/>
                  <a:pt x="18628" y="7615"/>
                </a:cubicBezTo>
                <a:cubicBezTo>
                  <a:pt x="18535" y="7685"/>
                  <a:pt x="18509" y="7708"/>
                  <a:pt x="18430" y="771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29200" y="3446640"/>
            <a:ext cx="1517760" cy="250560"/>
          </a:xfrm>
          <a:custGeom>
            <a:avLst/>
            <a:gdLst/>
            <a:ahLst/>
            <a:rect l="l" t="t" r="r" b="b"/>
            <a:pathLst>
              <a:path w="4218" h="695">
                <a:moveTo>
                  <a:pt x="16470" y="9773"/>
                </a:moveTo>
                <a:cubicBezTo>
                  <a:pt x="16534" y="9885"/>
                  <a:pt x="16632" y="10012"/>
                  <a:pt x="16718" y="10120"/>
                </a:cubicBezTo>
              </a:path>
              <a:path w="4218" h="695">
                <a:moveTo>
                  <a:pt x="16644" y="9947"/>
                </a:moveTo>
                <a:cubicBezTo>
                  <a:pt x="16585" y="10048"/>
                  <a:pt x="16479" y="10189"/>
                  <a:pt x="16495" y="10269"/>
                </a:cubicBezTo>
              </a:path>
              <a:path w="4218" h="695">
                <a:moveTo>
                  <a:pt x="17983" y="9748"/>
                </a:moveTo>
                <a:cubicBezTo>
                  <a:pt x="17961" y="9725"/>
                  <a:pt x="17956" y="9717"/>
                  <a:pt x="17934" y="9723"/>
                </a:cubicBezTo>
              </a:path>
              <a:path w="4218" h="695">
                <a:moveTo>
                  <a:pt x="17934" y="9723"/>
                </a:moveTo>
                <a:lnTo>
                  <a:pt x="17934" y="9723"/>
                </a:lnTo>
              </a:path>
              <a:path w="4218" h="695">
                <a:moveTo>
                  <a:pt x="17934" y="9748"/>
                </a:moveTo>
                <a:lnTo>
                  <a:pt x="17934" y="9748"/>
                </a:lnTo>
              </a:path>
              <a:path w="4218" h="695">
                <a:moveTo>
                  <a:pt x="19050" y="9624"/>
                </a:moveTo>
                <a:cubicBezTo>
                  <a:pt x="19140" y="9708"/>
                  <a:pt x="19232" y="9789"/>
                  <a:pt x="19323" y="9872"/>
                </a:cubicBezTo>
              </a:path>
              <a:path w="4218" h="695">
                <a:moveTo>
                  <a:pt x="19248" y="9674"/>
                </a:moveTo>
                <a:cubicBezTo>
                  <a:pt x="19168" y="9811"/>
                  <a:pt x="19134" y="9843"/>
                  <a:pt x="19100" y="9996"/>
                </a:cubicBezTo>
              </a:path>
              <a:path w="4218" h="695">
                <a:moveTo>
                  <a:pt x="20389" y="9575"/>
                </a:moveTo>
                <a:cubicBezTo>
                  <a:pt x="20476" y="9684"/>
                  <a:pt x="20566" y="9837"/>
                  <a:pt x="20687" y="9897"/>
                </a:cubicBezTo>
              </a:path>
              <a:path w="4218" h="695">
                <a:moveTo>
                  <a:pt x="20687" y="9575"/>
                </a:moveTo>
                <a:cubicBezTo>
                  <a:pt x="20616" y="9660"/>
                  <a:pt x="20333" y="9922"/>
                  <a:pt x="20439" y="992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13240" y="3500280"/>
            <a:ext cx="330480" cy="241560"/>
          </a:xfrm>
          <a:custGeom>
            <a:avLst/>
            <a:gdLst/>
            <a:ahLst/>
            <a:rect l="l" t="t" r="r" b="b"/>
            <a:pathLst>
              <a:path w="919" h="671">
                <a:moveTo>
                  <a:pt x="15205" y="9748"/>
                </a:moveTo>
                <a:cubicBezTo>
                  <a:pt x="15052" y="9706"/>
                  <a:pt x="14896" y="9740"/>
                  <a:pt x="14784" y="9872"/>
                </a:cubicBezTo>
                <a:cubicBezTo>
                  <a:pt x="14776" y="9897"/>
                  <a:pt x="14767" y="9922"/>
                  <a:pt x="14759" y="9947"/>
                </a:cubicBezTo>
                <a:cubicBezTo>
                  <a:pt x="14911" y="10099"/>
                  <a:pt x="15099" y="10173"/>
                  <a:pt x="15205" y="10344"/>
                </a:cubicBezTo>
                <a:cubicBezTo>
                  <a:pt x="15061" y="10422"/>
                  <a:pt x="14955" y="10398"/>
                  <a:pt x="15032" y="10195"/>
                </a:cubicBezTo>
                <a:cubicBezTo>
                  <a:pt x="15116" y="10025"/>
                  <a:pt x="15130" y="9985"/>
                  <a:pt x="15205" y="9897"/>
                </a:cubicBezTo>
              </a:path>
              <a:path w="919" h="671">
                <a:moveTo>
                  <a:pt x="15478" y="9897"/>
                </a:moveTo>
                <a:cubicBezTo>
                  <a:pt x="15523" y="10016"/>
                  <a:pt x="15585" y="10223"/>
                  <a:pt x="15652" y="10244"/>
                </a:cubicBezTo>
              </a:path>
              <a:path w="919" h="671">
                <a:moveTo>
                  <a:pt x="15677" y="9897"/>
                </a:moveTo>
                <a:cubicBezTo>
                  <a:pt x="15619" y="10012"/>
                  <a:pt x="15543" y="10148"/>
                  <a:pt x="15503" y="1026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49920" y="3490920"/>
            <a:ext cx="81000" cy="20628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16073" y="9699"/>
                </a:moveTo>
                <a:cubicBezTo>
                  <a:pt x="15901" y="9914"/>
                  <a:pt x="16024" y="9866"/>
                  <a:pt x="16148" y="10071"/>
                </a:cubicBezTo>
                <a:cubicBezTo>
                  <a:pt x="16192" y="10181"/>
                  <a:pt x="16216" y="10210"/>
                  <a:pt x="16148" y="10269"/>
                </a:cubicBezTo>
                <a:cubicBezTo>
                  <a:pt x="15905" y="10168"/>
                  <a:pt x="16044" y="10026"/>
                  <a:pt x="16123" y="9823"/>
                </a:cubicBezTo>
                <a:cubicBezTo>
                  <a:pt x="16123" y="9798"/>
                  <a:pt x="16123" y="9790"/>
                  <a:pt x="16148" y="979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53120" y="3411360"/>
            <a:ext cx="615960" cy="463680"/>
          </a:xfrm>
          <a:custGeom>
            <a:avLst/>
            <a:gdLst/>
            <a:ahLst/>
            <a:rect l="l" t="t" r="r" b="b"/>
            <a:pathLst>
              <a:path w="1713" h="1291">
                <a:moveTo>
                  <a:pt x="17338" y="9674"/>
                </a:moveTo>
                <a:cubicBezTo>
                  <a:pt x="17185" y="9754"/>
                  <a:pt x="17158" y="9767"/>
                  <a:pt x="17090" y="9922"/>
                </a:cubicBezTo>
                <a:cubicBezTo>
                  <a:pt x="17171" y="9953"/>
                  <a:pt x="17612" y="10054"/>
                  <a:pt x="17487" y="10195"/>
                </a:cubicBezTo>
                <a:cubicBezTo>
                  <a:pt x="17362" y="10270"/>
                  <a:pt x="17319" y="10294"/>
                  <a:pt x="17214" y="10269"/>
                </a:cubicBezTo>
                <a:cubicBezTo>
                  <a:pt x="17275" y="10095"/>
                  <a:pt x="17351" y="9973"/>
                  <a:pt x="17462" y="9823"/>
                </a:cubicBezTo>
              </a:path>
              <a:path w="1713" h="1291">
                <a:moveTo>
                  <a:pt x="17959" y="9798"/>
                </a:moveTo>
                <a:cubicBezTo>
                  <a:pt x="18009" y="9876"/>
                  <a:pt x="18097" y="10068"/>
                  <a:pt x="18182" y="10096"/>
                </a:cubicBezTo>
              </a:path>
              <a:path w="1713" h="1291">
                <a:moveTo>
                  <a:pt x="18281" y="9624"/>
                </a:moveTo>
                <a:cubicBezTo>
                  <a:pt x="18180" y="9802"/>
                  <a:pt x="17756" y="10117"/>
                  <a:pt x="17959" y="10145"/>
                </a:cubicBezTo>
                <a:cubicBezTo>
                  <a:pt x="17984" y="10129"/>
                  <a:pt x="18008" y="10112"/>
                  <a:pt x="18033" y="10096"/>
                </a:cubicBezTo>
              </a:path>
              <a:path w="1713" h="1291">
                <a:moveTo>
                  <a:pt x="18703" y="9475"/>
                </a:moveTo>
                <a:cubicBezTo>
                  <a:pt x="18615" y="9556"/>
                  <a:pt x="18350" y="9704"/>
                  <a:pt x="18504" y="9847"/>
                </a:cubicBezTo>
                <a:cubicBezTo>
                  <a:pt x="18662" y="9938"/>
                  <a:pt x="18704" y="9961"/>
                  <a:pt x="18802" y="10021"/>
                </a:cubicBezTo>
                <a:cubicBezTo>
                  <a:pt x="18802" y="10054"/>
                  <a:pt x="18802" y="10087"/>
                  <a:pt x="18802" y="10120"/>
                </a:cubicBezTo>
                <a:cubicBezTo>
                  <a:pt x="18590" y="10136"/>
                  <a:pt x="18525" y="10063"/>
                  <a:pt x="18604" y="9847"/>
                </a:cubicBezTo>
                <a:cubicBezTo>
                  <a:pt x="18657" y="9741"/>
                  <a:pt x="18682" y="9738"/>
                  <a:pt x="18678" y="9674"/>
                </a:cubicBezTo>
              </a:path>
              <a:path w="1713" h="1291">
                <a:moveTo>
                  <a:pt x="17413" y="9748"/>
                </a:moveTo>
                <a:cubicBezTo>
                  <a:pt x="17447" y="9782"/>
                  <a:pt x="17474" y="9805"/>
                  <a:pt x="17487" y="9847"/>
                </a:cubicBezTo>
                <a:cubicBezTo>
                  <a:pt x="17507" y="9908"/>
                  <a:pt x="17526" y="9923"/>
                  <a:pt x="17487" y="9947"/>
                </a:cubicBezTo>
              </a:path>
              <a:path w="1713" h="1291">
                <a:moveTo>
                  <a:pt x="17884" y="10517"/>
                </a:moveTo>
                <a:cubicBezTo>
                  <a:pt x="17777" y="10560"/>
                  <a:pt x="17758" y="10660"/>
                  <a:pt x="17735" y="10765"/>
                </a:cubicBezTo>
                <a:cubicBezTo>
                  <a:pt x="17794" y="10765"/>
                  <a:pt x="18025" y="10773"/>
                  <a:pt x="17959" y="10641"/>
                </a:cubicBezTo>
                <a:cubicBezTo>
                  <a:pt x="17909" y="10616"/>
                  <a:pt x="17893" y="10608"/>
                  <a:pt x="17859" y="10592"/>
                </a:cubicBezTo>
              </a:path>
              <a:path w="1713" h="1291">
                <a:moveTo>
                  <a:pt x="18157" y="10666"/>
                </a:moveTo>
                <a:cubicBezTo>
                  <a:pt x="18180" y="10689"/>
                  <a:pt x="18188" y="10693"/>
                  <a:pt x="18182" y="10716"/>
                </a:cubicBezTo>
                <a:cubicBezTo>
                  <a:pt x="18182" y="10612"/>
                  <a:pt x="18182" y="10508"/>
                  <a:pt x="18281" y="10443"/>
                </a:cubicBezTo>
                <a:cubicBezTo>
                  <a:pt x="18306" y="10435"/>
                  <a:pt x="18330" y="10426"/>
                  <a:pt x="18355" y="1041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81920" y="3394080"/>
            <a:ext cx="11592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9993" y="9426"/>
                </a:moveTo>
                <a:cubicBezTo>
                  <a:pt x="19901" y="9440"/>
                  <a:pt x="19638" y="9502"/>
                  <a:pt x="19670" y="9649"/>
                </a:cubicBezTo>
                <a:cubicBezTo>
                  <a:pt x="19710" y="9834"/>
                  <a:pt x="19948" y="9859"/>
                  <a:pt x="19993" y="10071"/>
                </a:cubicBezTo>
                <a:cubicBezTo>
                  <a:pt x="19960" y="10079"/>
                  <a:pt x="19926" y="10088"/>
                  <a:pt x="19893" y="10096"/>
                </a:cubicBezTo>
                <a:cubicBezTo>
                  <a:pt x="19821" y="9876"/>
                  <a:pt x="19889" y="9773"/>
                  <a:pt x="19993" y="95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35880" y="3375000"/>
            <a:ext cx="108000" cy="250920"/>
          </a:xfrm>
          <a:custGeom>
            <a:avLst/>
            <a:gdLst/>
            <a:ahLst/>
            <a:rect l="l" t="t" r="r" b="b"/>
            <a:pathLst>
              <a:path w="299" h="696">
                <a:moveTo>
                  <a:pt x="21233" y="9376"/>
                </a:moveTo>
                <a:cubicBezTo>
                  <a:pt x="21134" y="9414"/>
                  <a:pt x="20922" y="9480"/>
                  <a:pt x="20935" y="9624"/>
                </a:cubicBezTo>
                <a:cubicBezTo>
                  <a:pt x="20948" y="9768"/>
                  <a:pt x="21304" y="9865"/>
                  <a:pt x="21208" y="10021"/>
                </a:cubicBezTo>
                <a:cubicBezTo>
                  <a:pt x="21175" y="10038"/>
                  <a:pt x="21142" y="10054"/>
                  <a:pt x="21109" y="10071"/>
                </a:cubicBezTo>
                <a:cubicBezTo>
                  <a:pt x="20909" y="9850"/>
                  <a:pt x="21160" y="9803"/>
                  <a:pt x="21183" y="9550"/>
                </a:cubicBezTo>
                <a:cubicBezTo>
                  <a:pt x="21167" y="9542"/>
                  <a:pt x="21150" y="9533"/>
                  <a:pt x="21134" y="952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02000" y="3795840"/>
            <a:ext cx="4635360" cy="758520"/>
          </a:xfrm>
          <a:custGeom>
            <a:avLst/>
            <a:gdLst/>
            <a:ahLst/>
            <a:rect l="l" t="t" r="r" b="b"/>
            <a:pathLst>
              <a:path w="12874" h="2109">
                <a:moveTo>
                  <a:pt x="22051" y="10592"/>
                </a:moveTo>
                <a:cubicBezTo>
                  <a:pt x="22051" y="10707"/>
                  <a:pt x="22171" y="10999"/>
                  <a:pt x="22324" y="10765"/>
                </a:cubicBezTo>
                <a:cubicBezTo>
                  <a:pt x="22385" y="10671"/>
                  <a:pt x="22251" y="10593"/>
                  <a:pt x="22200" y="10542"/>
                </a:cubicBezTo>
              </a:path>
              <a:path w="12874" h="2109">
                <a:moveTo>
                  <a:pt x="9649" y="12303"/>
                </a:moveTo>
                <a:cubicBezTo>
                  <a:pt x="9538" y="12458"/>
                  <a:pt x="9509" y="12496"/>
                  <a:pt x="9451" y="12601"/>
                </a:cubicBezTo>
              </a:path>
              <a:path w="12874" h="2109">
                <a:moveTo>
                  <a:pt x="9451" y="12601"/>
                </a:moveTo>
                <a:lnTo>
                  <a:pt x="9451" y="12601"/>
                </a:lnTo>
              </a:path>
              <a:path w="12874" h="2109">
                <a:moveTo>
                  <a:pt x="11063" y="12179"/>
                </a:moveTo>
                <a:cubicBezTo>
                  <a:pt x="10989" y="12285"/>
                  <a:pt x="10924" y="12380"/>
                  <a:pt x="10840" y="12477"/>
                </a:cubicBezTo>
              </a:path>
              <a:path w="12874" h="2109">
                <a:moveTo>
                  <a:pt x="11559" y="12650"/>
                </a:moveTo>
                <a:lnTo>
                  <a:pt x="11559" y="12650"/>
                </a:lnTo>
              </a:path>
              <a:path w="12874" h="2109">
                <a:moveTo>
                  <a:pt x="11559" y="12650"/>
                </a:moveTo>
                <a:lnTo>
                  <a:pt x="11559" y="12650"/>
                </a:lnTo>
              </a:path>
              <a:path w="12874" h="2109">
                <a:moveTo>
                  <a:pt x="13295" y="12576"/>
                </a:moveTo>
                <a:lnTo>
                  <a:pt x="13295" y="12576"/>
                </a:ln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73200" y="5214960"/>
            <a:ext cx="339840" cy="98280"/>
          </a:xfrm>
          <a:custGeom>
            <a:avLst/>
            <a:gdLst/>
            <a:ahLst/>
            <a:rect l="l" t="t" r="r" b="b"/>
            <a:pathLst>
              <a:path w="943" h="274">
                <a:moveTo>
                  <a:pt x="6896" y="14759"/>
                </a:moveTo>
                <a:cubicBezTo>
                  <a:pt x="6888" y="14759"/>
                  <a:pt x="6879" y="14759"/>
                  <a:pt x="6871" y="14759"/>
                </a:cubicBezTo>
                <a:cubicBezTo>
                  <a:pt x="6890" y="14702"/>
                  <a:pt x="7010" y="14703"/>
                  <a:pt x="7069" y="14684"/>
                </a:cubicBezTo>
                <a:cubicBezTo>
                  <a:pt x="7260" y="14621"/>
                  <a:pt x="7447" y="14587"/>
                  <a:pt x="7640" y="14536"/>
                </a:cubicBezTo>
                <a:cubicBezTo>
                  <a:pt x="7697" y="14521"/>
                  <a:pt x="7764" y="14499"/>
                  <a:pt x="7789" y="14486"/>
                </a:cubicBezTo>
                <a:cubicBezTo>
                  <a:pt x="7813" y="14486"/>
                  <a:pt x="7821" y="14486"/>
                  <a:pt x="7813" y="1451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60800" y="4303800"/>
            <a:ext cx="1590480" cy="571320"/>
          </a:xfrm>
          <a:custGeom>
            <a:avLst/>
            <a:gdLst/>
            <a:ahLst/>
            <a:rect l="l" t="t" r="r" b="b"/>
            <a:pathLst>
              <a:path w="4416" h="1588">
                <a:moveTo>
                  <a:pt x="9252" y="12030"/>
                </a:moveTo>
                <a:cubicBezTo>
                  <a:pt x="9143" y="12041"/>
                  <a:pt x="9042" y="12055"/>
                  <a:pt x="8930" y="12055"/>
                </a:cubicBezTo>
                <a:cubicBezTo>
                  <a:pt x="8880" y="12055"/>
                  <a:pt x="8844" y="12298"/>
                  <a:pt x="8830" y="12353"/>
                </a:cubicBezTo>
                <a:cubicBezTo>
                  <a:pt x="8995" y="12340"/>
                  <a:pt x="9054" y="12315"/>
                  <a:pt x="9178" y="12427"/>
                </a:cubicBezTo>
                <a:cubicBezTo>
                  <a:pt x="9088" y="12562"/>
                  <a:pt x="8760" y="12605"/>
                  <a:pt x="8781" y="12576"/>
                </a:cubicBezTo>
                <a:cubicBezTo>
                  <a:pt x="8839" y="12535"/>
                  <a:pt x="8896" y="12493"/>
                  <a:pt x="8954" y="12452"/>
                </a:cubicBezTo>
              </a:path>
              <a:path w="4416" h="1588">
                <a:moveTo>
                  <a:pt x="9451" y="12204"/>
                </a:moveTo>
                <a:cubicBezTo>
                  <a:pt x="9524" y="12300"/>
                  <a:pt x="9661" y="12539"/>
                  <a:pt x="9723" y="12551"/>
                </a:cubicBezTo>
              </a:path>
              <a:path w="4416" h="1588">
                <a:moveTo>
                  <a:pt x="10393" y="12055"/>
                </a:moveTo>
                <a:cubicBezTo>
                  <a:pt x="10353" y="12058"/>
                  <a:pt x="10192" y="12052"/>
                  <a:pt x="10170" y="12080"/>
                </a:cubicBezTo>
                <a:cubicBezTo>
                  <a:pt x="10136" y="12122"/>
                  <a:pt x="10068" y="12199"/>
                  <a:pt x="10046" y="12254"/>
                </a:cubicBezTo>
                <a:cubicBezTo>
                  <a:pt x="10149" y="12254"/>
                  <a:pt x="10408" y="12221"/>
                  <a:pt x="10468" y="12328"/>
                </a:cubicBezTo>
                <a:cubicBezTo>
                  <a:pt x="10572" y="12513"/>
                  <a:pt x="10177" y="12654"/>
                  <a:pt x="10071" y="12526"/>
                </a:cubicBezTo>
                <a:cubicBezTo>
                  <a:pt x="10071" y="12485"/>
                  <a:pt x="10071" y="12443"/>
                  <a:pt x="10071" y="12402"/>
                </a:cubicBezTo>
              </a:path>
              <a:path w="4416" h="1588">
                <a:moveTo>
                  <a:pt x="10815" y="12105"/>
                </a:moveTo>
                <a:cubicBezTo>
                  <a:pt x="10862" y="12171"/>
                  <a:pt x="11025" y="12452"/>
                  <a:pt x="11112" y="12452"/>
                </a:cubicBezTo>
                <a:cubicBezTo>
                  <a:pt x="11120" y="12435"/>
                  <a:pt x="11129" y="12419"/>
                  <a:pt x="11137" y="12402"/>
                </a:cubicBezTo>
              </a:path>
              <a:path w="4416" h="1588">
                <a:moveTo>
                  <a:pt x="11807" y="11981"/>
                </a:moveTo>
                <a:cubicBezTo>
                  <a:pt x="11721" y="12000"/>
                  <a:pt x="11604" y="11990"/>
                  <a:pt x="11559" y="12055"/>
                </a:cubicBezTo>
                <a:cubicBezTo>
                  <a:pt x="11511" y="12126"/>
                  <a:pt x="11495" y="12147"/>
                  <a:pt x="11485" y="12204"/>
                </a:cubicBezTo>
                <a:cubicBezTo>
                  <a:pt x="11640" y="12204"/>
                  <a:pt x="11743" y="12210"/>
                  <a:pt x="11881" y="12278"/>
                </a:cubicBezTo>
                <a:cubicBezTo>
                  <a:pt x="11777" y="12476"/>
                  <a:pt x="11698" y="12481"/>
                  <a:pt x="11485" y="12427"/>
                </a:cubicBezTo>
              </a:path>
              <a:path w="4416" h="1588">
                <a:moveTo>
                  <a:pt x="12278" y="12080"/>
                </a:moveTo>
                <a:cubicBezTo>
                  <a:pt x="12306" y="12177"/>
                  <a:pt x="12375" y="12306"/>
                  <a:pt x="12452" y="12378"/>
                </a:cubicBezTo>
                <a:cubicBezTo>
                  <a:pt x="12460" y="12378"/>
                  <a:pt x="12469" y="12378"/>
                  <a:pt x="12477" y="12378"/>
                </a:cubicBezTo>
              </a:path>
              <a:path w="4416" h="1588">
                <a:moveTo>
                  <a:pt x="12526" y="12030"/>
                </a:moveTo>
                <a:cubicBezTo>
                  <a:pt x="12447" y="12179"/>
                  <a:pt x="12364" y="12299"/>
                  <a:pt x="12254" y="12427"/>
                </a:cubicBezTo>
                <a:cubicBezTo>
                  <a:pt x="12262" y="12419"/>
                  <a:pt x="12270" y="12410"/>
                  <a:pt x="12278" y="12402"/>
                </a:cubicBezTo>
              </a:path>
              <a:path w="4416" h="1588">
                <a:moveTo>
                  <a:pt x="13171" y="11956"/>
                </a:moveTo>
                <a:cubicBezTo>
                  <a:pt x="13046" y="11967"/>
                  <a:pt x="12957" y="11954"/>
                  <a:pt x="12898" y="12055"/>
                </a:cubicBezTo>
                <a:cubicBezTo>
                  <a:pt x="12873" y="12098"/>
                  <a:pt x="12836" y="12158"/>
                  <a:pt x="12824" y="12204"/>
                </a:cubicBezTo>
                <a:cubicBezTo>
                  <a:pt x="12931" y="12189"/>
                  <a:pt x="13067" y="12142"/>
                  <a:pt x="13171" y="12204"/>
                </a:cubicBezTo>
                <a:cubicBezTo>
                  <a:pt x="13179" y="12221"/>
                  <a:pt x="13188" y="12237"/>
                  <a:pt x="13196" y="12254"/>
                </a:cubicBezTo>
                <a:cubicBezTo>
                  <a:pt x="13151" y="12482"/>
                  <a:pt x="13042" y="12445"/>
                  <a:pt x="12824" y="12427"/>
                </a:cubicBezTo>
              </a:path>
              <a:path w="4416" h="1588">
                <a:moveTo>
                  <a:pt x="9203" y="12774"/>
                </a:moveTo>
                <a:cubicBezTo>
                  <a:pt x="9195" y="12799"/>
                  <a:pt x="9186" y="12824"/>
                  <a:pt x="9178" y="12849"/>
                </a:cubicBezTo>
                <a:cubicBezTo>
                  <a:pt x="9279" y="12950"/>
                  <a:pt x="9414" y="12921"/>
                  <a:pt x="9550" y="12923"/>
                </a:cubicBezTo>
                <a:cubicBezTo>
                  <a:pt x="9687" y="12925"/>
                  <a:pt x="9995" y="12962"/>
                  <a:pt x="10120" y="12923"/>
                </a:cubicBezTo>
                <a:cubicBezTo>
                  <a:pt x="10167" y="12908"/>
                  <a:pt x="10165" y="12783"/>
                  <a:pt x="10170" y="12750"/>
                </a:cubicBezTo>
              </a:path>
              <a:path w="4416" h="1588">
                <a:moveTo>
                  <a:pt x="9277" y="13196"/>
                </a:moveTo>
                <a:cubicBezTo>
                  <a:pt x="9336" y="13196"/>
                  <a:pt x="9362" y="13193"/>
                  <a:pt x="9401" y="13171"/>
                </a:cubicBezTo>
                <a:cubicBezTo>
                  <a:pt x="9506" y="13356"/>
                  <a:pt x="9434" y="13464"/>
                  <a:pt x="9203" y="13519"/>
                </a:cubicBezTo>
                <a:cubicBezTo>
                  <a:pt x="9120" y="13519"/>
                  <a:pt x="9086" y="13536"/>
                  <a:pt x="9103" y="13469"/>
                </a:cubicBezTo>
                <a:cubicBezTo>
                  <a:pt x="9228" y="13427"/>
                  <a:pt x="9316" y="13398"/>
                  <a:pt x="9401" y="13519"/>
                </a:cubicBezTo>
              </a:path>
              <a:path w="4416" h="1588">
                <a:moveTo>
                  <a:pt x="9922" y="13097"/>
                </a:moveTo>
                <a:cubicBezTo>
                  <a:pt x="9873" y="13112"/>
                  <a:pt x="9800" y="13078"/>
                  <a:pt x="9773" y="13122"/>
                </a:cubicBezTo>
                <a:cubicBezTo>
                  <a:pt x="9737" y="13182"/>
                  <a:pt x="9722" y="13239"/>
                  <a:pt x="9674" y="13295"/>
                </a:cubicBezTo>
                <a:cubicBezTo>
                  <a:pt x="9754" y="13295"/>
                  <a:pt x="9907" y="13303"/>
                  <a:pt x="9971" y="13345"/>
                </a:cubicBezTo>
                <a:cubicBezTo>
                  <a:pt x="10227" y="13512"/>
                  <a:pt x="9751" y="13505"/>
                  <a:pt x="9699" y="13494"/>
                </a:cubicBezTo>
              </a:path>
              <a:path w="4416" h="1588">
                <a:moveTo>
                  <a:pt x="10368" y="13370"/>
                </a:moveTo>
                <a:cubicBezTo>
                  <a:pt x="10344" y="13370"/>
                  <a:pt x="10335" y="13370"/>
                  <a:pt x="10319" y="13370"/>
                </a:cubicBezTo>
                <a:cubicBezTo>
                  <a:pt x="10403" y="13353"/>
                  <a:pt x="10484" y="13341"/>
                  <a:pt x="10567" y="13320"/>
                </a:cubicBezTo>
                <a:cubicBezTo>
                  <a:pt x="10698" y="13287"/>
                  <a:pt x="10834" y="13299"/>
                  <a:pt x="10964" y="13271"/>
                </a:cubicBezTo>
                <a:cubicBezTo>
                  <a:pt x="11063" y="13250"/>
                  <a:pt x="11165" y="13211"/>
                  <a:pt x="11261" y="13196"/>
                </a:cubicBezTo>
                <a:cubicBezTo>
                  <a:pt x="11333" y="13185"/>
                  <a:pt x="11394" y="13201"/>
                  <a:pt x="11435" y="13171"/>
                </a:cubicBezTo>
                <a:cubicBezTo>
                  <a:pt x="11479" y="13139"/>
                  <a:pt x="11469" y="13046"/>
                  <a:pt x="11485" y="12998"/>
                </a:cubicBezTo>
                <a:cubicBezTo>
                  <a:pt x="11507" y="12930"/>
                  <a:pt x="11490" y="12865"/>
                  <a:pt x="11509" y="12799"/>
                </a:cubicBezTo>
                <a:cubicBezTo>
                  <a:pt x="11520" y="12760"/>
                  <a:pt x="11530" y="12744"/>
                  <a:pt x="11534" y="12700"/>
                </a:cubicBezTo>
                <a:cubicBezTo>
                  <a:pt x="11534" y="12692"/>
                  <a:pt x="11534" y="12683"/>
                  <a:pt x="11534" y="126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02160" y="4071960"/>
            <a:ext cx="563760" cy="2239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5081" y="11509"/>
                </a:moveTo>
                <a:cubicBezTo>
                  <a:pt x="15158" y="11490"/>
                  <a:pt x="15223" y="11393"/>
                  <a:pt x="15280" y="11336"/>
                </a:cubicBezTo>
                <a:cubicBezTo>
                  <a:pt x="15258" y="11269"/>
                  <a:pt x="15106" y="11414"/>
                  <a:pt x="15081" y="11435"/>
                </a:cubicBezTo>
                <a:cubicBezTo>
                  <a:pt x="14891" y="11591"/>
                  <a:pt x="15222" y="11642"/>
                  <a:pt x="15304" y="11757"/>
                </a:cubicBezTo>
                <a:cubicBezTo>
                  <a:pt x="15399" y="11890"/>
                  <a:pt x="15260" y="11902"/>
                  <a:pt x="15180" y="11931"/>
                </a:cubicBezTo>
                <a:cubicBezTo>
                  <a:pt x="15180" y="11761"/>
                  <a:pt x="15224" y="11625"/>
                  <a:pt x="15255" y="11460"/>
                </a:cubicBezTo>
                <a:cubicBezTo>
                  <a:pt x="15264" y="11412"/>
                  <a:pt x="15237" y="11438"/>
                  <a:pt x="15230" y="11460"/>
                </a:cubicBezTo>
              </a:path>
              <a:path w="1564" h="621">
                <a:moveTo>
                  <a:pt x="15900" y="11311"/>
                </a:moveTo>
                <a:cubicBezTo>
                  <a:pt x="15954" y="11433"/>
                  <a:pt x="16073" y="11731"/>
                  <a:pt x="16073" y="11782"/>
                </a:cubicBezTo>
              </a:path>
              <a:path w="1564" h="621">
                <a:moveTo>
                  <a:pt x="15776" y="11584"/>
                </a:moveTo>
                <a:cubicBezTo>
                  <a:pt x="15850" y="11570"/>
                  <a:pt x="16256" y="11428"/>
                  <a:pt x="16297" y="11509"/>
                </a:cubicBezTo>
                <a:cubicBezTo>
                  <a:pt x="16325" y="11565"/>
                  <a:pt x="16305" y="11712"/>
                  <a:pt x="16321" y="11782"/>
                </a:cubicBezTo>
                <a:cubicBezTo>
                  <a:pt x="16432" y="11782"/>
                  <a:pt x="16476" y="11778"/>
                  <a:pt x="16545" y="11733"/>
                </a:cubicBezTo>
                <a:cubicBezTo>
                  <a:pt x="16545" y="11528"/>
                  <a:pt x="16478" y="11509"/>
                  <a:pt x="16272" y="1148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97760" y="4037040"/>
            <a:ext cx="47304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7314" y="11286"/>
                </a:moveTo>
                <a:cubicBezTo>
                  <a:pt x="17378" y="11241"/>
                  <a:pt x="17468" y="11578"/>
                  <a:pt x="17487" y="11633"/>
                </a:cubicBezTo>
                <a:cubicBezTo>
                  <a:pt x="17550" y="11820"/>
                  <a:pt x="17456" y="11714"/>
                  <a:pt x="17388" y="11658"/>
                </a:cubicBezTo>
              </a:path>
              <a:path w="1316" h="522">
                <a:moveTo>
                  <a:pt x="17214" y="11534"/>
                </a:moveTo>
                <a:cubicBezTo>
                  <a:pt x="17408" y="11573"/>
                  <a:pt x="17643" y="11638"/>
                  <a:pt x="17636" y="11361"/>
                </a:cubicBezTo>
                <a:cubicBezTo>
                  <a:pt x="17628" y="11320"/>
                  <a:pt x="17619" y="11278"/>
                  <a:pt x="17611" y="11237"/>
                </a:cubicBezTo>
                <a:cubicBezTo>
                  <a:pt x="17625" y="11276"/>
                  <a:pt x="17731" y="11535"/>
                  <a:pt x="17785" y="11658"/>
                </a:cubicBezTo>
                <a:cubicBezTo>
                  <a:pt x="17792" y="11565"/>
                  <a:pt x="17767" y="11389"/>
                  <a:pt x="17859" y="11485"/>
                </a:cubicBezTo>
                <a:cubicBezTo>
                  <a:pt x="18022" y="11654"/>
                  <a:pt x="18207" y="11642"/>
                  <a:pt x="18306" y="11410"/>
                </a:cubicBezTo>
                <a:cubicBezTo>
                  <a:pt x="18306" y="11342"/>
                  <a:pt x="18311" y="11315"/>
                  <a:pt x="18256" y="11361"/>
                </a:cubicBezTo>
                <a:cubicBezTo>
                  <a:pt x="18150" y="11666"/>
                  <a:pt x="18263" y="11604"/>
                  <a:pt x="18529" y="1150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56280" y="3857760"/>
            <a:ext cx="527040" cy="285480"/>
          </a:xfrm>
          <a:custGeom>
            <a:avLst/>
            <a:gdLst/>
            <a:ahLst/>
            <a:rect l="l" t="t" r="r" b="b"/>
            <a:pathLst>
              <a:path w="1464" h="794">
                <a:moveTo>
                  <a:pt x="19323" y="10889"/>
                </a:moveTo>
                <a:cubicBezTo>
                  <a:pt x="19323" y="11098"/>
                  <a:pt x="19314" y="11304"/>
                  <a:pt x="19348" y="11509"/>
                </a:cubicBezTo>
                <a:cubicBezTo>
                  <a:pt x="19532" y="11486"/>
                  <a:pt x="19649" y="11423"/>
                  <a:pt x="19670" y="11212"/>
                </a:cubicBezTo>
                <a:cubicBezTo>
                  <a:pt x="19662" y="11212"/>
                  <a:pt x="19653" y="11212"/>
                  <a:pt x="19645" y="11212"/>
                </a:cubicBezTo>
                <a:cubicBezTo>
                  <a:pt x="19546" y="11266"/>
                  <a:pt x="19437" y="11350"/>
                  <a:pt x="19596" y="11385"/>
                </a:cubicBezTo>
              </a:path>
              <a:path w="1464" h="794">
                <a:moveTo>
                  <a:pt x="19943" y="10815"/>
                </a:moveTo>
                <a:cubicBezTo>
                  <a:pt x="19979" y="10951"/>
                  <a:pt x="19993" y="10976"/>
                  <a:pt x="19993" y="11112"/>
                </a:cubicBezTo>
              </a:path>
              <a:path w="1464" h="794">
                <a:moveTo>
                  <a:pt x="19918" y="10964"/>
                </a:moveTo>
                <a:cubicBezTo>
                  <a:pt x="20133" y="10974"/>
                  <a:pt x="20224" y="10956"/>
                  <a:pt x="20290" y="10740"/>
                </a:cubicBezTo>
                <a:cubicBezTo>
                  <a:pt x="20290" y="10732"/>
                  <a:pt x="20290" y="10724"/>
                  <a:pt x="20290" y="10716"/>
                </a:cubicBezTo>
                <a:cubicBezTo>
                  <a:pt x="20276" y="10811"/>
                  <a:pt x="20283" y="10889"/>
                  <a:pt x="20290" y="10988"/>
                </a:cubicBezTo>
                <a:cubicBezTo>
                  <a:pt x="20352" y="10973"/>
                  <a:pt x="20370" y="10853"/>
                  <a:pt x="20439" y="10889"/>
                </a:cubicBezTo>
                <a:cubicBezTo>
                  <a:pt x="20649" y="11000"/>
                  <a:pt x="20508" y="11017"/>
                  <a:pt x="20786" y="1093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96160" y="3670200"/>
            <a:ext cx="741240" cy="366840"/>
          </a:xfrm>
          <a:custGeom>
            <a:avLst/>
            <a:gdLst/>
            <a:ahLst/>
            <a:rect l="l" t="t" r="r" b="b"/>
            <a:pathLst>
              <a:path w="2060" h="1018">
                <a:moveTo>
                  <a:pt x="21679" y="10765"/>
                </a:moveTo>
                <a:cubicBezTo>
                  <a:pt x="21745" y="10914"/>
                  <a:pt x="21818" y="11057"/>
                  <a:pt x="21853" y="11212"/>
                </a:cubicBezTo>
                <a:cubicBezTo>
                  <a:pt x="21703" y="11092"/>
                  <a:pt x="21556" y="10883"/>
                  <a:pt x="21729" y="10691"/>
                </a:cubicBezTo>
                <a:cubicBezTo>
                  <a:pt x="21892" y="10510"/>
                  <a:pt x="22147" y="10822"/>
                  <a:pt x="21828" y="10939"/>
                </a:cubicBezTo>
                <a:cubicBezTo>
                  <a:pt x="21770" y="10947"/>
                  <a:pt x="21712" y="10956"/>
                  <a:pt x="21654" y="10964"/>
                </a:cubicBezTo>
              </a:path>
              <a:path w="2060" h="1018">
                <a:moveTo>
                  <a:pt x="22374" y="10468"/>
                </a:moveTo>
                <a:cubicBezTo>
                  <a:pt x="22384" y="10508"/>
                  <a:pt x="22432" y="10836"/>
                  <a:pt x="22547" y="10765"/>
                </a:cubicBezTo>
                <a:cubicBezTo>
                  <a:pt x="22629" y="10684"/>
                  <a:pt x="22657" y="10651"/>
                  <a:pt x="22671" y="10567"/>
                </a:cubicBezTo>
                <a:cubicBezTo>
                  <a:pt x="22679" y="10550"/>
                  <a:pt x="22688" y="10534"/>
                  <a:pt x="22696" y="10517"/>
                </a:cubicBezTo>
                <a:cubicBezTo>
                  <a:pt x="22720" y="10661"/>
                  <a:pt x="22775" y="10685"/>
                  <a:pt x="22895" y="10740"/>
                </a:cubicBezTo>
                <a:cubicBezTo>
                  <a:pt x="22910" y="10596"/>
                  <a:pt x="22942" y="10472"/>
                  <a:pt x="22845" y="10344"/>
                </a:cubicBezTo>
                <a:cubicBezTo>
                  <a:pt x="22837" y="10344"/>
                  <a:pt x="22828" y="10344"/>
                  <a:pt x="22820" y="10344"/>
                </a:cubicBezTo>
              </a:path>
              <a:path w="2060" h="1018">
                <a:moveTo>
                  <a:pt x="23044" y="10468"/>
                </a:moveTo>
                <a:cubicBezTo>
                  <a:pt x="23087" y="10403"/>
                  <a:pt x="23098" y="10388"/>
                  <a:pt x="23118" y="10344"/>
                </a:cubicBezTo>
                <a:cubicBezTo>
                  <a:pt x="23039" y="10363"/>
                  <a:pt x="23018" y="10474"/>
                  <a:pt x="23068" y="10542"/>
                </a:cubicBezTo>
                <a:cubicBezTo>
                  <a:pt x="23225" y="10755"/>
                  <a:pt x="23372" y="10357"/>
                  <a:pt x="23416" y="10368"/>
                </a:cubicBezTo>
                <a:cubicBezTo>
                  <a:pt x="23442" y="10450"/>
                  <a:pt x="23452" y="10483"/>
                  <a:pt x="23465" y="10542"/>
                </a:cubicBezTo>
                <a:cubicBezTo>
                  <a:pt x="23484" y="10392"/>
                  <a:pt x="23516" y="10309"/>
                  <a:pt x="23639" y="10220"/>
                </a:cubicBezTo>
                <a:cubicBezTo>
                  <a:pt x="23688" y="10195"/>
                  <a:pt x="23704" y="10187"/>
                  <a:pt x="23713" y="1024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7240" y="4491000"/>
            <a:ext cx="1393920" cy="457200"/>
          </a:xfrm>
          <a:custGeom>
            <a:avLst/>
            <a:gdLst/>
            <a:ahLst/>
            <a:rect l="l" t="t" r="r" b="b"/>
            <a:pathLst>
              <a:path w="3871" h="1266">
                <a:moveTo>
                  <a:pt x="11658" y="13246"/>
                </a:moveTo>
                <a:cubicBezTo>
                  <a:pt x="11675" y="13347"/>
                  <a:pt x="11709" y="13464"/>
                  <a:pt x="11683" y="13568"/>
                </a:cubicBezTo>
                <a:cubicBezTo>
                  <a:pt x="11675" y="13576"/>
                  <a:pt x="11666" y="13585"/>
                  <a:pt x="11658" y="13593"/>
                </a:cubicBezTo>
              </a:path>
              <a:path w="3871" h="1266">
                <a:moveTo>
                  <a:pt x="11881" y="13171"/>
                </a:moveTo>
                <a:cubicBezTo>
                  <a:pt x="12000" y="13135"/>
                  <a:pt x="12179" y="13133"/>
                  <a:pt x="12179" y="13320"/>
                </a:cubicBezTo>
                <a:cubicBezTo>
                  <a:pt x="12179" y="13521"/>
                  <a:pt x="11979" y="13557"/>
                  <a:pt x="11832" y="13568"/>
                </a:cubicBezTo>
                <a:cubicBezTo>
                  <a:pt x="11855" y="13465"/>
                  <a:pt x="11906" y="13376"/>
                  <a:pt x="12030" y="13444"/>
                </a:cubicBezTo>
                <a:cubicBezTo>
                  <a:pt x="12111" y="13488"/>
                  <a:pt x="12061" y="13535"/>
                  <a:pt x="12129" y="13519"/>
                </a:cubicBezTo>
              </a:path>
              <a:path w="3871" h="1266">
                <a:moveTo>
                  <a:pt x="12526" y="13047"/>
                </a:moveTo>
                <a:cubicBezTo>
                  <a:pt x="12472" y="13071"/>
                  <a:pt x="12450" y="13067"/>
                  <a:pt x="12427" y="13097"/>
                </a:cubicBezTo>
                <a:cubicBezTo>
                  <a:pt x="12389" y="13148"/>
                  <a:pt x="12376" y="13183"/>
                  <a:pt x="12353" y="13246"/>
                </a:cubicBezTo>
                <a:cubicBezTo>
                  <a:pt x="12425" y="13264"/>
                  <a:pt x="12494" y="13258"/>
                  <a:pt x="12576" y="13271"/>
                </a:cubicBezTo>
                <a:cubicBezTo>
                  <a:pt x="12601" y="13279"/>
                  <a:pt x="12625" y="13287"/>
                  <a:pt x="12650" y="13295"/>
                </a:cubicBezTo>
                <a:cubicBezTo>
                  <a:pt x="12636" y="13441"/>
                  <a:pt x="12598" y="13519"/>
                  <a:pt x="12427" y="13519"/>
                </a:cubicBezTo>
                <a:cubicBezTo>
                  <a:pt x="12402" y="13511"/>
                  <a:pt x="12378" y="13502"/>
                  <a:pt x="12353" y="13494"/>
                </a:cubicBezTo>
              </a:path>
              <a:path w="3871" h="1266">
                <a:moveTo>
                  <a:pt x="12998" y="13097"/>
                </a:moveTo>
                <a:cubicBezTo>
                  <a:pt x="13132" y="13063"/>
                  <a:pt x="13261" y="13048"/>
                  <a:pt x="13395" y="13022"/>
                </a:cubicBezTo>
                <a:cubicBezTo>
                  <a:pt x="13435" y="13002"/>
                  <a:pt x="13442" y="12994"/>
                  <a:pt x="13469" y="12998"/>
                </a:cubicBezTo>
                <a:cubicBezTo>
                  <a:pt x="13438" y="12905"/>
                  <a:pt x="13401" y="12810"/>
                  <a:pt x="13370" y="12725"/>
                </a:cubicBezTo>
                <a:cubicBezTo>
                  <a:pt x="13354" y="12683"/>
                  <a:pt x="13302" y="12616"/>
                  <a:pt x="13295" y="12601"/>
                </a:cubicBezTo>
                <a:cubicBezTo>
                  <a:pt x="13295" y="12593"/>
                  <a:pt x="13295" y="12584"/>
                  <a:pt x="13295" y="12576"/>
                </a:cubicBezTo>
              </a:path>
              <a:path w="3871" h="1266">
                <a:moveTo>
                  <a:pt x="13742" y="12898"/>
                </a:moveTo>
                <a:cubicBezTo>
                  <a:pt x="13772" y="12812"/>
                  <a:pt x="13758" y="13007"/>
                  <a:pt x="13742" y="13097"/>
                </a:cubicBezTo>
                <a:cubicBezTo>
                  <a:pt x="13723" y="13202"/>
                  <a:pt x="13717" y="13289"/>
                  <a:pt x="13717" y="13395"/>
                </a:cubicBezTo>
                <a:cubicBezTo>
                  <a:pt x="13827" y="13427"/>
                  <a:pt x="13957" y="13425"/>
                  <a:pt x="14039" y="13320"/>
                </a:cubicBezTo>
                <a:cubicBezTo>
                  <a:pt x="14087" y="13258"/>
                  <a:pt x="14050" y="13228"/>
                  <a:pt x="14039" y="13171"/>
                </a:cubicBezTo>
                <a:cubicBezTo>
                  <a:pt x="13945" y="13195"/>
                  <a:pt x="13886" y="13275"/>
                  <a:pt x="13841" y="13370"/>
                </a:cubicBezTo>
                <a:cubicBezTo>
                  <a:pt x="13841" y="13395"/>
                  <a:pt x="13841" y="13403"/>
                  <a:pt x="13866" y="13395"/>
                </a:cubicBezTo>
              </a:path>
              <a:path w="3871" h="1266">
                <a:moveTo>
                  <a:pt x="14263" y="12923"/>
                </a:moveTo>
                <a:cubicBezTo>
                  <a:pt x="14339" y="12885"/>
                  <a:pt x="14494" y="12901"/>
                  <a:pt x="14511" y="13022"/>
                </a:cubicBezTo>
                <a:cubicBezTo>
                  <a:pt x="14539" y="13220"/>
                  <a:pt x="14330" y="13282"/>
                  <a:pt x="14188" y="13295"/>
                </a:cubicBezTo>
                <a:cubicBezTo>
                  <a:pt x="14155" y="13295"/>
                  <a:pt x="14147" y="13287"/>
                  <a:pt x="14163" y="13246"/>
                </a:cubicBezTo>
                <a:cubicBezTo>
                  <a:pt x="14190" y="13165"/>
                  <a:pt x="14285" y="13174"/>
                  <a:pt x="14362" y="13246"/>
                </a:cubicBezTo>
                <a:cubicBezTo>
                  <a:pt x="14392" y="13305"/>
                  <a:pt x="14410" y="13315"/>
                  <a:pt x="14461" y="13246"/>
                </a:cubicBezTo>
              </a:path>
              <a:path w="3871" h="1266">
                <a:moveTo>
                  <a:pt x="14833" y="12799"/>
                </a:moveTo>
                <a:cubicBezTo>
                  <a:pt x="14767" y="12806"/>
                  <a:pt x="14712" y="12810"/>
                  <a:pt x="14684" y="12849"/>
                </a:cubicBezTo>
                <a:cubicBezTo>
                  <a:pt x="14647" y="12900"/>
                  <a:pt x="14642" y="12937"/>
                  <a:pt x="14635" y="12998"/>
                </a:cubicBezTo>
                <a:cubicBezTo>
                  <a:pt x="14710" y="12998"/>
                  <a:pt x="14785" y="12956"/>
                  <a:pt x="14858" y="12973"/>
                </a:cubicBezTo>
                <a:cubicBezTo>
                  <a:pt x="14980" y="13002"/>
                  <a:pt x="14925" y="13163"/>
                  <a:pt x="14883" y="13221"/>
                </a:cubicBezTo>
                <a:cubicBezTo>
                  <a:pt x="14845" y="13274"/>
                  <a:pt x="14701" y="13335"/>
                  <a:pt x="14635" y="13295"/>
                </a:cubicBezTo>
                <a:cubicBezTo>
                  <a:pt x="14635" y="13287"/>
                  <a:pt x="14635" y="13279"/>
                  <a:pt x="14635" y="13271"/>
                </a:cubicBezTo>
              </a:path>
              <a:path w="3871" h="1266">
                <a:moveTo>
                  <a:pt x="14734" y="12849"/>
                </a:moveTo>
                <a:cubicBezTo>
                  <a:pt x="14812" y="12833"/>
                  <a:pt x="14874" y="12804"/>
                  <a:pt x="14957" y="12799"/>
                </a:cubicBezTo>
                <a:cubicBezTo>
                  <a:pt x="14982" y="12799"/>
                  <a:pt x="14990" y="12799"/>
                  <a:pt x="15007" y="12799"/>
                </a:cubicBezTo>
              </a:path>
              <a:path w="3871" h="1266">
                <a:moveTo>
                  <a:pt x="13667" y="13667"/>
                </a:moveTo>
                <a:cubicBezTo>
                  <a:pt x="13870" y="13735"/>
                  <a:pt x="14074" y="13717"/>
                  <a:pt x="14288" y="13717"/>
                </a:cubicBezTo>
                <a:cubicBezTo>
                  <a:pt x="14530" y="13717"/>
                  <a:pt x="14776" y="13710"/>
                  <a:pt x="15007" y="13643"/>
                </a:cubicBezTo>
                <a:cubicBezTo>
                  <a:pt x="15170" y="13596"/>
                  <a:pt x="15323" y="13550"/>
                  <a:pt x="15429" y="13419"/>
                </a:cubicBezTo>
                <a:cubicBezTo>
                  <a:pt x="15513" y="13315"/>
                  <a:pt x="15548" y="13226"/>
                  <a:pt x="15503" y="13097"/>
                </a:cubicBezTo>
                <a:cubicBezTo>
                  <a:pt x="15459" y="12972"/>
                  <a:pt x="15356" y="12856"/>
                  <a:pt x="15255" y="12774"/>
                </a:cubicBezTo>
                <a:cubicBezTo>
                  <a:pt x="15128" y="12671"/>
                  <a:pt x="14958" y="12647"/>
                  <a:pt x="14808" y="12601"/>
                </a:cubicBezTo>
                <a:cubicBezTo>
                  <a:pt x="14573" y="12530"/>
                  <a:pt x="14361" y="12488"/>
                  <a:pt x="14114" y="12477"/>
                </a:cubicBezTo>
                <a:cubicBezTo>
                  <a:pt x="13911" y="12468"/>
                  <a:pt x="13650" y="12474"/>
                  <a:pt x="13469" y="12576"/>
                </a:cubicBezTo>
                <a:cubicBezTo>
                  <a:pt x="13347" y="12645"/>
                  <a:pt x="13245" y="12767"/>
                  <a:pt x="13196" y="12898"/>
                </a:cubicBezTo>
                <a:cubicBezTo>
                  <a:pt x="13156" y="13005"/>
                  <a:pt x="13115" y="13183"/>
                  <a:pt x="13122" y="13295"/>
                </a:cubicBezTo>
                <a:cubicBezTo>
                  <a:pt x="13129" y="13413"/>
                  <a:pt x="13253" y="13513"/>
                  <a:pt x="13345" y="13568"/>
                </a:cubicBezTo>
                <a:cubicBezTo>
                  <a:pt x="13451" y="13631"/>
                  <a:pt x="13576" y="13653"/>
                  <a:pt x="13692" y="13692"/>
                </a:cubicBezTo>
                <a:cubicBezTo>
                  <a:pt x="13761" y="13715"/>
                  <a:pt x="13816" y="13715"/>
                  <a:pt x="13891" y="13717"/>
                </a:cubicBezTo>
                <a:cubicBezTo>
                  <a:pt x="13968" y="13719"/>
                  <a:pt x="14052" y="13732"/>
                  <a:pt x="14114" y="13742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48040" y="5286240"/>
            <a:ext cx="1393920" cy="179640"/>
          </a:xfrm>
          <a:custGeom>
            <a:avLst/>
            <a:gdLst/>
            <a:ahLst/>
            <a:rect l="l" t="t" r="r" b="b"/>
            <a:pathLst>
              <a:path w="3870" h="497">
                <a:moveTo>
                  <a:pt x="10790" y="14709"/>
                </a:moveTo>
                <a:cubicBezTo>
                  <a:pt x="10720" y="14907"/>
                  <a:pt x="10690" y="14962"/>
                  <a:pt x="10740" y="15156"/>
                </a:cubicBezTo>
                <a:cubicBezTo>
                  <a:pt x="10925" y="15155"/>
                  <a:pt x="11099" y="15017"/>
                  <a:pt x="10988" y="14784"/>
                </a:cubicBezTo>
                <a:cubicBezTo>
                  <a:pt x="10901" y="14718"/>
                  <a:pt x="10883" y="14698"/>
                  <a:pt x="10815" y="14684"/>
                </a:cubicBezTo>
              </a:path>
              <a:path w="3870" h="497">
                <a:moveTo>
                  <a:pt x="13022" y="14784"/>
                </a:moveTo>
                <a:cubicBezTo>
                  <a:pt x="12928" y="14972"/>
                  <a:pt x="12899" y="15028"/>
                  <a:pt x="12849" y="15156"/>
                </a:cubicBezTo>
              </a:path>
              <a:path w="3870" h="497">
                <a:moveTo>
                  <a:pt x="13395" y="14734"/>
                </a:moveTo>
                <a:cubicBezTo>
                  <a:pt x="13409" y="14866"/>
                  <a:pt x="13415" y="15007"/>
                  <a:pt x="13444" y="15131"/>
                </a:cubicBezTo>
              </a:path>
              <a:path w="3870" h="497">
                <a:moveTo>
                  <a:pt x="14312" y="14734"/>
                </a:moveTo>
                <a:cubicBezTo>
                  <a:pt x="14354" y="14887"/>
                  <a:pt x="14439" y="14979"/>
                  <a:pt x="14560" y="1508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24160" y="5268960"/>
            <a:ext cx="3920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8954" y="14635"/>
                </a:moveTo>
                <a:cubicBezTo>
                  <a:pt x="9017" y="14780"/>
                  <a:pt x="9039" y="14948"/>
                  <a:pt x="9054" y="15106"/>
                </a:cubicBezTo>
                <a:cubicBezTo>
                  <a:pt x="9054" y="15180"/>
                  <a:pt x="9029" y="15213"/>
                  <a:pt x="9079" y="15205"/>
                </a:cubicBezTo>
              </a:path>
              <a:path w="1093" h="621">
                <a:moveTo>
                  <a:pt x="9376" y="14734"/>
                </a:moveTo>
                <a:cubicBezTo>
                  <a:pt x="9258" y="14782"/>
                  <a:pt x="9206" y="14930"/>
                  <a:pt x="9203" y="15056"/>
                </a:cubicBezTo>
                <a:cubicBezTo>
                  <a:pt x="9199" y="15248"/>
                  <a:pt x="9426" y="15339"/>
                  <a:pt x="9525" y="15156"/>
                </a:cubicBezTo>
                <a:cubicBezTo>
                  <a:pt x="9577" y="15060"/>
                  <a:pt x="9558" y="14887"/>
                  <a:pt x="9451" y="14833"/>
                </a:cubicBezTo>
                <a:cubicBezTo>
                  <a:pt x="9443" y="14833"/>
                  <a:pt x="9434" y="14833"/>
                  <a:pt x="9426" y="14833"/>
                </a:cubicBezTo>
              </a:path>
              <a:path w="1093" h="621">
                <a:moveTo>
                  <a:pt x="9773" y="14858"/>
                </a:moveTo>
                <a:cubicBezTo>
                  <a:pt x="9859" y="14950"/>
                  <a:pt x="9939" y="15077"/>
                  <a:pt x="10046" y="15131"/>
                </a:cubicBezTo>
              </a:path>
              <a:path w="1093" h="621">
                <a:moveTo>
                  <a:pt x="9996" y="14932"/>
                </a:moveTo>
                <a:cubicBezTo>
                  <a:pt x="9922" y="15074"/>
                  <a:pt x="9824" y="15131"/>
                  <a:pt x="9947" y="1513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9120" y="529596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0443" y="14709"/>
                </a:moveTo>
                <a:cubicBezTo>
                  <a:pt x="10501" y="14868"/>
                  <a:pt x="10509" y="15040"/>
                  <a:pt x="10592" y="1518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76800" y="5286240"/>
            <a:ext cx="438120" cy="187560"/>
          </a:xfrm>
          <a:custGeom>
            <a:avLst/>
            <a:gdLst/>
            <a:ahLst/>
            <a:rect l="l" t="t" r="r" b="b"/>
            <a:pathLst>
              <a:path w="1217" h="522">
                <a:moveTo>
                  <a:pt x="11881" y="14759"/>
                </a:moveTo>
                <a:cubicBezTo>
                  <a:pt x="11921" y="14893"/>
                  <a:pt x="11963" y="15020"/>
                  <a:pt x="11981" y="15156"/>
                </a:cubicBezTo>
              </a:path>
              <a:path w="1217" h="522">
                <a:moveTo>
                  <a:pt x="12303" y="14684"/>
                </a:moveTo>
                <a:cubicBezTo>
                  <a:pt x="12252" y="14879"/>
                  <a:pt x="12196" y="15022"/>
                  <a:pt x="12254" y="15205"/>
                </a:cubicBezTo>
                <a:cubicBezTo>
                  <a:pt x="12400" y="15154"/>
                  <a:pt x="12733" y="14986"/>
                  <a:pt x="12477" y="14784"/>
                </a:cubicBezTo>
                <a:cubicBezTo>
                  <a:pt x="12386" y="14766"/>
                  <a:pt x="12379" y="14757"/>
                  <a:pt x="12328" y="14759"/>
                </a:cubicBezTo>
              </a:path>
              <a:path w="1217" h="522">
                <a:moveTo>
                  <a:pt x="12725" y="14759"/>
                </a:moveTo>
                <a:cubicBezTo>
                  <a:pt x="12807" y="14819"/>
                  <a:pt x="12992" y="15087"/>
                  <a:pt x="13072" y="15106"/>
                </a:cubicBezTo>
                <a:cubicBezTo>
                  <a:pt x="13080" y="15089"/>
                  <a:pt x="13089" y="15073"/>
                  <a:pt x="13097" y="150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02120" y="5276880"/>
            <a:ext cx="322200" cy="189000"/>
          </a:xfrm>
          <a:custGeom>
            <a:avLst/>
            <a:gdLst/>
            <a:ahLst/>
            <a:rect l="l" t="t" r="r" b="b"/>
            <a:pathLst>
              <a:path w="894" h="521">
                <a:moveTo>
                  <a:pt x="13742" y="14660"/>
                </a:moveTo>
                <a:cubicBezTo>
                  <a:pt x="13658" y="14864"/>
                  <a:pt x="13563" y="14982"/>
                  <a:pt x="13692" y="15156"/>
                </a:cubicBezTo>
                <a:cubicBezTo>
                  <a:pt x="13853" y="15100"/>
                  <a:pt x="14130" y="14967"/>
                  <a:pt x="13915" y="14759"/>
                </a:cubicBezTo>
                <a:cubicBezTo>
                  <a:pt x="13874" y="14742"/>
                  <a:pt x="13832" y="14726"/>
                  <a:pt x="13791" y="14709"/>
                </a:cubicBezTo>
              </a:path>
              <a:path w="894" h="521">
                <a:moveTo>
                  <a:pt x="14511" y="14684"/>
                </a:moveTo>
                <a:cubicBezTo>
                  <a:pt x="14412" y="14851"/>
                  <a:pt x="14029" y="15118"/>
                  <a:pt x="14213" y="15180"/>
                </a:cubicBezTo>
                <a:cubicBezTo>
                  <a:pt x="14238" y="15164"/>
                  <a:pt x="14263" y="15147"/>
                  <a:pt x="14288" y="1513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57880" y="5268960"/>
            <a:ext cx="936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4883" y="14635"/>
                </a:moveTo>
                <a:cubicBezTo>
                  <a:pt x="14889" y="14810"/>
                  <a:pt x="14908" y="14981"/>
                  <a:pt x="14908" y="1515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10160" y="5249880"/>
            <a:ext cx="169920" cy="206280"/>
          </a:xfrm>
          <a:custGeom>
            <a:avLst/>
            <a:gdLst/>
            <a:ahLst/>
            <a:rect l="l" t="t" r="r" b="b"/>
            <a:pathLst>
              <a:path w="473" h="572">
                <a:moveTo>
                  <a:pt x="15478" y="14585"/>
                </a:moveTo>
                <a:cubicBezTo>
                  <a:pt x="15398" y="14693"/>
                  <a:pt x="15179" y="14996"/>
                  <a:pt x="15354" y="15131"/>
                </a:cubicBezTo>
                <a:cubicBezTo>
                  <a:pt x="15539" y="15274"/>
                  <a:pt x="15686" y="15031"/>
                  <a:pt x="15776" y="14932"/>
                </a:cubicBezTo>
                <a:cubicBezTo>
                  <a:pt x="15656" y="14753"/>
                  <a:pt x="15592" y="14733"/>
                  <a:pt x="15379" y="146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7720" y="5330880"/>
            <a:ext cx="2393640" cy="822240"/>
          </a:xfrm>
          <a:custGeom>
            <a:avLst/>
            <a:gdLst/>
            <a:ahLst/>
            <a:rect l="l" t="t" r="r" b="b"/>
            <a:pathLst>
              <a:path w="6648" h="2283">
                <a:moveTo>
                  <a:pt x="11633" y="14808"/>
                </a:moveTo>
                <a:cubicBezTo>
                  <a:pt x="11534" y="14947"/>
                  <a:pt x="11436" y="15079"/>
                  <a:pt x="11361" y="15230"/>
                </a:cubicBezTo>
              </a:path>
              <a:path w="6648" h="2283">
                <a:moveTo>
                  <a:pt x="9327" y="15974"/>
                </a:moveTo>
                <a:cubicBezTo>
                  <a:pt x="9335" y="15974"/>
                  <a:pt x="9343" y="15974"/>
                  <a:pt x="9351" y="15974"/>
                </a:cubicBezTo>
              </a:path>
              <a:path w="6648" h="2283">
                <a:moveTo>
                  <a:pt x="9351" y="15974"/>
                </a:moveTo>
                <a:lnTo>
                  <a:pt x="9351" y="15974"/>
                </a:lnTo>
              </a:path>
              <a:path w="6648" h="2283">
                <a:moveTo>
                  <a:pt x="9351" y="15999"/>
                </a:moveTo>
                <a:lnTo>
                  <a:pt x="9351" y="15999"/>
                </a:lnTo>
              </a:path>
              <a:path w="6648" h="2283">
                <a:moveTo>
                  <a:pt x="10269" y="15949"/>
                </a:moveTo>
                <a:cubicBezTo>
                  <a:pt x="10217" y="16125"/>
                  <a:pt x="10200" y="16125"/>
                  <a:pt x="10294" y="16272"/>
                </a:cubicBezTo>
                <a:cubicBezTo>
                  <a:pt x="10423" y="16246"/>
                  <a:pt x="10752" y="16141"/>
                  <a:pt x="10616" y="15925"/>
                </a:cubicBezTo>
                <a:cubicBezTo>
                  <a:pt x="10512" y="15873"/>
                  <a:pt x="10474" y="15857"/>
                  <a:pt x="10393" y="15900"/>
                </a:cubicBezTo>
              </a:path>
              <a:path w="6648" h="2283">
                <a:moveTo>
                  <a:pt x="14784" y="16867"/>
                </a:moveTo>
                <a:cubicBezTo>
                  <a:pt x="14780" y="16938"/>
                  <a:pt x="14799" y="17151"/>
                  <a:pt x="14709" y="17041"/>
                </a:cubicBezTo>
              </a:path>
              <a:path w="6648" h="2283">
                <a:moveTo>
                  <a:pt x="15677" y="16446"/>
                </a:moveTo>
                <a:cubicBezTo>
                  <a:pt x="15614" y="16553"/>
                  <a:pt x="15484" y="16801"/>
                  <a:pt x="15751" y="16793"/>
                </a:cubicBezTo>
                <a:cubicBezTo>
                  <a:pt x="15916" y="16788"/>
                  <a:pt x="16007" y="16620"/>
                  <a:pt x="15925" y="16495"/>
                </a:cubicBezTo>
                <a:cubicBezTo>
                  <a:pt x="15873" y="16444"/>
                  <a:pt x="15854" y="16427"/>
                  <a:pt x="15801" y="1642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75000" y="5330880"/>
            <a:ext cx="2216160" cy="768240"/>
          </a:xfrm>
          <a:custGeom>
            <a:avLst/>
            <a:gdLst/>
            <a:ahLst/>
            <a:rect l="l" t="t" r="r" b="b"/>
            <a:pathLst>
              <a:path w="6153" h="2135">
                <a:moveTo>
                  <a:pt x="11435" y="14808"/>
                </a:moveTo>
                <a:cubicBezTo>
                  <a:pt x="11493" y="14901"/>
                  <a:pt x="11563" y="15103"/>
                  <a:pt x="11633" y="15032"/>
                </a:cubicBezTo>
              </a:path>
              <a:path w="6153" h="2135">
                <a:moveTo>
                  <a:pt x="9475" y="15329"/>
                </a:moveTo>
                <a:cubicBezTo>
                  <a:pt x="9475" y="15251"/>
                  <a:pt x="9488" y="15426"/>
                  <a:pt x="9500" y="15503"/>
                </a:cubicBezTo>
                <a:cubicBezTo>
                  <a:pt x="9508" y="15536"/>
                  <a:pt x="9517" y="15569"/>
                  <a:pt x="9525" y="15602"/>
                </a:cubicBezTo>
                <a:cubicBezTo>
                  <a:pt x="9752" y="15583"/>
                  <a:pt x="9966" y="15535"/>
                  <a:pt x="10195" y="15528"/>
                </a:cubicBezTo>
                <a:cubicBezTo>
                  <a:pt x="10289" y="15525"/>
                  <a:pt x="10355" y="15553"/>
                  <a:pt x="10443" y="15553"/>
                </a:cubicBezTo>
                <a:cubicBezTo>
                  <a:pt x="10476" y="15429"/>
                  <a:pt x="10511" y="15303"/>
                  <a:pt x="10542" y="15180"/>
                </a:cubicBezTo>
              </a:path>
              <a:path w="6153" h="2135">
                <a:moveTo>
                  <a:pt x="9376" y="16049"/>
                </a:moveTo>
                <a:cubicBezTo>
                  <a:pt x="9387" y="16121"/>
                  <a:pt x="9366" y="16334"/>
                  <a:pt x="9401" y="16396"/>
                </a:cubicBezTo>
                <a:cubicBezTo>
                  <a:pt x="9409" y="16396"/>
                  <a:pt x="9418" y="16396"/>
                  <a:pt x="9426" y="16396"/>
                </a:cubicBezTo>
              </a:path>
              <a:path w="6153" h="2135">
                <a:moveTo>
                  <a:pt x="9847" y="15925"/>
                </a:moveTo>
                <a:cubicBezTo>
                  <a:pt x="9760" y="15984"/>
                  <a:pt x="9661" y="16154"/>
                  <a:pt x="9649" y="16272"/>
                </a:cubicBezTo>
                <a:cubicBezTo>
                  <a:pt x="9657" y="16288"/>
                  <a:pt x="9666" y="16305"/>
                  <a:pt x="9674" y="16321"/>
                </a:cubicBezTo>
                <a:cubicBezTo>
                  <a:pt x="9805" y="16298"/>
                  <a:pt x="10079" y="16202"/>
                  <a:pt x="9947" y="15999"/>
                </a:cubicBezTo>
                <a:cubicBezTo>
                  <a:pt x="9914" y="15948"/>
                  <a:pt x="9821" y="15938"/>
                  <a:pt x="9823" y="15999"/>
                </a:cubicBezTo>
              </a:path>
              <a:path w="6153" h="2135">
                <a:moveTo>
                  <a:pt x="10815" y="16123"/>
                </a:moveTo>
                <a:cubicBezTo>
                  <a:pt x="10979" y="16097"/>
                  <a:pt x="11146" y="16072"/>
                  <a:pt x="11311" y="16049"/>
                </a:cubicBezTo>
                <a:cubicBezTo>
                  <a:pt x="11485" y="16024"/>
                  <a:pt x="11661" y="15996"/>
                  <a:pt x="11832" y="15974"/>
                </a:cubicBezTo>
                <a:cubicBezTo>
                  <a:pt x="11871" y="15969"/>
                  <a:pt x="11916" y="15974"/>
                  <a:pt x="11956" y="15974"/>
                </a:cubicBezTo>
                <a:cubicBezTo>
                  <a:pt x="11956" y="15845"/>
                  <a:pt x="11964" y="15726"/>
                  <a:pt x="11981" y="15602"/>
                </a:cubicBezTo>
                <a:cubicBezTo>
                  <a:pt x="11989" y="15546"/>
                  <a:pt x="11998" y="15478"/>
                  <a:pt x="12005" y="15453"/>
                </a:cubicBezTo>
                <a:cubicBezTo>
                  <a:pt x="12005" y="15445"/>
                  <a:pt x="12005" y="15437"/>
                  <a:pt x="12005" y="15429"/>
                </a:cubicBezTo>
              </a:path>
              <a:path w="6153" h="2135">
                <a:moveTo>
                  <a:pt x="11857" y="16272"/>
                </a:moveTo>
                <a:cubicBezTo>
                  <a:pt x="11800" y="16402"/>
                  <a:pt x="11777" y="16552"/>
                  <a:pt x="11757" y="16694"/>
                </a:cubicBezTo>
                <a:cubicBezTo>
                  <a:pt x="11757" y="16750"/>
                  <a:pt x="11762" y="16761"/>
                  <a:pt x="11807" y="16694"/>
                </a:cubicBezTo>
              </a:path>
              <a:path w="6153" h="2135">
                <a:moveTo>
                  <a:pt x="12229" y="16173"/>
                </a:moveTo>
                <a:cubicBezTo>
                  <a:pt x="12141" y="16348"/>
                  <a:pt x="12082" y="16451"/>
                  <a:pt x="12105" y="16644"/>
                </a:cubicBezTo>
                <a:cubicBezTo>
                  <a:pt x="12260" y="16668"/>
                  <a:pt x="12393" y="16640"/>
                  <a:pt x="12402" y="16446"/>
                </a:cubicBezTo>
                <a:cubicBezTo>
                  <a:pt x="12409" y="16306"/>
                  <a:pt x="12292" y="16209"/>
                  <a:pt x="12179" y="16247"/>
                </a:cubicBezTo>
              </a:path>
              <a:path w="6153" h="2135">
                <a:moveTo>
                  <a:pt x="12675" y="16098"/>
                </a:moveTo>
                <a:cubicBezTo>
                  <a:pt x="12612" y="16255"/>
                  <a:pt x="12562" y="16375"/>
                  <a:pt x="12551" y="16545"/>
                </a:cubicBezTo>
                <a:cubicBezTo>
                  <a:pt x="12724" y="16570"/>
                  <a:pt x="12864" y="16534"/>
                  <a:pt x="12874" y="16321"/>
                </a:cubicBezTo>
                <a:cubicBezTo>
                  <a:pt x="12880" y="16177"/>
                  <a:pt x="12815" y="16166"/>
                  <a:pt x="12700" y="16123"/>
                </a:cubicBezTo>
              </a:path>
              <a:path w="6153" h="2135">
                <a:moveTo>
                  <a:pt x="12998" y="16049"/>
                </a:moveTo>
                <a:cubicBezTo>
                  <a:pt x="12908" y="16216"/>
                  <a:pt x="12878" y="16333"/>
                  <a:pt x="12898" y="16520"/>
                </a:cubicBezTo>
                <a:cubicBezTo>
                  <a:pt x="13075" y="16530"/>
                  <a:pt x="13233" y="16494"/>
                  <a:pt x="13246" y="16272"/>
                </a:cubicBezTo>
                <a:cubicBezTo>
                  <a:pt x="13220" y="16194"/>
                  <a:pt x="13209" y="16167"/>
                  <a:pt x="13146" y="16148"/>
                </a:cubicBezTo>
              </a:path>
              <a:path w="6153" h="2135">
                <a:moveTo>
                  <a:pt x="13469" y="16321"/>
                </a:moveTo>
                <a:cubicBezTo>
                  <a:pt x="13611" y="16360"/>
                  <a:pt x="13764" y="16346"/>
                  <a:pt x="13915" y="16346"/>
                </a:cubicBezTo>
                <a:cubicBezTo>
                  <a:pt x="13943" y="16346"/>
                  <a:pt x="13954" y="16344"/>
                  <a:pt x="13965" y="16321"/>
                </a:cubicBezTo>
                <a:cubicBezTo>
                  <a:pt x="13965" y="16103"/>
                  <a:pt x="13968" y="15891"/>
                  <a:pt x="13940" y="15677"/>
                </a:cubicBezTo>
                <a:cubicBezTo>
                  <a:pt x="13934" y="15632"/>
                  <a:pt x="13915" y="15607"/>
                  <a:pt x="13915" y="15553"/>
                </a:cubicBezTo>
              </a:path>
              <a:path w="6153" h="2135">
                <a:moveTo>
                  <a:pt x="14089" y="16470"/>
                </a:moveTo>
                <a:cubicBezTo>
                  <a:pt x="14069" y="16610"/>
                  <a:pt x="14052" y="16751"/>
                  <a:pt x="14039" y="16892"/>
                </a:cubicBezTo>
                <a:cubicBezTo>
                  <a:pt x="14039" y="16937"/>
                  <a:pt x="14036" y="16957"/>
                  <a:pt x="14064" y="16917"/>
                </a:cubicBezTo>
              </a:path>
              <a:path w="6153" h="2135">
                <a:moveTo>
                  <a:pt x="14436" y="16446"/>
                </a:moveTo>
                <a:cubicBezTo>
                  <a:pt x="14373" y="16637"/>
                  <a:pt x="14277" y="16764"/>
                  <a:pt x="14436" y="16892"/>
                </a:cubicBezTo>
                <a:cubicBezTo>
                  <a:pt x="14546" y="16841"/>
                  <a:pt x="14734" y="16706"/>
                  <a:pt x="14610" y="16545"/>
                </a:cubicBezTo>
                <a:cubicBezTo>
                  <a:pt x="14543" y="16522"/>
                  <a:pt x="14525" y="16517"/>
                  <a:pt x="14486" y="16495"/>
                </a:cubicBezTo>
              </a:path>
              <a:path w="6153" h="2135">
                <a:moveTo>
                  <a:pt x="15032" y="16446"/>
                </a:moveTo>
                <a:cubicBezTo>
                  <a:pt x="14969" y="16554"/>
                  <a:pt x="14947" y="16620"/>
                  <a:pt x="14932" y="16743"/>
                </a:cubicBezTo>
                <a:cubicBezTo>
                  <a:pt x="15025" y="16780"/>
                  <a:pt x="15210" y="16828"/>
                  <a:pt x="15205" y="16644"/>
                </a:cubicBezTo>
                <a:cubicBezTo>
                  <a:pt x="15201" y="16509"/>
                  <a:pt x="15072" y="16509"/>
                  <a:pt x="14982" y="16495"/>
                </a:cubicBezTo>
              </a:path>
              <a:path w="6153" h="2135">
                <a:moveTo>
                  <a:pt x="15304" y="16470"/>
                </a:moveTo>
                <a:cubicBezTo>
                  <a:pt x="15264" y="16597"/>
                  <a:pt x="15243" y="16621"/>
                  <a:pt x="15280" y="16743"/>
                </a:cubicBezTo>
                <a:cubicBezTo>
                  <a:pt x="15405" y="16724"/>
                  <a:pt x="15576" y="16670"/>
                  <a:pt x="15528" y="16495"/>
                </a:cubicBezTo>
                <a:cubicBezTo>
                  <a:pt x="15504" y="16409"/>
                  <a:pt x="15421" y="16449"/>
                  <a:pt x="15379" y="1647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5375160"/>
            <a:ext cx="1482840" cy="679680"/>
          </a:xfrm>
          <a:custGeom>
            <a:avLst/>
            <a:gdLst/>
            <a:ahLst/>
            <a:rect l="l" t="t" r="r" b="b"/>
            <a:pathLst>
              <a:path w="4118" h="1887">
                <a:moveTo>
                  <a:pt x="16123" y="16371"/>
                </a:moveTo>
                <a:cubicBezTo>
                  <a:pt x="16182" y="16194"/>
                  <a:pt x="16234" y="16023"/>
                  <a:pt x="16247" y="15825"/>
                </a:cubicBezTo>
                <a:cubicBezTo>
                  <a:pt x="16255" y="15705"/>
                  <a:pt x="16232" y="15581"/>
                  <a:pt x="16222" y="15503"/>
                </a:cubicBezTo>
                <a:cubicBezTo>
                  <a:pt x="16219" y="15478"/>
                  <a:pt x="16071" y="15367"/>
                  <a:pt x="16049" y="15354"/>
                </a:cubicBezTo>
                <a:cubicBezTo>
                  <a:pt x="15993" y="15322"/>
                  <a:pt x="15948" y="15315"/>
                  <a:pt x="15900" y="15280"/>
                </a:cubicBezTo>
              </a:path>
              <a:path w="4118" h="1887">
                <a:moveTo>
                  <a:pt x="16718" y="15701"/>
                </a:moveTo>
                <a:cubicBezTo>
                  <a:pt x="16686" y="15900"/>
                  <a:pt x="16654" y="16099"/>
                  <a:pt x="16619" y="16297"/>
                </a:cubicBezTo>
                <a:cubicBezTo>
                  <a:pt x="16619" y="16321"/>
                  <a:pt x="16619" y="16329"/>
                  <a:pt x="16619" y="16297"/>
                </a:cubicBezTo>
              </a:path>
              <a:path w="4118" h="1887">
                <a:moveTo>
                  <a:pt x="17066" y="15801"/>
                </a:moveTo>
                <a:cubicBezTo>
                  <a:pt x="16887" y="15840"/>
                  <a:pt x="16826" y="15993"/>
                  <a:pt x="16818" y="16173"/>
                </a:cubicBezTo>
                <a:cubicBezTo>
                  <a:pt x="16826" y="16206"/>
                  <a:pt x="16834" y="16239"/>
                  <a:pt x="16842" y="16272"/>
                </a:cubicBezTo>
                <a:cubicBezTo>
                  <a:pt x="17041" y="16330"/>
                  <a:pt x="17225" y="16295"/>
                  <a:pt x="17214" y="16024"/>
                </a:cubicBezTo>
                <a:cubicBezTo>
                  <a:pt x="17210" y="15911"/>
                  <a:pt x="17150" y="15879"/>
                  <a:pt x="17066" y="15850"/>
                </a:cubicBezTo>
              </a:path>
              <a:path w="4118" h="1887">
                <a:moveTo>
                  <a:pt x="17438" y="15776"/>
                </a:moveTo>
                <a:cubicBezTo>
                  <a:pt x="17358" y="15887"/>
                  <a:pt x="17296" y="16099"/>
                  <a:pt x="17388" y="16247"/>
                </a:cubicBezTo>
                <a:cubicBezTo>
                  <a:pt x="17413" y="16264"/>
                  <a:pt x="17437" y="16280"/>
                  <a:pt x="17462" y="16297"/>
                </a:cubicBezTo>
                <a:cubicBezTo>
                  <a:pt x="17619" y="16218"/>
                  <a:pt x="17692" y="16088"/>
                  <a:pt x="17611" y="15900"/>
                </a:cubicBezTo>
                <a:cubicBezTo>
                  <a:pt x="17550" y="15838"/>
                  <a:pt x="17544" y="15813"/>
                  <a:pt x="17487" y="15825"/>
                </a:cubicBezTo>
              </a:path>
              <a:path w="4118" h="1887">
                <a:moveTo>
                  <a:pt x="17735" y="16297"/>
                </a:moveTo>
                <a:cubicBezTo>
                  <a:pt x="17750" y="16403"/>
                  <a:pt x="17760" y="16489"/>
                  <a:pt x="17760" y="16594"/>
                </a:cubicBezTo>
              </a:path>
              <a:path w="4118" h="1887">
                <a:moveTo>
                  <a:pt x="18157" y="15825"/>
                </a:moveTo>
                <a:cubicBezTo>
                  <a:pt x="17989" y="15837"/>
                  <a:pt x="17866" y="16003"/>
                  <a:pt x="18008" y="16197"/>
                </a:cubicBezTo>
                <a:cubicBezTo>
                  <a:pt x="18041" y="16214"/>
                  <a:pt x="18074" y="16230"/>
                  <a:pt x="18107" y="16247"/>
                </a:cubicBezTo>
                <a:cubicBezTo>
                  <a:pt x="18224" y="16197"/>
                  <a:pt x="18513" y="16007"/>
                  <a:pt x="18256" y="15875"/>
                </a:cubicBezTo>
                <a:cubicBezTo>
                  <a:pt x="18223" y="15875"/>
                  <a:pt x="18190" y="15875"/>
                  <a:pt x="18157" y="15875"/>
                </a:cubicBezTo>
              </a:path>
              <a:path w="4118" h="1887">
                <a:moveTo>
                  <a:pt x="18504" y="15825"/>
                </a:moveTo>
                <a:cubicBezTo>
                  <a:pt x="18435" y="16003"/>
                  <a:pt x="18409" y="16006"/>
                  <a:pt x="18479" y="16173"/>
                </a:cubicBezTo>
                <a:cubicBezTo>
                  <a:pt x="18588" y="16172"/>
                  <a:pt x="18871" y="16121"/>
                  <a:pt x="18827" y="15925"/>
                </a:cubicBezTo>
                <a:cubicBezTo>
                  <a:pt x="18757" y="15832"/>
                  <a:pt x="18741" y="15799"/>
                  <a:pt x="18653" y="15825"/>
                </a:cubicBezTo>
              </a:path>
              <a:path w="4118" h="1887">
                <a:moveTo>
                  <a:pt x="19174" y="15751"/>
                </a:moveTo>
                <a:cubicBezTo>
                  <a:pt x="18979" y="15826"/>
                  <a:pt x="18957" y="15929"/>
                  <a:pt x="19000" y="16123"/>
                </a:cubicBezTo>
                <a:cubicBezTo>
                  <a:pt x="19099" y="16149"/>
                  <a:pt x="19428" y="16125"/>
                  <a:pt x="19422" y="15925"/>
                </a:cubicBezTo>
                <a:cubicBezTo>
                  <a:pt x="19320" y="15822"/>
                  <a:pt x="19255" y="15792"/>
                  <a:pt x="19124" y="15825"/>
                </a:cubicBezTo>
              </a:path>
              <a:path w="4118" h="1887">
                <a:moveTo>
                  <a:pt x="16495" y="16818"/>
                </a:moveTo>
                <a:cubicBezTo>
                  <a:pt x="16712" y="16793"/>
                  <a:pt x="16920" y="16803"/>
                  <a:pt x="17140" y="16793"/>
                </a:cubicBezTo>
                <a:cubicBezTo>
                  <a:pt x="17609" y="16771"/>
                  <a:pt x="18064" y="16692"/>
                  <a:pt x="18529" y="16644"/>
                </a:cubicBezTo>
                <a:cubicBezTo>
                  <a:pt x="18883" y="16607"/>
                  <a:pt x="19338" y="16616"/>
                  <a:pt x="19645" y="16396"/>
                </a:cubicBezTo>
                <a:cubicBezTo>
                  <a:pt x="19740" y="16328"/>
                  <a:pt x="19993" y="16069"/>
                  <a:pt x="20017" y="15949"/>
                </a:cubicBezTo>
                <a:cubicBezTo>
                  <a:pt x="20057" y="15754"/>
                  <a:pt x="19961" y="15493"/>
                  <a:pt x="19794" y="15379"/>
                </a:cubicBezTo>
                <a:cubicBezTo>
                  <a:pt x="19466" y="15155"/>
                  <a:pt x="19010" y="15074"/>
                  <a:pt x="18628" y="15007"/>
                </a:cubicBezTo>
                <a:cubicBezTo>
                  <a:pt x="18112" y="14916"/>
                  <a:pt x="17484" y="14836"/>
                  <a:pt x="16991" y="15056"/>
                </a:cubicBezTo>
                <a:cubicBezTo>
                  <a:pt x="16769" y="15155"/>
                  <a:pt x="16535" y="15362"/>
                  <a:pt x="16421" y="15577"/>
                </a:cubicBezTo>
                <a:cubicBezTo>
                  <a:pt x="16330" y="15749"/>
                  <a:pt x="16248" y="16026"/>
                  <a:pt x="16272" y="16222"/>
                </a:cubicBezTo>
                <a:cubicBezTo>
                  <a:pt x="16317" y="16590"/>
                  <a:pt x="16643" y="16640"/>
                  <a:pt x="16942" y="1671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Objective :  Students will understand and be able to </a:t>
            </a:r>
            <a:r>
              <a:rPr b="0" i="1" lang="en-US" sz="1600" spc="-1" strike="noStrike">
                <a:solidFill>
                  <a:srgbClr val="006699"/>
                </a:solidFill>
                <a:latin typeface="Verdana"/>
              </a:rPr>
              <a:t>use exponents to represent repeated multiplication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hallenge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Verdana"/>
              </a:rPr>
              <a:t>Consider what is unique about the numbers below, with regards to power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4         9       16          25         36        49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Who knows what term comes next?  Why?  Think about how would you write 16 or 25 using a power?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2640" y="5638680"/>
          <a:ext cx="24037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40" y="5638680"/>
                    <a:ext cx="24037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486400" y="5452920"/>
          <a:ext cx="2209680" cy="7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5452920"/>
                    <a:ext cx="22096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857160" y="2830680"/>
            <a:ext cx="7662960" cy="295200"/>
          </a:xfrm>
          <a:custGeom>
            <a:avLst/>
            <a:gdLst/>
            <a:ahLst/>
            <a:rect l="l" t="t" r="r" b="b"/>
            <a:pathLst>
              <a:path w="21284" h="820">
                <a:moveTo>
                  <a:pt x="2381" y="8434"/>
                </a:moveTo>
                <a:cubicBezTo>
                  <a:pt x="2468" y="8521"/>
                  <a:pt x="2492" y="8540"/>
                  <a:pt x="2530" y="8607"/>
                </a:cubicBezTo>
              </a:path>
              <a:path w="21284" h="820">
                <a:moveTo>
                  <a:pt x="2456" y="8458"/>
                </a:moveTo>
                <a:cubicBezTo>
                  <a:pt x="2415" y="8581"/>
                  <a:pt x="2398" y="8603"/>
                  <a:pt x="2406" y="8682"/>
                </a:cubicBezTo>
              </a:path>
              <a:path w="21284" h="820">
                <a:moveTo>
                  <a:pt x="5705" y="8434"/>
                </a:moveTo>
                <a:cubicBezTo>
                  <a:pt x="5784" y="8513"/>
                  <a:pt x="5792" y="8534"/>
                  <a:pt x="5854" y="8558"/>
                </a:cubicBezTo>
              </a:path>
              <a:path w="21284" h="820">
                <a:moveTo>
                  <a:pt x="5779" y="8434"/>
                </a:moveTo>
                <a:cubicBezTo>
                  <a:pt x="5740" y="8573"/>
                  <a:pt x="5723" y="8596"/>
                  <a:pt x="5730" y="8682"/>
                </a:cubicBezTo>
              </a:path>
              <a:path w="21284" h="820">
                <a:moveTo>
                  <a:pt x="8359" y="8210"/>
                </a:moveTo>
                <a:cubicBezTo>
                  <a:pt x="8344" y="8355"/>
                  <a:pt x="8328" y="8369"/>
                  <a:pt x="8409" y="8483"/>
                </a:cubicBezTo>
                <a:cubicBezTo>
                  <a:pt x="8575" y="8445"/>
                  <a:pt x="8561" y="8414"/>
                  <a:pt x="8657" y="8260"/>
                </a:cubicBezTo>
              </a:path>
              <a:path w="21284" h="820">
                <a:moveTo>
                  <a:pt x="8880" y="8359"/>
                </a:moveTo>
                <a:cubicBezTo>
                  <a:pt x="8835" y="8458"/>
                  <a:pt x="8783" y="8558"/>
                  <a:pt x="8756" y="8657"/>
                </a:cubicBezTo>
              </a:path>
              <a:path w="21284" h="820">
                <a:moveTo>
                  <a:pt x="12353" y="8235"/>
                </a:moveTo>
                <a:cubicBezTo>
                  <a:pt x="12492" y="8207"/>
                  <a:pt x="12549" y="8199"/>
                  <a:pt x="12650" y="8210"/>
                </a:cubicBezTo>
              </a:path>
              <a:path w="21284" h="820">
                <a:moveTo>
                  <a:pt x="12774" y="8161"/>
                </a:moveTo>
                <a:cubicBezTo>
                  <a:pt x="12800" y="8302"/>
                  <a:pt x="12858" y="8397"/>
                  <a:pt x="12948" y="8508"/>
                </a:cubicBezTo>
              </a:path>
              <a:path w="21284" h="820">
                <a:moveTo>
                  <a:pt x="12824" y="8310"/>
                </a:moveTo>
                <a:cubicBezTo>
                  <a:pt x="12743" y="8431"/>
                  <a:pt x="12721" y="8449"/>
                  <a:pt x="12700" y="8533"/>
                </a:cubicBezTo>
              </a:path>
              <a:path w="21284" h="820">
                <a:moveTo>
                  <a:pt x="13221" y="8186"/>
                </a:moveTo>
                <a:cubicBezTo>
                  <a:pt x="13363" y="8157"/>
                  <a:pt x="13422" y="8144"/>
                  <a:pt x="13519" y="8111"/>
                </a:cubicBezTo>
              </a:path>
              <a:path w="21284" h="820">
                <a:moveTo>
                  <a:pt x="16470" y="8210"/>
                </a:moveTo>
                <a:cubicBezTo>
                  <a:pt x="16545" y="8373"/>
                  <a:pt x="16578" y="8436"/>
                  <a:pt x="16743" y="8384"/>
                </a:cubicBezTo>
              </a:path>
              <a:path w="21284" h="820">
                <a:moveTo>
                  <a:pt x="16545" y="8508"/>
                </a:moveTo>
                <a:lnTo>
                  <a:pt x="16545" y="8508"/>
                </a:lnTo>
              </a:path>
              <a:path w="21284" h="820">
                <a:moveTo>
                  <a:pt x="20365" y="8235"/>
                </a:moveTo>
                <a:cubicBezTo>
                  <a:pt x="20308" y="8339"/>
                  <a:pt x="20253" y="8406"/>
                  <a:pt x="20265" y="8508"/>
                </a:cubicBezTo>
              </a:path>
              <a:path w="21284" h="820">
                <a:moveTo>
                  <a:pt x="20265" y="8508"/>
                </a:moveTo>
                <a:lnTo>
                  <a:pt x="20265" y="8508"/>
                </a:lnTo>
              </a:path>
              <a:path w="21284" h="820">
                <a:moveTo>
                  <a:pt x="22647" y="7863"/>
                </a:moveTo>
                <a:cubicBezTo>
                  <a:pt x="22627" y="8029"/>
                  <a:pt x="22616" y="8193"/>
                  <a:pt x="22597" y="8359"/>
                </a:cubicBezTo>
              </a:path>
              <a:path w="21284" h="820">
                <a:moveTo>
                  <a:pt x="23664" y="7863"/>
                </a:moveTo>
                <a:cubicBezTo>
                  <a:pt x="23557" y="7986"/>
                  <a:pt x="23458" y="8104"/>
                  <a:pt x="23416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5200" y="3259080"/>
            <a:ext cx="241200" cy="206280"/>
          </a:xfrm>
          <a:custGeom>
            <a:avLst/>
            <a:gdLst/>
            <a:ahLst/>
            <a:rect l="l" t="t" r="r" b="b"/>
            <a:pathLst>
              <a:path w="670" h="571">
                <a:moveTo>
                  <a:pt x="843" y="9376"/>
                </a:moveTo>
                <a:cubicBezTo>
                  <a:pt x="843" y="9351"/>
                  <a:pt x="843" y="9343"/>
                  <a:pt x="819" y="9351"/>
                </a:cubicBezTo>
                <a:cubicBezTo>
                  <a:pt x="964" y="9351"/>
                  <a:pt x="1097" y="9322"/>
                  <a:pt x="1240" y="9302"/>
                </a:cubicBezTo>
                <a:cubicBezTo>
                  <a:pt x="1265" y="9302"/>
                  <a:pt x="1273" y="9302"/>
                  <a:pt x="1290" y="9302"/>
                </a:cubicBezTo>
              </a:path>
              <a:path w="670" h="571">
                <a:moveTo>
                  <a:pt x="1042" y="9054"/>
                </a:moveTo>
                <a:cubicBezTo>
                  <a:pt x="1155" y="9054"/>
                  <a:pt x="1285" y="9082"/>
                  <a:pt x="1389" y="9128"/>
                </a:cubicBezTo>
                <a:cubicBezTo>
                  <a:pt x="1445" y="9166"/>
                  <a:pt x="1448" y="9183"/>
                  <a:pt x="1488" y="9178"/>
                </a:cubicBezTo>
                <a:cubicBezTo>
                  <a:pt x="1488" y="9303"/>
                  <a:pt x="1270" y="9487"/>
                  <a:pt x="1191" y="9575"/>
                </a:cubicBezTo>
                <a:cubicBezTo>
                  <a:pt x="1146" y="9619"/>
                  <a:pt x="1129" y="9642"/>
                  <a:pt x="1141" y="9575"/>
                </a:cubicBezTo>
              </a:path>
              <a:path w="670" h="571">
                <a:moveTo>
                  <a:pt x="967" y="9475"/>
                </a:moveTo>
                <a:cubicBezTo>
                  <a:pt x="1103" y="9453"/>
                  <a:pt x="1229" y="9396"/>
                  <a:pt x="1364" y="937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20" y="2973240"/>
            <a:ext cx="13356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960" y="8384"/>
                </a:moveTo>
                <a:cubicBezTo>
                  <a:pt x="2000" y="8262"/>
                  <a:pt x="2011" y="8284"/>
                  <a:pt x="2133" y="8260"/>
                </a:cubicBezTo>
                <a:cubicBezTo>
                  <a:pt x="2200" y="8472"/>
                  <a:pt x="2145" y="8675"/>
                  <a:pt x="1910" y="8781"/>
                </a:cubicBezTo>
                <a:cubicBezTo>
                  <a:pt x="1877" y="8781"/>
                  <a:pt x="1844" y="8781"/>
                  <a:pt x="1811" y="8781"/>
                </a:cubicBezTo>
                <a:cubicBezTo>
                  <a:pt x="1881" y="8631"/>
                  <a:pt x="1985" y="8519"/>
                  <a:pt x="2158" y="8657"/>
                </a:cubicBezTo>
                <a:cubicBezTo>
                  <a:pt x="2166" y="8673"/>
                  <a:pt x="2175" y="8690"/>
                  <a:pt x="2183" y="87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55800" y="2955960"/>
            <a:ext cx="17928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704" y="8235"/>
                </a:moveTo>
                <a:cubicBezTo>
                  <a:pt x="2863" y="8217"/>
                  <a:pt x="2896" y="8223"/>
                  <a:pt x="3026" y="8310"/>
                </a:cubicBezTo>
                <a:cubicBezTo>
                  <a:pt x="2926" y="8521"/>
                  <a:pt x="2901" y="8586"/>
                  <a:pt x="2654" y="8607"/>
                </a:cubicBezTo>
                <a:cubicBezTo>
                  <a:pt x="2812" y="8450"/>
                  <a:pt x="2920" y="8484"/>
                  <a:pt x="3150" y="853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4880" y="2990880"/>
            <a:ext cx="108000" cy="17136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5209" y="8434"/>
                </a:moveTo>
                <a:cubicBezTo>
                  <a:pt x="5296" y="8384"/>
                  <a:pt x="5448" y="8234"/>
                  <a:pt x="5457" y="8334"/>
                </a:cubicBezTo>
                <a:cubicBezTo>
                  <a:pt x="5462" y="8391"/>
                  <a:pt x="5418" y="8454"/>
                  <a:pt x="5407" y="8508"/>
                </a:cubicBezTo>
                <a:cubicBezTo>
                  <a:pt x="5484" y="8508"/>
                  <a:pt x="5550" y="8537"/>
                  <a:pt x="5482" y="8632"/>
                </a:cubicBezTo>
                <a:cubicBezTo>
                  <a:pt x="5377" y="8780"/>
                  <a:pt x="5337" y="8779"/>
                  <a:pt x="5234" y="870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70080" y="2919240"/>
            <a:ext cx="142920" cy="17964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6028" y="8136"/>
                </a:moveTo>
                <a:cubicBezTo>
                  <a:pt x="6164" y="8123"/>
                  <a:pt x="6449" y="8126"/>
                  <a:pt x="6226" y="8334"/>
                </a:cubicBezTo>
                <a:cubicBezTo>
                  <a:pt x="6153" y="8371"/>
                  <a:pt x="6148" y="8388"/>
                  <a:pt x="6102" y="8384"/>
                </a:cubicBezTo>
                <a:cubicBezTo>
                  <a:pt x="6276" y="8268"/>
                  <a:pt x="6253" y="8279"/>
                  <a:pt x="6424" y="8384"/>
                </a:cubicBezTo>
                <a:cubicBezTo>
                  <a:pt x="6294" y="8591"/>
                  <a:pt x="6312" y="8577"/>
                  <a:pt x="6077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71880" y="291924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8632" y="8111"/>
                </a:moveTo>
                <a:cubicBezTo>
                  <a:pt x="8610" y="8183"/>
                  <a:pt x="8465" y="8608"/>
                  <a:pt x="8533" y="8657"/>
                </a:cubicBezTo>
                <a:cubicBezTo>
                  <a:pt x="8541" y="8640"/>
                  <a:pt x="8550" y="8624"/>
                  <a:pt x="8558" y="8607"/>
                </a:cubicBezTo>
              </a:path>
              <a:path w="869" h="547">
                <a:moveTo>
                  <a:pt x="8905" y="8260"/>
                </a:moveTo>
                <a:cubicBezTo>
                  <a:pt x="8898" y="8366"/>
                  <a:pt x="8894" y="8468"/>
                  <a:pt x="8979" y="8533"/>
                </a:cubicBezTo>
              </a:path>
              <a:path w="869" h="547">
                <a:moveTo>
                  <a:pt x="9054" y="8310"/>
                </a:moveTo>
                <a:cubicBezTo>
                  <a:pt x="9054" y="8384"/>
                  <a:pt x="9014" y="8516"/>
                  <a:pt x="9153" y="8483"/>
                </a:cubicBezTo>
                <a:cubicBezTo>
                  <a:pt x="9294" y="8413"/>
                  <a:pt x="9338" y="8394"/>
                  <a:pt x="9401" y="8310"/>
                </a:cubicBezTo>
              </a:path>
              <a:path w="869" h="547">
                <a:moveTo>
                  <a:pt x="9351" y="8136"/>
                </a:moveTo>
                <a:cubicBezTo>
                  <a:pt x="9313" y="8281"/>
                  <a:pt x="9302" y="8408"/>
                  <a:pt x="9302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11800" y="2955960"/>
            <a:ext cx="8892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12303" y="8210"/>
                </a:moveTo>
                <a:cubicBezTo>
                  <a:pt x="12303" y="8308"/>
                  <a:pt x="12283" y="8304"/>
                  <a:pt x="12353" y="8334"/>
                </a:cubicBezTo>
                <a:cubicBezTo>
                  <a:pt x="12454" y="8377"/>
                  <a:pt x="12608" y="8613"/>
                  <a:pt x="12378" y="8607"/>
                </a:cubicBezTo>
                <a:cubicBezTo>
                  <a:pt x="12337" y="8591"/>
                  <a:pt x="12295" y="8574"/>
                  <a:pt x="12254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41920" y="2938320"/>
            <a:ext cx="442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3271" y="8161"/>
                </a:moveTo>
                <a:cubicBezTo>
                  <a:pt x="13232" y="8239"/>
                  <a:pt x="13254" y="8243"/>
                  <a:pt x="13171" y="8260"/>
                </a:cubicBezTo>
                <a:cubicBezTo>
                  <a:pt x="13213" y="8335"/>
                  <a:pt x="13344" y="8464"/>
                  <a:pt x="13295" y="8558"/>
                </a:cubicBezTo>
                <a:cubicBezTo>
                  <a:pt x="13279" y="8558"/>
                  <a:pt x="13262" y="8558"/>
                  <a:pt x="13246" y="8558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86280" y="2928960"/>
            <a:ext cx="447840" cy="152280"/>
          </a:xfrm>
          <a:custGeom>
            <a:avLst/>
            <a:gdLst/>
            <a:ahLst/>
            <a:rect l="l" t="t" r="r" b="b"/>
            <a:pathLst>
              <a:path w="1242" h="423">
                <a:moveTo>
                  <a:pt x="16098" y="8136"/>
                </a:moveTo>
                <a:cubicBezTo>
                  <a:pt x="16073" y="8283"/>
                  <a:pt x="16059" y="8416"/>
                  <a:pt x="16098" y="8558"/>
                </a:cubicBezTo>
                <a:cubicBezTo>
                  <a:pt x="16225" y="8520"/>
                  <a:pt x="16280" y="8499"/>
                  <a:pt x="16371" y="8409"/>
                </a:cubicBezTo>
                <a:cubicBezTo>
                  <a:pt x="16273" y="8452"/>
                  <a:pt x="16163" y="8525"/>
                  <a:pt x="16297" y="8558"/>
                </a:cubicBezTo>
              </a:path>
              <a:path w="1242" h="423">
                <a:moveTo>
                  <a:pt x="16743" y="8186"/>
                </a:moveTo>
                <a:cubicBezTo>
                  <a:pt x="16677" y="8293"/>
                  <a:pt x="16608" y="8399"/>
                  <a:pt x="16545" y="8508"/>
                </a:cubicBezTo>
              </a:path>
              <a:path w="1242" h="423">
                <a:moveTo>
                  <a:pt x="16892" y="8161"/>
                </a:moveTo>
                <a:cubicBezTo>
                  <a:pt x="16944" y="8265"/>
                  <a:pt x="16878" y="8403"/>
                  <a:pt x="16966" y="8508"/>
                </a:cubicBezTo>
                <a:cubicBezTo>
                  <a:pt x="17058" y="8617"/>
                  <a:pt x="17314" y="8451"/>
                  <a:pt x="17314" y="8334"/>
                </a:cubicBezTo>
                <a:cubicBezTo>
                  <a:pt x="17314" y="8328"/>
                  <a:pt x="17154" y="8425"/>
                  <a:pt x="17165" y="8533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5200" y="2894040"/>
            <a:ext cx="492120" cy="195120"/>
          </a:xfrm>
          <a:custGeom>
            <a:avLst/>
            <a:gdLst/>
            <a:ahLst/>
            <a:rect l="l" t="t" r="r" b="b"/>
            <a:pathLst>
              <a:path w="1365" h="546">
                <a:moveTo>
                  <a:pt x="19571" y="8210"/>
                </a:moveTo>
                <a:cubicBezTo>
                  <a:pt x="19674" y="8198"/>
                  <a:pt x="19764" y="8186"/>
                  <a:pt x="19869" y="8186"/>
                </a:cubicBezTo>
                <a:cubicBezTo>
                  <a:pt x="19877" y="8186"/>
                  <a:pt x="19885" y="8186"/>
                  <a:pt x="19893" y="8186"/>
                </a:cubicBezTo>
                <a:cubicBezTo>
                  <a:pt x="19893" y="8324"/>
                  <a:pt x="19885" y="8451"/>
                  <a:pt x="19869" y="8582"/>
                </a:cubicBezTo>
              </a:path>
              <a:path w="1365" h="546">
                <a:moveTo>
                  <a:pt x="20166" y="8210"/>
                </a:moveTo>
                <a:cubicBezTo>
                  <a:pt x="20261" y="8265"/>
                  <a:pt x="20312" y="8358"/>
                  <a:pt x="20414" y="8384"/>
                </a:cubicBezTo>
              </a:path>
              <a:path w="1365" h="546">
                <a:moveTo>
                  <a:pt x="20613" y="8062"/>
                </a:moveTo>
                <a:cubicBezTo>
                  <a:pt x="20718" y="8062"/>
                  <a:pt x="20807" y="8050"/>
                  <a:pt x="20910" y="8037"/>
                </a:cubicBezTo>
                <a:cubicBezTo>
                  <a:pt x="20910" y="8149"/>
                  <a:pt x="20879" y="8292"/>
                  <a:pt x="20935" y="8384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92880" y="5340240"/>
            <a:ext cx="331920" cy="2048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17959" y="14908"/>
                </a:moveTo>
                <a:cubicBezTo>
                  <a:pt x="18046" y="14908"/>
                  <a:pt x="18136" y="14918"/>
                  <a:pt x="18182" y="15007"/>
                </a:cubicBezTo>
                <a:cubicBezTo>
                  <a:pt x="18288" y="15212"/>
                  <a:pt x="18053" y="15413"/>
                  <a:pt x="17859" y="15404"/>
                </a:cubicBezTo>
                <a:cubicBezTo>
                  <a:pt x="17763" y="15355"/>
                  <a:pt x="17729" y="15342"/>
                  <a:pt x="17785" y="15255"/>
                </a:cubicBezTo>
                <a:cubicBezTo>
                  <a:pt x="17937" y="15220"/>
                  <a:pt x="18000" y="15246"/>
                  <a:pt x="18132" y="15304"/>
                </a:cubicBezTo>
                <a:cubicBezTo>
                  <a:pt x="18140" y="15304"/>
                  <a:pt x="18149" y="15304"/>
                  <a:pt x="18157" y="15304"/>
                </a:cubicBezTo>
              </a:path>
              <a:path w="919" h="572">
                <a:moveTo>
                  <a:pt x="18529" y="14833"/>
                </a:moveTo>
                <a:cubicBezTo>
                  <a:pt x="18484" y="14851"/>
                  <a:pt x="18390" y="14876"/>
                  <a:pt x="18380" y="14908"/>
                </a:cubicBezTo>
                <a:cubicBezTo>
                  <a:pt x="18357" y="14999"/>
                  <a:pt x="18351" y="15024"/>
                  <a:pt x="18331" y="15081"/>
                </a:cubicBezTo>
                <a:cubicBezTo>
                  <a:pt x="18424" y="15081"/>
                  <a:pt x="18515" y="15070"/>
                  <a:pt x="18604" y="15106"/>
                </a:cubicBezTo>
                <a:cubicBezTo>
                  <a:pt x="18805" y="15188"/>
                  <a:pt x="18555" y="15360"/>
                  <a:pt x="18430" y="15304"/>
                </a:cubicBezTo>
                <a:cubicBezTo>
                  <a:pt x="18413" y="15279"/>
                  <a:pt x="18397" y="15255"/>
                  <a:pt x="18380" y="1523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83280" y="5303880"/>
            <a:ext cx="303480" cy="162000"/>
          </a:xfrm>
          <a:custGeom>
            <a:avLst/>
            <a:gdLst/>
            <a:ahLst/>
            <a:rect l="l" t="t" r="r" b="b"/>
            <a:pathLst>
              <a:path w="845" h="447">
                <a:moveTo>
                  <a:pt x="19397" y="14734"/>
                </a:moveTo>
                <a:cubicBezTo>
                  <a:pt x="19569" y="14734"/>
                  <a:pt x="19704" y="14770"/>
                  <a:pt x="19695" y="14982"/>
                </a:cubicBezTo>
                <a:cubicBezTo>
                  <a:pt x="19687" y="15157"/>
                  <a:pt x="19525" y="15218"/>
                  <a:pt x="19422" y="15131"/>
                </a:cubicBezTo>
                <a:cubicBezTo>
                  <a:pt x="19469" y="15020"/>
                  <a:pt x="19561" y="15046"/>
                  <a:pt x="19670" y="15106"/>
                </a:cubicBezTo>
                <a:cubicBezTo>
                  <a:pt x="19708" y="15127"/>
                  <a:pt x="19711" y="15163"/>
                  <a:pt x="19745" y="15180"/>
                </a:cubicBezTo>
              </a:path>
              <a:path w="845" h="447">
                <a:moveTo>
                  <a:pt x="19943" y="14734"/>
                </a:moveTo>
                <a:cubicBezTo>
                  <a:pt x="19943" y="14825"/>
                  <a:pt x="20012" y="14846"/>
                  <a:pt x="20092" y="14883"/>
                </a:cubicBezTo>
                <a:cubicBezTo>
                  <a:pt x="20175" y="14921"/>
                  <a:pt x="20283" y="15032"/>
                  <a:pt x="20191" y="15032"/>
                </a:cubicBezTo>
                <a:cubicBezTo>
                  <a:pt x="20166" y="15024"/>
                  <a:pt x="20142" y="15015"/>
                  <a:pt x="20117" y="1500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23080" y="5214960"/>
            <a:ext cx="527040" cy="241200"/>
          </a:xfrm>
          <a:custGeom>
            <a:avLst/>
            <a:gdLst/>
            <a:ahLst/>
            <a:rect l="l" t="t" r="r" b="b"/>
            <a:pathLst>
              <a:path w="1464" h="671">
                <a:moveTo>
                  <a:pt x="18951" y="14908"/>
                </a:moveTo>
                <a:cubicBezTo>
                  <a:pt x="19045" y="14973"/>
                  <a:pt x="19149" y="15032"/>
                  <a:pt x="19199" y="15131"/>
                </a:cubicBezTo>
              </a:path>
              <a:path w="1464" h="671">
                <a:moveTo>
                  <a:pt x="19224" y="14808"/>
                </a:moveTo>
                <a:cubicBezTo>
                  <a:pt x="19180" y="14934"/>
                  <a:pt x="19140" y="15041"/>
                  <a:pt x="19075" y="15156"/>
                </a:cubicBezTo>
              </a:path>
              <a:path w="1464" h="671">
                <a:moveTo>
                  <a:pt x="20216" y="14560"/>
                </a:moveTo>
                <a:cubicBezTo>
                  <a:pt x="20313" y="14512"/>
                  <a:pt x="20343" y="14497"/>
                  <a:pt x="20414" y="14486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61080" y="5626080"/>
            <a:ext cx="500040" cy="339840"/>
          </a:xfrm>
          <a:custGeom>
            <a:avLst/>
            <a:gdLst/>
            <a:ahLst/>
            <a:rect l="l" t="t" r="r" b="b"/>
            <a:pathLst>
              <a:path w="1390" h="944">
                <a:moveTo>
                  <a:pt x="18554" y="16049"/>
                </a:moveTo>
                <a:cubicBezTo>
                  <a:pt x="18554" y="15974"/>
                  <a:pt x="18504" y="16267"/>
                  <a:pt x="18504" y="16272"/>
                </a:cubicBezTo>
                <a:cubicBezTo>
                  <a:pt x="18490" y="16407"/>
                  <a:pt x="18502" y="16555"/>
                  <a:pt x="18678" y="16570"/>
                </a:cubicBezTo>
                <a:cubicBezTo>
                  <a:pt x="18872" y="16587"/>
                  <a:pt x="18932" y="16410"/>
                  <a:pt x="18976" y="16272"/>
                </a:cubicBezTo>
                <a:cubicBezTo>
                  <a:pt x="19007" y="16176"/>
                  <a:pt x="19021" y="16195"/>
                  <a:pt x="18951" y="16148"/>
                </a:cubicBezTo>
                <a:cubicBezTo>
                  <a:pt x="18929" y="16175"/>
                  <a:pt x="18780" y="16451"/>
                  <a:pt x="18802" y="16446"/>
                </a:cubicBezTo>
                <a:cubicBezTo>
                  <a:pt x="18827" y="16429"/>
                  <a:pt x="18851" y="16413"/>
                  <a:pt x="18876" y="16396"/>
                </a:cubicBezTo>
              </a:path>
              <a:path w="1390" h="944">
                <a:moveTo>
                  <a:pt x="19174" y="15925"/>
                </a:moveTo>
                <a:cubicBezTo>
                  <a:pt x="19216" y="15841"/>
                  <a:pt x="19330" y="15823"/>
                  <a:pt x="19397" y="15925"/>
                </a:cubicBezTo>
                <a:cubicBezTo>
                  <a:pt x="19495" y="16073"/>
                  <a:pt x="19409" y="16308"/>
                  <a:pt x="19224" y="16321"/>
                </a:cubicBezTo>
                <a:cubicBezTo>
                  <a:pt x="19141" y="16295"/>
                  <a:pt x="19114" y="16279"/>
                  <a:pt x="19124" y="16197"/>
                </a:cubicBezTo>
                <a:cubicBezTo>
                  <a:pt x="19222" y="16058"/>
                  <a:pt x="19251" y="16108"/>
                  <a:pt x="19372" y="16173"/>
                </a:cubicBezTo>
                <a:cubicBezTo>
                  <a:pt x="19448" y="16214"/>
                  <a:pt x="19447" y="16220"/>
                  <a:pt x="19447" y="16197"/>
                </a:cubicBezTo>
              </a:path>
              <a:path w="1390" h="944">
                <a:moveTo>
                  <a:pt x="19521" y="15850"/>
                </a:moveTo>
                <a:cubicBezTo>
                  <a:pt x="19536" y="16002"/>
                  <a:pt x="19603" y="15931"/>
                  <a:pt x="19745" y="15974"/>
                </a:cubicBezTo>
                <a:cubicBezTo>
                  <a:pt x="19845" y="16014"/>
                  <a:pt x="19874" y="16007"/>
                  <a:pt x="19893" y="16073"/>
                </a:cubicBezTo>
                <a:cubicBezTo>
                  <a:pt x="19821" y="16203"/>
                  <a:pt x="19741" y="16141"/>
                  <a:pt x="19621" y="16098"/>
                </a:cubicBezTo>
              </a:path>
              <a:path w="1390" h="944">
                <a:moveTo>
                  <a:pt x="19472" y="15776"/>
                </a:moveTo>
                <a:cubicBezTo>
                  <a:pt x="19584" y="15724"/>
                  <a:pt x="19700" y="15660"/>
                  <a:pt x="19819" y="15627"/>
                </a:cubicBezTo>
                <a:cubicBezTo>
                  <a:pt x="19827" y="15627"/>
                  <a:pt x="19836" y="15627"/>
                  <a:pt x="19844" y="15627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15200" y="284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895" y="7888"/>
                </a:moveTo>
                <a:cubicBezTo>
                  <a:pt x="22878" y="8004"/>
                  <a:pt x="22771" y="8169"/>
                  <a:pt x="22820" y="8285"/>
                </a:cubicBezTo>
                <a:cubicBezTo>
                  <a:pt x="22906" y="8487"/>
                  <a:pt x="23088" y="8225"/>
                  <a:pt x="23118" y="8161"/>
                </a:cubicBezTo>
                <a:cubicBezTo>
                  <a:pt x="23022" y="8065"/>
                  <a:pt x="23018" y="8297"/>
                  <a:pt x="23068" y="8359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29760" y="2857680"/>
            <a:ext cx="63360" cy="80640"/>
          </a:xfrm>
          <a:custGeom>
            <a:avLst/>
            <a:gdLst/>
            <a:ahLst/>
            <a:rect l="l" t="t" r="r" b="b"/>
            <a:pathLst>
              <a:path w="174" h="224">
                <a:moveTo>
                  <a:pt x="23416" y="7938"/>
                </a:moveTo>
                <a:cubicBezTo>
                  <a:pt x="23462" y="8031"/>
                  <a:pt x="23480" y="8139"/>
                  <a:pt x="23589" y="816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62960" y="2813040"/>
            <a:ext cx="36360" cy="15228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23887" y="7813"/>
                </a:moveTo>
                <a:cubicBezTo>
                  <a:pt x="23887" y="7945"/>
                  <a:pt x="23859" y="8086"/>
                  <a:pt x="23812" y="8210"/>
                </a:cubicBezTo>
                <a:cubicBezTo>
                  <a:pt x="23804" y="8218"/>
                  <a:pt x="23796" y="8227"/>
                  <a:pt x="23788" y="823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661240" y="2813040"/>
            <a:ext cx="81000" cy="16020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24135" y="7813"/>
                </a:moveTo>
                <a:cubicBezTo>
                  <a:pt x="24096" y="7921"/>
                  <a:pt x="24029" y="8074"/>
                  <a:pt x="24085" y="8186"/>
                </a:cubicBezTo>
                <a:cubicBezTo>
                  <a:pt x="24133" y="8282"/>
                  <a:pt x="24246" y="8236"/>
                  <a:pt x="24284" y="8161"/>
                </a:cubicBezTo>
                <a:cubicBezTo>
                  <a:pt x="24284" y="8153"/>
                  <a:pt x="24284" y="8144"/>
                  <a:pt x="24284" y="8136"/>
                </a:cubicBezTo>
                <a:cubicBezTo>
                  <a:pt x="24253" y="8093"/>
                  <a:pt x="24165" y="7996"/>
                  <a:pt x="24110" y="8086"/>
                </a:cubicBezTo>
                <a:cubicBezTo>
                  <a:pt x="24067" y="8157"/>
                  <a:pt x="24085" y="8194"/>
                  <a:pt x="24110" y="8260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61200" y="3214800"/>
            <a:ext cx="125640" cy="196560"/>
          </a:xfrm>
          <a:custGeom>
            <a:avLst/>
            <a:gdLst/>
            <a:ahLst/>
            <a:rect l="l" t="t" r="r" b="b"/>
            <a:pathLst>
              <a:path w="349" h="546">
                <a:moveTo>
                  <a:pt x="22771" y="9029"/>
                </a:moveTo>
                <a:cubicBezTo>
                  <a:pt x="22771" y="8912"/>
                  <a:pt x="22891" y="8900"/>
                  <a:pt x="22969" y="9004"/>
                </a:cubicBezTo>
                <a:cubicBezTo>
                  <a:pt x="23117" y="9200"/>
                  <a:pt x="22920" y="9431"/>
                  <a:pt x="22721" y="9451"/>
                </a:cubicBezTo>
                <a:cubicBezTo>
                  <a:pt x="22704" y="9443"/>
                  <a:pt x="22688" y="9434"/>
                  <a:pt x="22671" y="9426"/>
                </a:cubicBezTo>
                <a:cubicBezTo>
                  <a:pt x="22723" y="9322"/>
                  <a:pt x="22857" y="9382"/>
                  <a:pt x="22944" y="9426"/>
                </a:cubicBezTo>
                <a:cubicBezTo>
                  <a:pt x="22966" y="9448"/>
                  <a:pt x="22975" y="9453"/>
                  <a:pt x="22969" y="9475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23200" y="319716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3391" y="8880"/>
                </a:moveTo>
                <a:cubicBezTo>
                  <a:pt x="23374" y="8893"/>
                  <a:pt x="23269" y="8926"/>
                  <a:pt x="23267" y="8930"/>
                </a:cubicBezTo>
                <a:cubicBezTo>
                  <a:pt x="23243" y="8980"/>
                  <a:pt x="23226" y="9072"/>
                  <a:pt x="23217" y="9128"/>
                </a:cubicBezTo>
                <a:cubicBezTo>
                  <a:pt x="23289" y="9128"/>
                  <a:pt x="23375" y="9100"/>
                  <a:pt x="23440" y="9103"/>
                </a:cubicBezTo>
                <a:cubicBezTo>
                  <a:pt x="23682" y="9115"/>
                  <a:pt x="23585" y="9362"/>
                  <a:pt x="23440" y="9451"/>
                </a:cubicBezTo>
                <a:cubicBezTo>
                  <a:pt x="23285" y="9546"/>
                  <a:pt x="23221" y="9494"/>
                  <a:pt x="23118" y="940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28040" y="3170160"/>
            <a:ext cx="1602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23688" y="8806"/>
                </a:moveTo>
                <a:cubicBezTo>
                  <a:pt x="23705" y="8904"/>
                  <a:pt x="23738" y="9005"/>
                  <a:pt x="23763" y="9103"/>
                </a:cubicBezTo>
                <a:cubicBezTo>
                  <a:pt x="23800" y="9249"/>
                  <a:pt x="23852" y="9325"/>
                  <a:pt x="24011" y="9277"/>
                </a:cubicBezTo>
                <a:cubicBezTo>
                  <a:pt x="24173" y="9229"/>
                  <a:pt x="24124" y="9184"/>
                  <a:pt x="24085" y="9079"/>
                </a:cubicBezTo>
                <a:cubicBezTo>
                  <a:pt x="24061" y="9014"/>
                  <a:pt x="23984" y="9019"/>
                  <a:pt x="23937" y="9079"/>
                </a:cubicBezTo>
                <a:cubicBezTo>
                  <a:pt x="23859" y="9177"/>
                  <a:pt x="23891" y="9249"/>
                  <a:pt x="23912" y="9351"/>
                </a:cubicBezTo>
              </a:path>
            </a:pathLst>
          </a:custGeom>
          <a:noFill/>
          <a:ln cap="rnd" w="349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Homework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Practice Workbook pg. 5 even onl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(PW 5 even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Classzone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Ga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6T15:32:43Z</dcterms:modified>
  <cp:revision>55</cp:revision>
  <dc:subject/>
  <dc:title>Unit 1 – Variables and Equations </dc:title>
</cp:coreProperties>
</file>